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4.jpeg" ContentType="image/jpeg"/>
  <Override PartName="/ppt/media/image2.png" ContentType="image/png"/>
  <Override PartName="/ppt/media/image6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D939-960A-4C9E-881C-C020B6551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9A39-46A7-4691-9B43-7DBD8F067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8B88-BA1C-4F7A-B1A1-5E83B5B7F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5865-C118-426D-A258-A127DBE40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46B2D-2124-4008-9B6F-569E7522A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0CB34-A6B6-4C74-B900-8817D6272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B9B0A-3FD4-40A6-9DA2-2F4684C43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CCCD6-1388-4979-9AD3-4E3976F4E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CCF46-9418-433C-9143-084160700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48876-F444-4C8E-90CC-1D7FC5819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52ACB-EEFF-4EA0-A63F-9A18A978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950F-CF2F-4121-B68F-199E5CA99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1265B-8D1D-4537-9590-1022B2DE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990BD-9FB9-4E71-A4C1-677715AB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4ECB0-860C-45C4-921F-305A87BBE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6703D-2932-425D-BE4D-95B57465A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FFF6A-475E-4537-8123-3ABBEF21C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CB2FF-5623-4A26-B181-9617D1A73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01D51-7AEB-483B-91A4-E55C5C47D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3B860-5EEB-4580-BC83-BFDEA80AF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00279-63A9-44AE-8763-B0978E5FC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6F882-73C0-4CC2-A00C-B33F0D2AE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9F5C-08E1-4946-8AA7-3E583400C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45CCD-4A38-4A4E-8C25-01749E57F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36292-758F-4661-995F-EBDDD070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214CB-F468-4774-B87E-EB1EADAB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C3FC3-179C-42F0-98EE-1B372E1C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D072D-26D7-4D18-8E0C-CDF53AAD1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865BD-30D6-4210-A9CE-9B574157F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1034F-39CA-47D3-9D3C-2E398A817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CE4A0-F68C-4C92-8BAA-0D38F9E79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AC6B4-3425-4288-B0F4-5A9D0D567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7ACC4-D253-4646-8083-A3027CA6A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1E30-E3E7-4BDC-8D63-E8A43D23B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06882-3DE2-46F7-A92D-4D7C9F544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9853C-D3A7-412B-BF5F-5BF48D603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F8B5F-AF67-4366-8FBC-59920C444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CD0BE-3A96-41F9-ABF3-F818FBAB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92E69-DAEE-4181-A273-AED0A608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278F4-1637-45BB-82CF-51BE1FD9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59293-EDD3-4055-BEBA-215CC973F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95BB5-6F2D-490E-9C77-677E17A3E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6BCED-F0FB-4B90-A258-B14C468FE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B1727-BE8F-43CF-9121-4AE536D2B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39D6-C796-482B-9E39-976938930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7CACA-B06C-4227-A6DF-7B0690E1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93541-B080-49AB-AA85-A00343B19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09359-3E36-4E85-A077-3B7FE9476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C395A-FA3B-4C9F-82B8-B410F339B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6F6CD-8E30-40A3-B0B3-73FDF6E32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3D50B-CDAC-4F22-85C6-6FD55ABF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B29CE-DC18-4924-A9A8-F92EAC7E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C2972-9929-4813-96AD-2A4A2EF3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91467-FA75-48CE-92FF-6B121B545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A973F-9252-432F-8754-F26A6C726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DC00-3D84-4558-B24A-7D602F92D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76F05-D19F-4D7A-B22B-E3191C458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13667-34B5-4DB3-997F-4E31A1DA6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3F802-4920-4F52-A101-DB9B5D509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03B52-EE21-49E9-8D35-CC8206969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4FC27-4418-4440-9EA5-866B487C1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BE895-49EE-4AC1-A68E-29D474F8D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BB965-0BC3-47CC-A262-710D608FD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91D03-BBFC-4BD3-86F2-573AD86A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7C9D1-36B6-4926-9424-7E4B6853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BCC28-868B-4E80-A6F4-50F9BE39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834B-85D7-4987-8A64-A507F2E1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678EB-8628-4788-A78F-FBA51B643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00FBF-4247-4B60-B3DA-018A29FD7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E45E95-37F4-4B87-B664-77991F303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B4A55B-EA66-44C3-BA59-5D3183F3D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9AE0DB-7D2A-4FDE-BCF0-8B5640D10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98D93-F03B-4FB3-A16F-C1D51A002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4A8E6-07E7-422E-BC38-F20477972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D913D-18FE-4854-AC34-05CADBAE3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032AF7-236B-4602-973F-1DFB0A58C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63631-D1A2-4809-A6EA-355443E3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7CDD-8244-4280-95B0-1CB16A5E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105477-A930-494B-BA6C-BBA491C6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38508B-3003-466A-A238-5122FBC9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A4CF1-BB69-4BD7-B8E3-A5B1B23D4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C7BA5D-62AC-4F3A-8BC1-944CCD2C6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26BF6-3F8F-4E4A-8D6D-BBA594F2E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E22E1D-2760-4C0D-8982-50451C729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1E9AF5-8DC9-4F55-A629-8C1FBD84F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53E870-B3C8-4219-A109-95507B1B1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F940E-5CE1-4B05-A565-ED31EB560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E8DB2C-118C-488F-9E36-4A9DC58F1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B39D-81B3-435E-B916-8B64B4DB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9811C8-22F7-4703-B20C-EA55BC639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F8B74-EA42-4D3D-8591-3B3AC3C6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0DAC97-FAB5-46B1-9A0D-8872EA38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9703C5-0FBD-4DEE-80D4-48B73BF5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AFAA91-4ADC-4A55-9DC5-A31F740B9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D909F4-173D-4EB9-8658-088A2BC84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C32C6-7FB8-4087-AEAF-E19ADDEA9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8EC87-10C7-4301-9CF9-8938EF22467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1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2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54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32002-9621-404F-8B2A-C507ADED2D8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38973-38CA-43C6-BFF8-FCCB0DDAC8E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9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0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142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7699B-54A1-4BE4-AF77-18C28C66D19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97610-3202-4CB1-872A-D528101309D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27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28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230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1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015AA-76C7-4CD9-B5FE-B5D6E68BD79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275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CCF5E-817B-4E1F-8C6E-EFFF758908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320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DF952-9ECC-488E-B1AB-2398CBD2F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6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7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7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7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7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7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7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7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7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7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7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7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7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7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7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14400" y="30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66"/>
                </a:solidFill>
                <a:latin typeface="Tahoma"/>
              </a:rPr>
              <a:t>1 Суммарные отклонения формы и расположения поверхностей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5" name="Rectangle 3"/>
          <p:cNvSpPr/>
          <p:nvPr/>
        </p:nvSpPr>
        <p:spPr>
          <a:xfrm>
            <a:off x="685800" y="274320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Суммарное отклонение формы и расположения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– отклонение, являющееся результатом совместного проявления отклонения формы и отклонения расположения рассматриваемой поверхности или профиля относительно заданных баз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42520" y="-360"/>
            <a:ext cx="723924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66"/>
                </a:solidFill>
                <a:latin typeface="Tahoma"/>
              </a:rPr>
              <a:t>2 Нормирование отклонений формы и расположения поверхностей и обозначение их допусков на чертежах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147680" y="2590560"/>
            <a:ext cx="7996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Tahoma"/>
              </a:rPr>
              <a:t>Допуск формы Т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– допустимое значение отклонения формы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Tahoma"/>
              </a:rPr>
              <a:t>Поле допуска формы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– область в пространстве или заданной плоскости, внутри которой должны находиться все точки реального рассматриваемого элемента в пределах нормируемого участк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rcRect l="0" t="24824" r="75932" b="11687"/>
          <a:stretch/>
        </p:blipFill>
        <p:spPr>
          <a:xfrm>
            <a:off x="4876920" y="5257800"/>
            <a:ext cx="13665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990720" y="1447920"/>
            <a:ext cx="81532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Допуск расположения Т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предел, ограничивающий допускаемое значение отклонения расположени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Поле допуска расположения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область в пространстве или заданной плоскости, внутри которой должен находиться прилегающий элемент или ось, центр, плоскость симметрии в пределах нормируемого участк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rcRect l="27778" t="2196" r="0" b="9490"/>
          <a:stretch/>
        </p:blipFill>
        <p:spPr>
          <a:xfrm>
            <a:off x="2971800" y="5126040"/>
            <a:ext cx="3200400" cy="165564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838080" y="228600"/>
            <a:ext cx="830592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Нормирование отклонений формы и расположения поверхносте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838080" y="228600"/>
            <a:ext cx="830592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Нормирование отклонений формы и расположения поверхносте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"/>
          <p:cNvSpPr/>
          <p:nvPr/>
        </p:nvSpPr>
        <p:spPr>
          <a:xfrm>
            <a:off x="990720" y="1523880"/>
            <a:ext cx="81532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Уровни относительной геометрической точности формы и расположения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нормальная относительная геометрическая точность величиной 60 %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повышенная относительная геометрическая точность величиной 40 %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- высокая относительная геометрическая точность величиной 25 %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5918040" y="5345280"/>
                <a:ext cx="1473480" cy="14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Т</m:t>
                            </m:r>
                          </m:e>
                          <m:sub>
                            <m:r>
                              <m:t xml:space="preserve">р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Т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2133720" y="5299200"/>
                <a:ext cx="1523880" cy="14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Т</m:t>
                            </m:r>
                          </m:e>
                          <m:sub>
                            <m:r>
                              <m:t xml:space="preserve">ф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Т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838080" y="17521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Независимый допуск расположения (формы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допуск, числовое значение которого постоянно для всей совокупности деталей, изготовляемых по данному чертежу, и не зависит от действительного размера нормируемого или базового элемент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00"/>
                </a:solidFill>
                <a:latin typeface="Tahoma"/>
              </a:rPr>
              <a:t>Назначение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ля нормирования требований к расположению посадочных мест под подшипник качения, к соосности направляющих и рабочих поверхностей, к колебанию межосевых расстояний в корпусах редуктор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"/>
          <p:cNvSpPr/>
          <p:nvPr/>
        </p:nvSpPr>
        <p:spPr>
          <a:xfrm>
            <a:off x="838080" y="228600"/>
            <a:ext cx="830592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Нормирование отклонений формы и расположения поверхносте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837720" y="1752120"/>
            <a:ext cx="8077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00"/>
                </a:solidFill>
                <a:latin typeface="Tahoma"/>
              </a:rPr>
              <a:t>Применение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огда сопрягаемые поверхности деталей центрируются посадками с натягом или переходными, при необходимости обеспечить надёжное функционирование посадок: отсутствие биения, балансировку, равномерность радиального зазора, плотность и герметичнос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"/>
          <p:cNvSpPr/>
          <p:nvPr/>
        </p:nvSpPr>
        <p:spPr>
          <a:xfrm>
            <a:off x="838080" y="228600"/>
            <a:ext cx="830592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Независимые допуски расположения (формы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838080" y="228600"/>
            <a:ext cx="830592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Нормирование отклонений формы и расположения поверхносте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838080" y="16765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Зависимый допуск расположения (формы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допуск, числовое значение которого переменно для различных деталей изготовленных по данному чертежу, и зависит от действительных размеров нормируемого или базового элемент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Т</a:t>
            </a:r>
            <a:r>
              <a:rPr b="1" lang="ru-RU" sz="2800" spc="-1" strike="noStrike" baseline="-25000">
                <a:solidFill>
                  <a:srgbClr val="cc0000"/>
                </a:solidFill>
                <a:latin typeface="Tahoma"/>
              </a:rPr>
              <a:t>зав</a:t>
            </a: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=Т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ahoma"/>
              </a:rPr>
              <a:t>min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+</a:t>
            </a: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Т</a:t>
            </a:r>
            <a:r>
              <a:rPr b="1" lang="ru-RU" sz="2800" spc="-1" strike="noStrike" baseline="-25000">
                <a:solidFill>
                  <a:srgbClr val="cc0000"/>
                </a:solidFill>
                <a:latin typeface="Tahoma"/>
              </a:rPr>
              <a:t>доп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Т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Tahoma"/>
              </a:rPr>
              <a:t>min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инимальное значение допуска, указанное на чертежах (постоянная для всех деталей часть зависимого допуска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Т</a:t>
            </a:r>
            <a:r>
              <a:rPr b="0" lang="ru-RU" sz="2800" spc="-1" strike="noStrike" baseline="-25000">
                <a:solidFill>
                  <a:srgbClr val="cc0000"/>
                </a:solidFill>
                <a:latin typeface="Tahoma"/>
              </a:rPr>
              <a:t>доп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ополнительная переменная часть зависимого допуска, зависящая от действительных размеров рассматриваемых элементов данной детал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838080" y="228600"/>
            <a:ext cx="830592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Зависимые допуски расположения (формы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837720" y="1752120"/>
            <a:ext cx="8077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Если </a:t>
            </a: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Т</a:t>
            </a:r>
            <a:r>
              <a:rPr b="1" lang="ru-RU" sz="2800" spc="-1" strike="noStrike" baseline="-25000">
                <a:solidFill>
                  <a:srgbClr val="cc0000"/>
                </a:solidFill>
                <a:latin typeface="Tahoma"/>
              </a:rPr>
              <a:t>зав</a:t>
            </a: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=0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то отклонения расположения допустимы только за счёт использования части допуска на размеры элемент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00"/>
                </a:solidFill>
                <a:latin typeface="Tahoma"/>
              </a:rPr>
              <a:t>Назначение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еимущественно на межосевые расстояния крепёжных отверстий, соосность участков ступенчатых отверстий, на симметричность расположения шпоночных пазов и т.д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Условные обозначения допусков формы и расположения поверхностей (ГОСТ 2.308-79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rcRect l="0" t="4288" r="0" b="0"/>
          <a:stretch/>
        </p:blipFill>
        <p:spPr>
          <a:xfrm>
            <a:off x="2073240" y="1600200"/>
            <a:ext cx="49370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837720" y="1827360"/>
            <a:ext cx="807732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При условном обозначени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данные о допусках формы и расположения поверхностей указывают в прямоугольной рамке, разделённой на части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в первой част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– знак допуск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во второй част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– числовое значение допуска, а при необходимости и длина нормируемого участк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в третьей и последующих частях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– буквенное обозначение баз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Указание допусков формы и расположения поверхностей</a:t>
            </a:r>
            <a:br>
              <a:rPr sz="3600"/>
            </a:b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на чертежах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Указание допусков формы и расположения поверхностей</a:t>
            </a:r>
            <a:br>
              <a:rPr sz="3600"/>
            </a:b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на чертежах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7732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Форма и разме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знаков, рамки, изображение баз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rcRect l="1472" t="1463" r="1055" b="1463"/>
          <a:stretch/>
        </p:blipFill>
        <p:spPr>
          <a:xfrm>
            <a:off x="1447920" y="2743200"/>
            <a:ext cx="701028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837720" y="182736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00"/>
                </a:solidFill>
                <a:latin typeface="Tahoma"/>
              </a:rPr>
              <a:t>Пример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На радиальное биен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оказывают влиян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отклонение от круглости рассматриваемого сечения и отклонение его центра относительно базовой оси,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на торцовое биен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влияют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отклонение от плоскостности и отклонение от её перпендикулярности относительно базовой ос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title"/>
          </p:nvPr>
        </p:nvSpPr>
        <p:spPr>
          <a:xfrm>
            <a:off x="914400" y="30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Суммарные отклонения формы и расположения поверхностей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Указание допусков формы и расположения поверхностей</a:t>
            </a:r>
            <a:br>
              <a:rPr sz="3600"/>
            </a:b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на чертежах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7720" y="1827360"/>
            <a:ext cx="807732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Если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допуск относится к ос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или к плоскости симметрии, то соединительная линия должна быть продолжением размерной лини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rcRect l="2070" t="2982" r="71958" b="60002"/>
          <a:stretch/>
        </p:blipFill>
        <p:spPr>
          <a:xfrm>
            <a:off x="2951280" y="3505320"/>
            <a:ext cx="28479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Указание допусков формы и расположения поверхностей</a:t>
            </a:r>
            <a:br>
              <a:rPr sz="3600"/>
            </a:b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на чертежах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7720" y="1827360"/>
            <a:ext cx="807732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Если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отклонение или база относятся к поверхност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то соединительная линия не должна совпадать с размерно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rcRect l="40921" t="2982" r="1380" b="71651"/>
          <a:stretch/>
        </p:blipFill>
        <p:spPr>
          <a:xfrm>
            <a:off x="990720" y="3733920"/>
            <a:ext cx="7391160" cy="25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" descr=""/>
          <p:cNvPicPr/>
          <p:nvPr/>
        </p:nvPicPr>
        <p:blipFill>
          <a:blip r:embed="rId1"/>
          <a:srcRect l="33336" t="56723" r="31265" b="1788"/>
          <a:stretch/>
        </p:blipFill>
        <p:spPr>
          <a:xfrm>
            <a:off x="3505320" y="4594320"/>
            <a:ext cx="2438280" cy="220032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Указание допусков формы и расположения поверхностей</a:t>
            </a:r>
            <a:br>
              <a:rPr sz="3600"/>
            </a:b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на чертежах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8077320" cy="503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Если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размер элемента уже указан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размерная линия должна быть без размера, и её рассматривают как составную часть условного обозначения допуск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Если для одного элемента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необходимо задать два разных вида допуск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то рамки допуска можно объединя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"/>
          <p:cNvGrpSpPr/>
          <p:nvPr/>
        </p:nvGrpSpPr>
        <p:grpSpPr>
          <a:xfrm>
            <a:off x="2971800" y="3200400"/>
            <a:ext cx="4343040" cy="3199680"/>
            <a:chOff x="2971800" y="3200400"/>
            <a:chExt cx="4343040" cy="3199680"/>
          </a:xfrm>
        </p:grpSpPr>
        <p:pic>
          <p:nvPicPr>
            <p:cNvPr id="426" name="" descr=""/>
            <p:cNvPicPr/>
            <p:nvPr/>
          </p:nvPicPr>
          <p:blipFill>
            <a:blip r:embed="rId1"/>
            <a:srcRect l="33336" t="56723" r="31265" b="1788"/>
            <a:stretch/>
          </p:blipFill>
          <p:spPr>
            <a:xfrm>
              <a:off x="2971800" y="3278880"/>
              <a:ext cx="430272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5143320" y="3200400"/>
              <a:ext cx="2171520" cy="145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Указание допусков формы и расположения поверхностей</a:t>
            </a:r>
            <a:br>
              <a:rPr sz="3600"/>
            </a:b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на чертежах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7720" y="1827360"/>
            <a:ext cx="807732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Базы обозначают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зачернённым треугольником, который соединяют при помощи соединительной линии с рамкой допуска или рамкой, в которой указывают буквенное обозначение баз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Указание допусков формы и расположения поверхностей</a:t>
            </a:r>
            <a:br>
              <a:rPr sz="3600"/>
            </a:b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на чертежах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7720" y="1827360"/>
            <a:ext cx="807732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Если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нет необходимости выделять как базу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ни одну из поверхностей, то треугольник заменяют стрелко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1"/>
          <a:srcRect l="77212" t="2982" r="1380" b="71651"/>
          <a:stretch/>
        </p:blipFill>
        <p:spPr>
          <a:xfrm>
            <a:off x="3124080" y="3124080"/>
            <a:ext cx="2743200" cy="25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Указание допусков формы и расположения поверхностей</a:t>
            </a:r>
            <a:br>
              <a:rPr sz="3600"/>
            </a:b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на чертежах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914040" y="1827000"/>
            <a:ext cx="807732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Если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допуск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расположения или формы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не указан как зависимый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то его считают независимы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Зависимые допуск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009900"/>
                </a:solidFill>
                <a:latin typeface="Tahoma"/>
              </a:rPr>
              <a:t>обозначают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после числового значения допуск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если зависимый допуск связан с действительными размерами рассматрива-емого элемент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rcRect l="1459" t="11488" r="82086" b="66678"/>
          <a:stretch/>
        </p:blipFill>
        <p:spPr>
          <a:xfrm>
            <a:off x="7238880" y="3884760"/>
            <a:ext cx="1905120" cy="4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" descr=""/>
          <p:cNvPicPr/>
          <p:nvPr/>
        </p:nvPicPr>
        <p:blipFill>
          <a:blip r:embed="rId1"/>
          <a:srcRect l="41256" t="12663" r="41669" b="26436"/>
          <a:stretch/>
        </p:blipFill>
        <p:spPr>
          <a:xfrm>
            <a:off x="3505320" y="3875040"/>
            <a:ext cx="1904760" cy="1230480"/>
          </a:xfrm>
          <a:prstGeom prst="rect">
            <a:avLst/>
          </a:prstGeom>
          <a:ln w="0">
            <a:noFill/>
          </a:ln>
        </p:spPr>
      </p:pic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Указание допусков формы и расположения поверхностей</a:t>
            </a:r>
            <a:br>
              <a:rPr sz="3600"/>
            </a:b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на чертежах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14040" y="1827000"/>
            <a:ext cx="807732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Зависимые допуск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009900"/>
                </a:solidFill>
                <a:latin typeface="Tahoma"/>
              </a:rPr>
              <a:t>обозначают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после буквенного обозначения баз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или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без буквенного обозначения в третьей части рамк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  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если зависимый допуск связан с действительными размерами базового элемент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2"/>
          <a:srcRect l="21458" t="11488" r="62087" b="66678"/>
          <a:stretch/>
        </p:blipFill>
        <p:spPr>
          <a:xfrm>
            <a:off x="7467480" y="2895480"/>
            <a:ext cx="1676520" cy="4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" descr=""/>
          <p:cNvPicPr/>
          <p:nvPr/>
        </p:nvPicPr>
        <p:blipFill>
          <a:blip r:embed="rId1"/>
          <a:srcRect l="80214" t="12663" r="0" b="25294"/>
          <a:stretch/>
        </p:blipFill>
        <p:spPr>
          <a:xfrm>
            <a:off x="6705720" y="4267080"/>
            <a:ext cx="2286000" cy="129852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Указание допусков формы и расположения поверхностей</a:t>
            </a:r>
            <a:br>
              <a:rPr sz="3600"/>
            </a:b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на чертежах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Зависимые допуск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009900"/>
                </a:solidFill>
                <a:latin typeface="Tahoma"/>
              </a:rPr>
              <a:t>обозначают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после числового значения допуска и буквенного обозначения базы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    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ли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без буквенного обознач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если зависимый допуск связан с действи-тельными размерами рассматриваемого и базового элементов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2"/>
          <a:srcRect l="58750" t="12663" r="22710" b="65535"/>
          <a:stretch/>
        </p:blipFill>
        <p:spPr>
          <a:xfrm>
            <a:off x="6477120" y="3387600"/>
            <a:ext cx="2209680" cy="4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Допуск плоскост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опуск плоскостност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ставляет 0,07 мм и относится к любому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частку поверхности, имеющему площадь 31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×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210 м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Типовые примеры нанесения условных обозначений допусков расположения (формы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rcRect l="4125" t="277" r="61864" b="84963"/>
          <a:stretch/>
        </p:blipFill>
        <p:spPr>
          <a:xfrm>
            <a:off x="2971800" y="2543040"/>
            <a:ext cx="3505320" cy="18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Типовые примеры нанесения условных обозначений допусков расположения (формы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Допуск прямолиней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опуск прямолинейности 0,02 мм и относится к любому участку поверхности длиной 100 м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rcRect l="60833" t="838" r="5156" b="85240"/>
          <a:stretch/>
        </p:blipFill>
        <p:spPr>
          <a:xfrm>
            <a:off x="3048120" y="2725560"/>
            <a:ext cx="3657600" cy="18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30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Виды суммарных отклонений</a:t>
            </a:r>
            <a:br>
              <a:rPr sz="3600"/>
            </a:b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(ГОСТ 24643-81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4572000"/>
            <a:ext cx="83818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Радиальное биен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разность </a:t>
            </a:r>
            <a:r>
              <a:rPr b="1" lang="el-GR" sz="2800" spc="-1" strike="noStrike">
                <a:solidFill>
                  <a:srgbClr val="cc0000"/>
                </a:solidFill>
                <a:latin typeface="Tahoma"/>
                <a:ea typeface="Tahoma"/>
              </a:rPr>
              <a:t>Δ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 наибольшего и наименьшего расстояний от точек реального профиля поверхности вращения до базовой оси в сечении плоскостью, перпендикулярной базовой ос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rcRect l="2200" t="1029" r="60381" b="82551"/>
          <a:stretch/>
        </p:blipFill>
        <p:spPr>
          <a:xfrm>
            <a:off x="2514600" y="1752480"/>
            <a:ext cx="403848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Типовые примеры нанесения условных обозначений допусков расположения (формы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Допуск симметрич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опуск симметричности размера, указанного стрелкой, составляет 0,1 мм от половины ширины поля допуска (Т/2) относительно оси отверстия 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rcRect l="691" t="18942" r="48118" b="52368"/>
          <a:stretch/>
        </p:blipFill>
        <p:spPr>
          <a:xfrm>
            <a:off x="3124080" y="2505240"/>
            <a:ext cx="342900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Типовые примеры нанесения условных обозначений допусков расположения (формы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8305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685800" y="1828800"/>
            <a:ext cx="8305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Допуск соосност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опуск соосности отверстия, представленный в радиусном выражении, составляет 0,05 мм относительно базовой оси 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1"/>
          <a:srcRect l="58770" t="19504" r="1031" b="53206"/>
          <a:stretch/>
        </p:blipFill>
        <p:spPr>
          <a:xfrm>
            <a:off x="3200400" y="2514600"/>
            <a:ext cx="2819520" cy="23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Типовые примеры нанесения условных обозначений допусков расположения (формы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Допуск полного радиального би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Допуск полного радиального биения цилиндрической поверхности относительно поверхностей А и Б составляет 0,1 м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2590920" y="2514600"/>
            <a:ext cx="3733560" cy="2438280"/>
            <a:chOff x="2590920" y="2514600"/>
            <a:chExt cx="3733560" cy="2438280"/>
          </a:xfrm>
        </p:grpSpPr>
        <p:pic>
          <p:nvPicPr>
            <p:cNvPr id="460" name="" descr=""/>
            <p:cNvPicPr/>
            <p:nvPr/>
          </p:nvPicPr>
          <p:blipFill>
            <a:blip r:embed="rId1"/>
            <a:srcRect l="341" t="50976" r="56358" b="27536"/>
            <a:stretch/>
          </p:blipFill>
          <p:spPr>
            <a:xfrm>
              <a:off x="2590920" y="2514600"/>
              <a:ext cx="373356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4343400" y="4648320"/>
              <a:ext cx="2286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Типовые примеры нанесения условных обозначений допусков расположения (формы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Зависимый допуск соос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ависимый допуск соосности шейки вала связан только с действительным размером нормируемого элемента, указанного стрелко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rcRect l="58430" t="52376" r="1722" b="27860"/>
          <a:stretch/>
        </p:blipFill>
        <p:spPr>
          <a:xfrm>
            <a:off x="2666880" y="2590920"/>
            <a:ext cx="350532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Типовые примеры нанесения условных обозначений допусков расположения (формы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Зависимый допуск соос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ависимый допуск соосности шейки вала связан только с действительным размером базового элемент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1"/>
          <a:srcRect l="1722" t="75492" r="58770" b="4736"/>
          <a:stretch/>
        </p:blipFill>
        <p:spPr>
          <a:xfrm>
            <a:off x="2895480" y="2514600"/>
            <a:ext cx="365760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Типовые примеры нанесения условных обозначений допусков расположения (формы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Зависимый допуск соос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ависимый допуск соосности получен, исходя из действительных размеров базового и нормируемого элемент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rcRect l="56358" t="75769" r="1722" b="4174"/>
          <a:stretch/>
        </p:blipFill>
        <p:spPr>
          <a:xfrm>
            <a:off x="2895480" y="2514600"/>
            <a:ext cx="373392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30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Виды суммарных отклонений</a:t>
            </a:r>
            <a:br>
              <a:rPr sz="3600"/>
            </a:b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(ГОСТ 24643-81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5028840"/>
            <a:ext cx="8381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Полное радиальное биен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разность </a:t>
            </a:r>
            <a:r>
              <a:rPr b="1" lang="el-GR" sz="2800" spc="-1" strike="noStrike">
                <a:solidFill>
                  <a:srgbClr val="cc0000"/>
                </a:solidFill>
                <a:latin typeface="Tahoma"/>
              </a:rPr>
              <a:t>Δ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наибольшего и наименьшего расстояний от всех точек реальной поверхности в пределах нормируемого участка до базовой ос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2133720" y="1600200"/>
            <a:ext cx="4419360" cy="3351240"/>
            <a:chOff x="2133720" y="1600200"/>
            <a:chExt cx="4419360" cy="3351240"/>
          </a:xfrm>
        </p:grpSpPr>
        <p:pic>
          <p:nvPicPr>
            <p:cNvPr id="374" name="" descr=""/>
            <p:cNvPicPr/>
            <p:nvPr/>
          </p:nvPicPr>
          <p:blipFill>
            <a:blip r:embed="rId1"/>
            <a:srcRect l="5033" t="76389" r="57869" b="3511"/>
            <a:stretch/>
          </p:blipFill>
          <p:spPr>
            <a:xfrm>
              <a:off x="2514600" y="1600200"/>
              <a:ext cx="4038480" cy="335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2133720" y="4221000"/>
              <a:ext cx="3808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ffffff"/>
                  </a:solidFill>
                  <a:latin typeface="Verdana"/>
                </a:rPr>
                <a:t>Δ</a:t>
              </a:r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30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Виды суммарных отклонений</a:t>
            </a:r>
            <a:br>
              <a:rPr sz="3600"/>
            </a:b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(ГОСТ 24643-81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5181120"/>
            <a:ext cx="8381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Торцовое биен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разность </a:t>
            </a:r>
            <a:r>
              <a:rPr b="1" lang="el-GR" sz="2800" spc="-1" strike="noStrike">
                <a:solidFill>
                  <a:srgbClr val="cc0000"/>
                </a:solidFill>
                <a:latin typeface="Tahoma"/>
              </a:rPr>
              <a:t>Δ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наибольшего и наименьшего расстояний от точек реального профиля торцовой поверхности до плоскости, перпендикулярной базовой ос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rcRect l="5033" t="20943" r="64158" b="57498"/>
          <a:stretch/>
        </p:blipFill>
        <p:spPr>
          <a:xfrm>
            <a:off x="2976480" y="1523880"/>
            <a:ext cx="32720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30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Виды суммарных отклонений</a:t>
            </a:r>
            <a:br>
              <a:rPr sz="3600"/>
            </a:b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(ГОСТ 24643-81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5028840"/>
            <a:ext cx="8381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Полное торцовое биен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разность </a:t>
            </a:r>
            <a:r>
              <a:rPr b="1" lang="el-GR" sz="2800" spc="-1" strike="noStrike">
                <a:solidFill>
                  <a:srgbClr val="cc0000"/>
                </a:solidFill>
                <a:latin typeface="Tahoma"/>
              </a:rPr>
              <a:t>Δ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наибольшего и наименьшего расстояний от точек всей торцовой поверхности до плоскости, перпендикулярной базовой ос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rcRect l="49372" t="1029" r="15721" b="80086"/>
          <a:stretch/>
        </p:blipFill>
        <p:spPr>
          <a:xfrm>
            <a:off x="2743200" y="1652760"/>
            <a:ext cx="3886200" cy="32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30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Виды суммарных отклонений</a:t>
            </a:r>
            <a:br>
              <a:rPr sz="3600"/>
            </a:b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(ГОСТ 24643-81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76320" y="4343040"/>
            <a:ext cx="89913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0000"/>
                </a:solidFill>
                <a:latin typeface="Tahoma"/>
              </a:rPr>
              <a:t>Биение в заданном направлении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– разность </a:t>
            </a:r>
            <a:r>
              <a:rPr b="1" lang="el-GR" sz="2600" spc="-1" strike="noStrike">
                <a:solidFill>
                  <a:srgbClr val="cc0000"/>
                </a:solidFill>
                <a:latin typeface="Tahoma"/>
              </a:rPr>
              <a:t>Δ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наибольшего и наименьшего расстояний от точек реального профиля поверхности вращения в сечении рассматриваемой поверхности конусом, ось которого совпадает с базовой осью, а базирующая имеет заданное направление до вершины этого конус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rcRect l="5033" t="46204" r="61325" b="27517"/>
          <a:stretch/>
        </p:blipFill>
        <p:spPr>
          <a:xfrm>
            <a:off x="3314880" y="1600200"/>
            <a:ext cx="23558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30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Виды суммарных отклонений</a:t>
            </a:r>
            <a:br>
              <a:rPr sz="3600"/>
            </a:b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(ГОСТ 24643-81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28600" y="4572000"/>
            <a:ext cx="8763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Отклонение формы заданного профил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наибольшее отклонение </a:t>
            </a:r>
            <a:r>
              <a:rPr b="1" lang="el-GR" sz="2800" spc="-1" strike="noStrike">
                <a:solidFill>
                  <a:srgbClr val="cc0000"/>
                </a:solidFill>
                <a:latin typeface="Tahoma"/>
              </a:rPr>
              <a:t>Δ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точек реального профиля от номинального профиля, определяемое по нормали к номинальному профилю в пределах нормируемого участк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rcRect l="47804" t="29365" r="16353" b="42920"/>
          <a:stretch/>
        </p:blipFill>
        <p:spPr>
          <a:xfrm>
            <a:off x="3370320" y="1600200"/>
            <a:ext cx="25732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30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Виды суммарных отклонений</a:t>
            </a:r>
            <a:br>
              <a:rPr sz="3600"/>
            </a:b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(ГОСТ 24643-81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228600" y="4572000"/>
            <a:ext cx="8763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Отклонение формы заданной поверхност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наибольшее отклонение </a:t>
            </a:r>
            <a:r>
              <a:rPr b="1" lang="el-GR" sz="2800" spc="-1" strike="noStrike">
                <a:solidFill>
                  <a:srgbClr val="cc0000"/>
                </a:solidFill>
                <a:latin typeface="Tahoma"/>
              </a:rPr>
              <a:t>Δ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точек реальной поверхности от номинальной, определяемое по нормали к номинальной поверхности в пределах нормируемого участк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rcRect l="51260" t="66328" r="3144" b="5749"/>
          <a:stretch/>
        </p:blipFill>
        <p:spPr>
          <a:xfrm>
            <a:off x="2895480" y="1600200"/>
            <a:ext cx="335304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09-04-09T12:32:17Z</dcterms:modified>
  <cp:revision>2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