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45-69F8-4426-A331-B3E90EEA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71B-5CEE-48FA-9064-E981AA6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8F8-8893-4A8D-A97D-7A8F0AB9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15D-5687-4128-BA3B-2072DB9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D541-927B-4791-9141-98DFA80F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A68-DE39-44C6-A608-FD5B96E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FE6-E915-4698-9037-687EB22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33A-9BD4-40DC-A582-8090DA7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95E-D45E-44CC-BF1E-4985E283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E38A-610C-4AAD-8E36-AB8A2520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CC7-F262-4FAA-A11A-1C9D375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A02-A21C-49BA-AA97-B67DF8A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0F7-32BA-45C1-BA46-43A56F5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A980-BAD4-4909-8B9E-4E31492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46C5-E70E-43CC-A16B-701A469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A64C-08A6-42B3-BA5E-99CF0618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5424-D275-4DE7-A89E-8300C554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66E-85F4-4356-8896-D267752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166-BECB-4F9D-9347-5934307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AA9-C9D3-4AA1-9057-23AED6BC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4F6-ECBD-4580-9D4F-CF45DD2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552-B458-4432-803F-9EB2E7F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71A-3077-461E-85D3-C95BE01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5F8-7977-454A-8EBB-CA7AE33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62B-A844-4FA1-9D09-648FDB7D5D5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B802-86D7-4C67-AB84-0DC5E11D56F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2209320"/>
            <a:ext cx="7543800" cy="12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Расчет допусков размеров, входящих в размерные цеп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4777" t="3270" r="4472" b="2036"/>
          <a:stretch/>
        </p:blipFill>
        <p:spPr>
          <a:xfrm>
            <a:off x="2057400" y="1905120"/>
            <a:ext cx="6629400" cy="48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5B8-B75D-4C99-A22E-D4C1E9E07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24480" cy="563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666880" y="5791320"/>
            <a:ext cx="3581640" cy="95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064-461C-4337-BCE9-0003CF5AD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93424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F0F-4BDF-4AF8-AD95-9B8FB5347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5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рямая задача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По заданным номинальному размеру и допуску (отклонениям) исходного звена определить номинальные размеры, допуски и предельные отклонения всех составляющих звеньев размерной цеп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Обратная задача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По установленным номинальным размерам, допускам и предельным отклонениям составляющих звеньев определить номинальный размер, допуск и предельные отклонения замыкающего звена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9E7-101F-4672-8BC2-596E9A3A46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545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Основные уравнения теории размерных цепей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3124080"/>
                <a:ext cx="5715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А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ув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умен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76720" y="4724280"/>
                <a:ext cx="39621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А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А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328-0187-49C5-95B4-47CE2D0BD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2 Методы расчета размерных цепей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 Метод максимума-минимум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опуск замыкающего размера определяют арифметическим сложением допусков составляющих размеров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Метод расчета на максимум-минимум, учитывающий только предельные отклонения звеньев размерной цепи и самые неблагоприятные их сочетания, обеспечивает заданную точность сборки без подгонки (подбора) детал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183-E602-49C4-9255-527DC0CC75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545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Обратная задача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95640"/>
            <a:ext cx="609588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D10-3985-41D6-8C58-6C133AE24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43200" y="4292640"/>
            <a:ext cx="4952880" cy="2565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449568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78000" y="18277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Размер замыкающего звен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78360" y="365652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Предельные размеры замыкающего звен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273-2FF6-404C-9D9B-0AF7F399A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545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Предельные отклонения замыкающего звен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901" t="3679" r="5191" b="4497"/>
          <a:stretch/>
        </p:blipFill>
        <p:spPr>
          <a:xfrm>
            <a:off x="2438280" y="2209680"/>
            <a:ext cx="510552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11372" t="15120" r="11372" b="14222"/>
          <a:stretch/>
        </p:blipFill>
        <p:spPr>
          <a:xfrm>
            <a:off x="2362320" y="4572000"/>
            <a:ext cx="3124080" cy="128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411480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опуск замыкающего звен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79096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где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— количество увеличивающих звеньев;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— количество уменьшающих звеньев;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— общее количество звеньев, включая замыкающее звено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6CE-06A9-4849-AED1-68CBC978F6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пособ равных допусков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применяют, если составляющие размеры имеют один порядок (например, входят в один интервал диаметров) и могут быть выполнены с примерно одинаковой экономической точностью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i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)=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Δ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)/(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-1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60E-FB76-459E-846F-8BF677A983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Размерной цепью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называется совокупность взаимосвязанных размеров, образующих замкнутый контур и определяющих взаимное положение поверхностей (или осей) одной или нескольких детал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Звеном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зывается каждый из размеров, образующих размерную цепь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8BF-A855-4878-ADF8-6870E106A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пособ допусков одного квалитета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применяют, если все составляющие цепь размеры могут быть выполнены с допуском одного квалитета и допуски составляющих размеров зависят от их номинального значен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Допуск составляющего размер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(А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)=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де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— единица допуска (мкм);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— число единиц допус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E01-AB05-47C8-9C72-317A7B498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 значению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а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выбирают ближайший квалитет. Число единиц допуска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а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с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в общем случае не равно какому-либо значению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, определяющему квалитет, поэтому выбирают ближайший квалитет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819520" cy="24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C7A-9A78-4EC5-8FBB-F4225754B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максимума-минимум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После определения допусков составляющих размеров, корректируют их знач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опуски для охватывающих размеров рекомендуется определять, как для основного отверстия, а для охватываемых — как для основного вала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 этом следует выполнить условия уравнения допуск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Найдя допуски, определяют значения и знаки верхних и нижних отклонений составляющих размеров так, чтоб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ни удовлетворяли уравнениям предельных отклонений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5BF-332E-4FB7-A467-1DB44BFE2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2 Методы расчета размерных цепей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Применение теории вероятностей позволяет расширить допуски составляющих размеров и тем самым облегчить изготовление деталей при практически ничтожном риске несоблюдения предельных значений замыкающего размера.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 Теоретико-вероятностный метод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3840" y="2286000"/>
            <a:ext cx="41497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97A-5A8A-4E58-B085-A07AC41D48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5880" y="1752480"/>
            <a:ext cx="2895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Законы распределения случайных величин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699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 – среднее квадратическое отклонение случайной велич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V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–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величина поля рассеяни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М(А</a:t>
            </a:r>
            <a:r>
              <a:rPr b="1" i="1" lang="en-US" sz="20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j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 – математическое ожидание случайной велич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3809880" cy="278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47920" y="4648320"/>
            <a:ext cx="4724280" cy="20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22E-D260-40CB-97EA-52CED06F51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21477000">
            <a:off x="1523880" y="1980720"/>
            <a:ext cx="4953240" cy="3295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53341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лотность вероятностей 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f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Arial"/>
              </a:rPr>
              <a:t>(А</a:t>
            </a:r>
            <a:r>
              <a:rPr b="0" i="1" lang="en-US" sz="20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9920" y="167652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Эскиз функции нормального распределения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600200" y="5715000"/>
                <a:ext cx="4267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400800" y="2133720"/>
            <a:ext cx="2590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6699"/>
                </a:solidFill>
                <a:latin typeface="Arial"/>
                <a:ea typeface="Arial"/>
              </a:rPr>
              <a:t>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 – среднее квадратическое отклонение случайной величин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действительный размер звен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V</a:t>
            </a:r>
            <a:r>
              <a:rPr b="1" i="1" lang="en-US" sz="18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величина поля рассеян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М(А</a:t>
            </a:r>
            <a:r>
              <a:rPr b="1" i="1" lang="en-US" sz="18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j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  <a:ea typeface="Arial"/>
              </a:rPr>
              <a:t> – математическое ожидание случайной величины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220-57A3-4501-AD08-69CAFC6FDD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43200" y="1523880"/>
                <a:ext cx="4572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09680" y="4267080"/>
                <a:ext cx="609624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600200" y="3200400"/>
            <a:ext cx="31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– число деталей в парти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390-082B-4A09-8BD6-D008DB1E04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666880" y="3124080"/>
                <a:ext cx="4572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47920" y="19051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Для нормального закона распределения случайных величин за величину поля рассеяния принимают зону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920" y="42670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При размерных расчетах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95760" y="5334120"/>
                <a:ext cx="40082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1E9-8BE6-48DD-9EC5-25724D01FC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Для перехода от средних квадратичных отклонений σ к допускам или полям рассеяния используют коэффициент относительного рассеяния </a:t>
            </a: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λ</a:t>
            </a:r>
            <a:r>
              <a:rPr b="1" i="1" lang="en-US" sz="26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29000" y="3429000"/>
                <a:ext cx="281952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487-EF2C-455E-9004-5ED90A3E9D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3166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Если центр группирования не совпадает с серединой поля рассеивания, то коэффициент относительной асимметрии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2666880"/>
                <a:ext cx="25909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4647960" cy="3911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334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Эскиз функции распределения со смещение центра группировани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CC8-4A8F-41DE-954F-B8C3624E15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Исходным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называется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звено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, к которому предъявляется основное требование точности, определяющее качество изделия в соответствии с техническими условиям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 процессе обработки или при сборке изделия исходное звено получается обычно последним, замыкая размерную цепь. В этом случае такое звено именуется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замыкающим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F05-DBDA-4F38-9C71-B960F3FCA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70160" y="1676520"/>
          <a:ext cx="7392960" cy="4592520"/>
        </p:xfrm>
        <a:graphic>
          <a:graphicData uri="http://schemas.openxmlformats.org/drawingml/2006/table">
            <a:tbl>
              <a:tblPr/>
              <a:tblGrid>
                <a:gridCol w="3132000"/>
                <a:gridCol w="1427040"/>
                <a:gridCol w="1401840"/>
                <a:gridCol w="1432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кон распределения функ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i="1" lang="el-GR" sz="2400" spc="-1" strike="noStrike" baseline="-25000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i="1" lang="el-GR" sz="2400" spc="-1" strike="noStrike" baseline="-25000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i="1" lang="el-GR" sz="2400" spc="-1" strike="noStrike" baseline="-25000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i="1" lang="en-US" sz="2400" spc="-1" strike="noStrike" baseline="30000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Нормальный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/3=0,3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/9=0,11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Усеченный нормальный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0,18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,139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авновозрастающей вероятност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0,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,22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авной вероятност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/3=0,3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импсона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/6=0,166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43600" y="3505320"/>
                <a:ext cx="121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324480" y="487692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5562720"/>
                <a:ext cx="436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019920" y="4267080"/>
                <a:ext cx="1143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F9F-C4D4-4AB7-B61B-084BD6A992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15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дставив выражение коэффициента рассеяния в уравнение теоремы о дисперсии [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xi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) = </a:t>
            </a:r>
            <a:r>
              <a:rPr b="1" i="1" lang="el-GR" sz="2400" spc="-1" strike="noStrike">
                <a:solidFill>
                  <a:srgbClr val="336699"/>
                </a:solidFill>
                <a:latin typeface="Arial"/>
                <a:ea typeface="Arial"/>
              </a:rPr>
              <a:t>σ</a:t>
            </a:r>
            <a:r>
              <a:rPr b="1" i="1" lang="en-US" sz="24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i</a:t>
            </a:r>
            <a:r>
              <a:rPr b="1" i="1" lang="en-US" sz="24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] , получим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19520" y="2590920"/>
                <a:ext cx="434340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38440" y="40006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43200" y="4267080"/>
                <a:ext cx="457200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736640" y="6134040"/>
            <a:ext cx="649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где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t</a:t>
            </a:r>
            <a:r>
              <a:rPr b="0" lang="el-GR" sz="1800" spc="-1" strike="noStrike" baseline="-25000">
                <a:solidFill>
                  <a:srgbClr val="336699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коэффициент риска, зависящий от величины риска </a:t>
            </a:r>
            <a:r>
              <a:rPr b="0" i="1" lang="ru-RU" sz="1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F7F-9B65-4141-AA41-85EAE8EF15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61736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Уравнение предельных размеро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05120" y="2514600"/>
                <a:ext cx="6019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05120" y="4114800"/>
                <a:ext cx="61722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469-264C-4CD8-A3B9-59ADCFB4F8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600"/>
            </a:br>
            <a:r>
              <a:rPr b="1" i="1" lang="en-US" sz="36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240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Уравнение предельных отклонений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362320" y="2590920"/>
                <a:ext cx="60195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0" y="4343400"/>
                <a:ext cx="624852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431-1757-4358-8F3D-7D393843BE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пособ равных допусков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ринимают, что величины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A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Ec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λ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для всех составляющих размеров одинаковы. По заданному допуску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 A</a:t>
            </a:r>
            <a:r>
              <a:rPr b="1" lang="en-US" sz="2800" spc="-1" strike="noStrike" baseline="-25000">
                <a:solidFill>
                  <a:srgbClr val="336699"/>
                </a:solidFill>
                <a:latin typeface="Arial"/>
              </a:rPr>
              <a:t>Δ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пределяют средние допуски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1" i="1" lang="ru-RU" sz="2800" spc="-1" strike="noStrike" baseline="-25000">
                <a:solidFill>
                  <a:srgbClr val="336699"/>
                </a:solidFill>
                <a:latin typeface="Arial"/>
              </a:rPr>
              <a:t>с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40160" y="4898880"/>
                <a:ext cx="36352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2D8-FF1A-4148-A58B-BC4180F045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Найденные значения </a:t>
            </a:r>
            <a:r>
              <a:rPr b="1" i="1" lang="en-US" sz="26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1" i="1" lang="ru-RU" sz="2600" spc="-1" strike="noStrike" baseline="-25000">
                <a:solidFill>
                  <a:srgbClr val="336699"/>
                </a:solidFill>
                <a:latin typeface="Arial"/>
              </a:rPr>
              <a:t>с</a:t>
            </a:r>
            <a:r>
              <a:rPr b="1" i="1" lang="en-US" sz="26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6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ru-RU" sz="2600" spc="-1" strike="noStrike" baseline="-25000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и </a:t>
            </a:r>
            <a:r>
              <a:rPr b="1" i="1" lang="en-US" sz="2600" spc="-1" strike="noStrike">
                <a:solidFill>
                  <a:srgbClr val="336699"/>
                </a:solidFill>
                <a:latin typeface="Arial"/>
              </a:rPr>
              <a:t>Ec</a:t>
            </a: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1" i="1" lang="en-US" sz="26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 корректируют, учитывая требования конструкции и возможность применения процессов изготовления деталей, экономическая точность которых близка к требуемой точности размеров. 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Правильность решения задачи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роверяют по формуле допуска замыкающего звена.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E33-0E59-4BFE-9493-7150DBFFAC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Способ допусков одного квалитет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расчет в общем аналогичен решению прямой задачи методом полной взаимозаменяемости. При этом среднее количество единиц допуска определится по формуле: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733920" y="4724280"/>
                <a:ext cx="281916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7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203-4D35-443D-9F23-8EC85A170A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Arial"/>
              </a:rPr>
              <a:t>Способ пробных расчетов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 заключается в том, что допуски на составляющие размеры назначают экономически целесообразными для условий предстоящего вида производства с учетом конструктивных требований, опыта эксплуатации имеющихся подобных механизмов и проверенных для данного производства значений коэффициентов </a:t>
            </a:r>
            <a:r>
              <a:rPr b="1" i="1" lang="en-US" sz="2600" spc="-1" strike="noStrike">
                <a:solidFill>
                  <a:srgbClr val="336699"/>
                </a:solidFill>
                <a:latin typeface="Arial"/>
              </a:rPr>
              <a:t>λ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Правильность расчета проверяют по формуле допуска замыкающего звена. 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073-0F80-46FD-A75F-1714E829E2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Теоретико-вероятностный метод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29714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Arial"/>
              </a:rPr>
              <a:t>Способ равного влияния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 применяют при решении плоских и пространственных размерных цепей. Он основан на том, что допускаемое отклонение каждого составляющего размера должно вызывать одинаковое изменение исходного размера. 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752480"/>
            <a:ext cx="754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ямая задача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103-E278-40C3-9D35-BBA5441A50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2 Методы расчета размерных цепей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 Метод регулирования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д методом регулирования понимают расчет размерных цепей, при котором требуемая точность исходного (замыкающего) звена достигается преднамеренным изменением без удаления материала (регулированием) одного из заранее выбранных составляющих размеров, называемого компенсирующим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303-D3BE-4446-942B-185A80AD2A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Составляющими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называются все остальные звенья, с изменением которых изменяется и замыкающее звен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Увеличивающие звенья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звенья с увеличением которых (при прочих постоянных) увеличивается и замыкающее звено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Уменьшающие звенья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- звенья, с увеличением которых уменьшается замыкающее звено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992-FA33-40B5-A1C6-FEE511AD8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регулирования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560" y="23623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минальный размер компенсирующего звена А</a:t>
            </a:r>
            <a:r>
              <a:rPr b="1" lang="ru-RU" sz="2400" spc="-1" strike="noStrike" baseline="-25000">
                <a:solidFill>
                  <a:srgbClr val="336699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43200" y="3352680"/>
                <a:ext cx="47242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омп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4773600"/>
            <a:ext cx="6705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Значение А</a:t>
            </a:r>
            <a:r>
              <a:rPr b="0" lang="ru-RU" sz="2400" spc="-1" strike="noStrike" baseline="-25000">
                <a:solidFill>
                  <a:srgbClr val="336699"/>
                </a:solidFill>
                <a:latin typeface="Times New Roman"/>
              </a:rPr>
              <a:t>комп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 берут со знаком плюс, если размер является увеличивающим, и минус — для уменьшающих размеров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9B1-DEAC-489F-9A9E-57C5A63F6D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Метод регулирования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опуск замыкающего звена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429000" y="2438280"/>
                <a:ext cx="30481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621600"/>
            <a:ext cx="716292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где Т</a:t>
            </a: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336699"/>
                </a:solidFill>
                <a:latin typeface="Arial"/>
              </a:rPr>
              <a:t>Δ</a:t>
            </a: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 — заданный допуск исходного размера, определяемый исходя из эксплуатационных требований;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TA</a:t>
            </a:r>
            <a:r>
              <a:rPr b="0" lang="en-US" sz="22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 — принятые расширенные технологически выполнимые допуски составляющих размеров;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336699"/>
                </a:solidFill>
                <a:latin typeface="Arial"/>
              </a:rPr>
              <a:t>k</a:t>
            </a: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 — наибольшее возможное расчетное отклонение, выходящее за пределы поля допуска исходного звена, подлежащее компенсации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E13-5E40-470F-9915-3A46D1F02A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545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Классификация размерной цеп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 области применени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Конструкторская - Решается задача обеспечения точности при конструировании изделий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Технологическая - Решается задача обеспечения точности при изготовлении изделий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Измерительная - Решается задача измерения величин, характеризующих точность издели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51F-B646-48D0-B2D2-1B342EADF4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5452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 месту в издел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Детальная - Определяет точность относительного положения поверхностей или осей одной детал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Сборочная - Определяет точность относительного положения поверхностей или осей деталей, входящих в сборочную единицу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008-B4CA-4E5C-AD86-770C56BC3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545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 расположению звеньев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Линейная - Звенья цепи являются линейными размерами. Звенья расположены на параллельных прямы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Угловая - Звенья цепи представляют собой угловые размеры, отклонения которых могут быть заданы в линейных величинах, отнесенных к условной длине, или градус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Плоская - Звенья цепи расположены произвольно в одной или нескольких параллельных плоскостя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Пространственная - Звенья цепи расположены произвольно в пространств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483-BBEF-4F33-A5A4-F26DAE808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По характеру звеньев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Скалярная - Все звенья цепи являются скалярными величина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Векторная - Все звенья цепи являются векторными погрешностя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Комбинированная - Часть составляющих звеньев размерной цепи — векторные величины, остальные — скалярные величин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6A4-3AFA-4C50-AB9B-A1A3B6134B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Расчет допусков размеров, входящих в размерные цепи</a:t>
            </a:r>
            <a:br>
              <a:rPr sz="3200"/>
            </a:br>
            <a:r>
              <a:rPr b="1" i="1" lang="en-US" sz="3400" spc="-1" strike="noStrike">
                <a:solidFill>
                  <a:srgbClr val="0066ff"/>
                </a:solidFill>
                <a:latin typeface="Times New Roman"/>
              </a:rPr>
              <a:t>1 Основные понятия и определения</a:t>
            </a:r>
            <a:endParaRPr b="0" lang="en-US" sz="3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5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По характеру взаимных связей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Параллельно связанные - Размерные цепи (две или более), имеющие хотя бы одно общее звен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Независимые - Размерные цепи, не имеющие общих звенье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9D1-A7E2-4BB5-A725-E941E9B1EB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14T09:57:5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