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A87-B093-439D-A693-1821850B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084-A208-434C-A7DE-D06092E4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C5CC8-AD44-4C69-B211-34DD431C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03D0C-0BCC-47A9-B1DC-5F2B309A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B5CAB-423C-4F58-BE6B-75BE74C0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58F86-01DB-47A9-985B-32D6B1AE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CEBF9-33B4-415A-8B46-F5D3C5E2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C1377-282A-486B-B801-5CFFC87F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96B38-1493-484A-B500-3E7F08E6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C3DAC-5DCF-4E10-93F0-19C0A46D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EB7C0-1372-42E8-8D6A-33B951E9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293610-C8E8-4857-8183-E70C5728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1FDE-40FA-49AD-AE7F-84D01969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3486DB-6A57-4B25-B0F5-D4A50438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2C27D9-15D7-4B19-B7F3-F0F89A63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68437F-8BD8-4B55-95A6-DE7009FF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6857FF-ECF5-4FCE-8209-22734749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001899-0B6A-43D0-88FA-BC08D55C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53D911-D2AF-4A13-8EFC-ECC40D7E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AB5ABF-2885-4F08-95FF-65A70BDA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30D89D-2EF3-4F6C-9940-79450597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0775A3-4CA2-40FF-AD2A-CFADB509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0D5AF5-FDA2-4EA0-9FE8-3641BF95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758-C5C2-4F2E-8F99-F85FCD8A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5F9F08-BF42-4DDA-BBC2-0848AEFB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5F4E7-F906-4672-BA71-E146A8F4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EF42D-0259-4DEB-B01B-87DE8488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A8E14-0A79-4EB0-B834-47D7ADA2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33166-5B28-4650-8028-DBE780F4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7DCCD-7B47-4295-BC3C-2317A8BE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0AEEB-5FB4-473F-AC9C-587D41A8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BC807-3F24-4CAC-97E9-87210EA4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90CA0-F6C5-4FC4-AC41-C9A60625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B3061-946E-40DB-8519-F51D1264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D9D6-BFB2-4A27-A97C-BD425649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03E55-7E71-4F60-97C2-E35875AB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0C470-BBB6-4F55-B4AF-C4FB33C1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D7E8C-446B-4F07-B685-32FE3E55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94CD3D-5B53-4B9E-B610-181D0B5E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64F698-C55B-4A57-B835-A9670725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C976AC-9427-4F1B-AD72-F80017E9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5D5D32-1DA5-4E99-BEDA-01765504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298C25-8D3E-4B9B-A125-0B50B612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3E6879-8F7C-49DD-A6D3-81ED56F3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C64A60-B4B2-4A7C-B546-173DEF70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4DC3-5590-4288-833B-72D23F72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6A06E9-5FFA-4BE2-AA8B-B83C2B0D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87F8CF-4F40-40B2-97DA-06C1196F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6AC3A1-0C97-4AB7-BFD5-804FF326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AA0E69-0852-465D-B5CC-C352F48C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3821D5-5D0B-47B3-9700-61730EE2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11244C-5F50-4225-9AA0-D8D4E607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F436B8-003D-4F65-9D09-EA17C643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CDDEA2-576E-40CC-B188-1AC68582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181ECF-104F-42AC-A92C-9D8ED669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9EA3CE-824A-455D-9765-3E502291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6EC3-535D-4830-930E-EEA503D7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53CAB2-4966-4AFE-B136-2DA4EB35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070E6D-061A-4C17-A26B-7D0F5334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B8B5F3-54DD-4BF0-85AC-7E5ADCF7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57A84B-EBDB-46BF-9D4E-E4E02783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DC7979-3DB8-4DF9-A30F-97825511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490021-B955-42BD-8A83-11F2CD7E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68C3C4-F63A-41EB-95BB-D0F3FE70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8658C4-7085-471C-B88F-B6EB21CD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D4BE5F-903B-4695-8DFA-CC11CE5B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574F49-4F29-416C-BC22-6769C3A6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5523-1A23-4D17-A85C-214C98EE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BA29FC-44A6-460C-B807-FA77B822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E47286-761A-43AF-BEF6-DBB1A131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7CF8330-B63F-40A7-AE70-30C1D96F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415769-F3B4-4C40-8F9E-8A66833F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F7B0FD-030E-4A79-9455-6AA58EF0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470F0C-17DA-492F-961F-25CC0C58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E99145-998D-4FB6-BAA0-5C7F4651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08497F-41CB-4330-976C-2EE1E61D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598B14-3814-48C0-AC19-D620D653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C9E7-3576-458B-AAE1-7DF0221C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DDAA-3773-47E7-A84C-AD210BBA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6D4E-2147-414D-8AB3-ED5126BD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986-4CEC-4945-AFBD-DCDC5A44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ED42-022B-443A-A870-7952A1E2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E83A-8DE6-4757-84C3-AE9764B8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D536-B670-4B38-B431-10C7EFE3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6315-5CD9-4C68-BF61-8D679077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4519-0814-46F4-AE7C-EE7EFF9F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9C2AB-000C-450E-90B5-A252EF32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3691B-AF4D-4B17-8E55-C8077C73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0AF8E-5842-44A2-8C60-822A52DC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52CEA-AAA5-49EB-88DF-19F38D02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E5020-8555-4BC8-AD56-9E9797C0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5A5-B160-462E-A64D-BA6F4057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D8024-8C80-423A-A808-6A04CDD3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2F46-DAAB-4FDA-8849-B3C9A208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9042C-E937-460A-A945-C73C65A3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C6EAE-8D4F-41F8-8F12-0184B8F8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9B20F-1E04-4C54-98BC-4BDB5053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01DA9-6265-4D92-98C7-98A8B993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D0B01-2BFA-4B36-95A7-B5E86AD2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8EDAE-7E71-4BA3-B1FC-F40B7D48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9BE9B-BDB4-4C6E-AF6E-5D7D11B9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C9A00-C307-4A4A-BA05-556C948A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76D-3BD9-44E0-839A-0F1BA6E0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9C257-50A2-49B3-8426-C16D8E3B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0E6E6-913C-42E9-8CEB-02A5820D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36FEC-3EE8-4A9B-A975-A2B46B89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1C167-1735-45B2-8B64-2366AA48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A5E01-60AE-4724-B301-2EC5686B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56C6E-3925-4AC4-A8BF-1EBFAB75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D48C6-CC48-493B-BC31-A8774155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52E87-450D-4BB5-B04D-F19D9903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AEFED-712C-4118-9452-CB3E0807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4A0FC-C5C6-4207-9915-7C44149D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7C6-75F5-4FC3-98AE-8629309A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E2718-E7E6-4481-B8A2-AFF15596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23A6C-0283-4D27-ABF4-2D83D92E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B173E-1682-4739-8484-08D38295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E8CF1-27F6-49F6-8014-951A0D53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39D7E-A6F8-4C28-8214-6F254066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F91EE-23CB-42AA-B5B6-FB0BAFB0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C06F1-70A3-48D3-8DED-0C1EE9AC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18482-B3C7-4654-946B-4228A0C9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4EAB8-F260-40A5-B59D-E5576AC5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1F319-F3EC-429D-AFBE-FFF80213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A51-925F-4BB9-AE8F-274FC2AD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BE946-A3E7-4DE1-931E-FFE65541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5B822-F14B-4539-A425-ACB6A289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CFBC8-17E7-48AE-AE44-69DD7DE5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976B6-1664-4151-A78A-BD74AA4A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D08DB-3E68-4CF2-B093-48C9EE12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1B2F8-27D0-4C0C-8631-CB591A1C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A847A-0956-49B0-BA87-08DADF58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FF944-3492-4910-BF39-B27F3EAF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CDCAE-A28F-4BD1-A75B-5219914E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8F108-C9A3-4137-BB73-29C5134D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F6F-EA01-4A58-980B-2677F3DD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D40D2-F210-42E1-8873-3AE73EAA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A1A10-BA02-4FDC-AF2A-9F653854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D9E9B-DCD2-4233-BF2D-8113A053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B4DFC-6D9A-4AA6-9D01-38558AE0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3049D-A8AC-4F3F-B32D-B8112E69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467F5-DBB9-4333-8270-046D726A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866F0-0D8B-49B6-9E6D-06BC1A6F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AE63B-A2B6-4870-A7C2-B1AC0430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D38F7-7F24-4C99-BB0C-A5A61C89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FE215-BF09-453A-B6F6-6A9C167B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D39-ABD5-43FE-BA98-5D667D52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A2745-8E2E-4BFD-B672-C071BE7A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5DFE0-1C0E-4994-8192-A017AB6F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2950A-24F0-4A6F-8863-A4A8B89E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05045-8725-4879-8349-429508F4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11F11-A779-4541-A789-07CAFB60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CEBAD-E13A-4FED-92D6-B3AED4D1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F6E50-5C89-45C5-94CC-70E91AA2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EA17C-8B6C-433C-B612-4D9E126B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2DADE-3E07-48E7-9179-0EAB40DB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2AFB8-4D46-4B46-B5CF-C018253E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1A5-860A-4977-8A37-1DCA1BC4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B75A9-0E74-4E8F-AEE2-AADEE415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93934-9DFC-46E0-B9EC-71A37306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810C1-F032-4FCE-AE64-1C32EBCF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B32A3-B108-4F92-8731-944E2F0C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76155-4895-49C6-8615-D0B79362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C397D-DA5E-4D7C-BA8E-9A65CAD4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0F6EA-054F-450E-9927-2207EE37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9F456-8109-4B09-B465-B916CF33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F81B3-8DC9-449D-BDD7-006AF1C3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3C84F-F8B2-42B8-B8CD-DBC10601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1C46-37FF-455C-8CB1-2BD05D2BCF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3E34-1DBD-4B9D-9068-C4C3E628EA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1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2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3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E52C-2DC7-41CF-A4F2-0B28360E70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8CB0-BCBB-4E1E-9518-B71AE80FA1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3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45EF-D2B5-44B4-B654-79721EB57F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3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4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sldNum" idx="4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5F54-A318-44F9-9E50-D36CF0E69F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4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5E98-A3F6-4C27-8714-3EDBD858B1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Полилиния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1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93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94" name="Нашивка 11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Нашивка 12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FBA2-EC8E-4528-AEAB-DF36E5CB9E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олилиния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Полилиния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0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42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B728-27E6-4D97-BE59-5ADF19D3EF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6383-EB47-40B0-800E-99A3CEC478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олилиния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Полилиния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7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28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30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9948-0544-494C-8EB8-D2B8F07006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ACCB-32F7-46E3-B742-E489E09666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олилиния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Полилиния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5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16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318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19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10C0-31CD-4036-AD85-1863B58FFD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37DA-A50F-4397-AF8F-1157C871D2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75f6d"/>
                </a:solidFill>
                <a:latin typeface="Tahoma"/>
              </a:rPr>
              <a:t>1 ДОПУСКИ И ПОСАДКИ ШПОНОЧНЫХ СОЕДИНЕНИЙ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76320" y="121932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Шпоночное соединение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оединение охватывающей (втулка) и охватываемой (вал) поверхностей с помощью соединительного звена (шпонки) с целью) передачи крутящего момента или фиксации относительного положения деталей при осевом перемещен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Применени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соединений  с валами зубчатых колёс, шкивов ременных передач, маховиков, муфт и других деталей машин, когда к точности центрирования соединяемых деталей не предъявляют высоких требован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СОЕДИНЕНИЕ С СЕГМЕНТНЫМИ ШПОНКАМИ (ГОСТ 24071-80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76320" y="175248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Размеры шпонок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готавливаются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 ширине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 полем допуска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9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 высоте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 полем допуска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 диаметру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 полем допуска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убина паза у вала под шпонку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ётся размером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едпочтительн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ил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-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убина паза у отверстия под шпонку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размером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+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едпочтительн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СОЕДИНЕНИЕ С СЕГМЕНТНЫМИ ШПОНКАМИ (ГОСТ 24071-80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3" name="Rectangle 3"/>
          <p:cNvSpPr/>
          <p:nvPr/>
        </p:nvSpPr>
        <p:spPr>
          <a:xfrm>
            <a:off x="76320" y="175248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садк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выполняют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системе вал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ширине для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едпочтительного примен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становлено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два варианта соединени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rcRect l="21118" t="39149" r="41445" b="-96"/>
          <a:stretch/>
        </p:blipFill>
        <p:spPr>
          <a:xfrm>
            <a:off x="1143000" y="3962520"/>
            <a:ext cx="3276720" cy="2844720"/>
          </a:xfrm>
          <a:prstGeom prst="rect">
            <a:avLst/>
          </a:prstGeom>
          <a:ln w="0">
            <a:noFill/>
          </a:ln>
        </p:spPr>
      </p:pic>
      <p:grpSp>
        <p:nvGrpSpPr>
          <p:cNvPr id="695" name=""/>
          <p:cNvGrpSpPr/>
          <p:nvPr/>
        </p:nvGrpSpPr>
        <p:grpSpPr>
          <a:xfrm>
            <a:off x="4952880" y="4062240"/>
            <a:ext cx="3048120" cy="2643480"/>
            <a:chOff x="4952880" y="4062240"/>
            <a:chExt cx="3048120" cy="2643480"/>
          </a:xfrm>
        </p:grpSpPr>
        <p:pic>
          <p:nvPicPr>
            <p:cNvPr id="696" name="" descr=""/>
            <p:cNvPicPr/>
            <p:nvPr/>
          </p:nvPicPr>
          <p:blipFill>
            <a:blip r:embed="rId2"/>
            <a:srcRect l="59865" t="25544" r="0" b="4962"/>
            <a:stretch/>
          </p:blipFill>
          <p:spPr>
            <a:xfrm>
              <a:off x="5019840" y="4062240"/>
              <a:ext cx="2981160" cy="264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4952880" y="5105520"/>
              <a:ext cx="304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СОЕДИНЕНИЕ С СЕГМЕНТНЫМИ ШПОНКАМИ (ГОСТ 24071-80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9" name="Rectangle 3"/>
          <p:cNvSpPr/>
          <p:nvPr/>
        </p:nvSpPr>
        <p:spPr>
          <a:xfrm>
            <a:off x="76320" y="16002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условном обозначени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гментной шпонки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казываю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д исполнения (кроме исполнения 1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мер сеч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×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ндар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Пример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ное обозначение сегментной шпонки </a:t>
            </a: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исполнения 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ечени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×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=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×6,5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м: шпонка 5×6,5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ГОСТ 24071-8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 для шпонки </a:t>
            </a: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исполнения 2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чени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×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×5,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м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понка 2-5×5,2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ГОСТ 24071-8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75f6d"/>
                </a:solidFill>
                <a:latin typeface="Tahoma"/>
              </a:rPr>
              <a:t>2 ДОПУСКИ И ПОСАДКИ ШЛИЦЕВЫХ СОЕДИНЕНИЙ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1" name="Rectangle 3"/>
          <p:cNvSpPr/>
          <p:nvPr/>
        </p:nvSpPr>
        <p:spPr>
          <a:xfrm>
            <a:off x="76320" y="175248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Шлицевые соединения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оединения, состоящие из охватывающей (втулка) и охватываемой (вал) поверхностей, имеющих продольные, расположенные параллельно оси соединения, и по окружности шлицы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ямобочного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прямоугольного),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вольвентног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еугольног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офил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ГЕОМЕТРИЧЕСКИЕ ПАРАМЕТРЫ ШЛИЦЕВЫХ ПРЯМОБОЧНЫХ СОЕДИНЕНИЙ (ГОСТ 1139-80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76320" y="2514600"/>
            <a:ext cx="8534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ные парамет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ло зубьев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жный диаметр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утренний диаметр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ирина шлицов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5181480" y="2286000"/>
            <a:ext cx="3124080" cy="3581280"/>
            <a:chOff x="5181480" y="2286000"/>
            <a:chExt cx="3124080" cy="3581280"/>
          </a:xfrm>
        </p:grpSpPr>
        <p:sp>
          <p:nvSpPr>
            <p:cNvPr id="705" name=""/>
            <p:cNvSpPr/>
            <p:nvPr/>
          </p:nvSpPr>
          <p:spPr>
            <a:xfrm>
              <a:off x="6553080" y="5638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5181480" y="2286000"/>
              <a:ext cx="3124080" cy="3581280"/>
              <a:chOff x="5181480" y="2286000"/>
              <a:chExt cx="3124080" cy="3581280"/>
            </a:xfrm>
          </p:grpSpPr>
          <p:grpSp>
            <p:nvGrpSpPr>
              <p:cNvPr id="707" name=""/>
              <p:cNvGrpSpPr/>
              <p:nvPr/>
            </p:nvGrpSpPr>
            <p:grpSpPr>
              <a:xfrm>
                <a:off x="5181480" y="2286000"/>
                <a:ext cx="3124080" cy="3124080"/>
                <a:chOff x="5181480" y="2286000"/>
                <a:chExt cx="3124080" cy="3124080"/>
              </a:xfrm>
            </p:grpSpPr>
            <p:pic>
              <p:nvPicPr>
                <p:cNvPr id="708" name="" descr=""/>
                <p:cNvPicPr/>
                <p:nvPr/>
              </p:nvPicPr>
              <p:blipFill>
                <a:blip r:embed="rId1"/>
                <a:srcRect l="472" t="0" r="65102" b="4477"/>
                <a:stretch/>
              </p:blipFill>
              <p:spPr>
                <a:xfrm>
                  <a:off x="5181480" y="2286000"/>
                  <a:ext cx="3124080" cy="312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9" name=""/>
                <p:cNvSpPr/>
                <p:nvPr/>
              </p:nvSpPr>
              <p:spPr>
                <a:xfrm>
                  <a:off x="6451200" y="3124080"/>
                  <a:ext cx="330480" cy="28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ffffff"/>
                      </a:solidFill>
                      <a:latin typeface="Tahoma"/>
                    </a:rPr>
                    <a:t>d</a:t>
                  </a: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71840" y="3048120"/>
                  <a:ext cx="114300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stealth" w="med"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11" name=""/>
              <p:cNvSpPr/>
              <p:nvPr/>
            </p:nvSpPr>
            <p:spPr>
              <a:xfrm>
                <a:off x="6553080" y="480060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933960" y="480060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629040" y="5334120"/>
                <a:ext cx="228600" cy="24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3"/>
          <p:cNvSpPr/>
          <p:nvPr/>
        </p:nvSpPr>
        <p:spPr>
          <a:xfrm>
            <a:off x="76320" y="2666880"/>
            <a:ext cx="8534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Число зубье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чётное (6, 8, 10, 12, 16, 20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лина шлицо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ределяется длиной сопрягаемого отверстия (</a:t>
            </a:r>
            <a:r>
              <a:rPr b="1" i="1" lang="en-US" sz="2800" spc="-1" strike="noStrike">
                <a:solidFill>
                  <a:srgbClr val="009900"/>
                </a:solidFill>
                <a:latin typeface="Tahoma"/>
              </a:rPr>
              <a:t>наприме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ступицы); если ступица подвижная – величиной её перемещ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Rectangle 2"/>
          <p:cNvSpPr/>
          <p:nvPr/>
        </p:nvSpPr>
        <p:spPr>
          <a:xfrm>
            <a:off x="76320" y="0"/>
            <a:ext cx="8762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ГЕОМЕТРИЧЕСКИЕ ПАРАМЕТРЫ ШЛИЦЕВЫХ ПРЯМОБОЧНЫХ СОЕДИНЕНИЙ (ГОСТ 1139-80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3"/>
          <p:cNvSpPr/>
          <p:nvPr/>
        </p:nvSpPr>
        <p:spPr>
          <a:xfrm>
            <a:off x="76320" y="1905120"/>
            <a:ext cx="8534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В зависимости от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передаваемого крутящего момента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ahoma"/>
              </a:rPr>
              <a:t>Лёгкая серия соединений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имеет наименьшие числа и высоту шлицов, применяется для неподвижных или слабо нагруженных соединений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ahoma"/>
              </a:rPr>
              <a:t>Средняя серия соединений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имеет большие по сравнению с лёгкой серией числа и высоту шлицов и рекомендуется для средненагруженных соединений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ahoma"/>
              </a:rPr>
              <a:t>Тяжёлая серия соединений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– предназначена для наиболее тяжёлых условий работы и имеет наибольшие числа и высоты зубьев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Rectangle 2"/>
          <p:cNvSpPr/>
          <p:nvPr/>
        </p:nvSpPr>
        <p:spPr>
          <a:xfrm>
            <a:off x="76320" y="0"/>
            <a:ext cx="8762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ГЕОМЕТРИЧЕСКИЕ ПАРАМЕТРЫ ШЛИЦЕВЫХ ПРЯМОБОЧНЫХ СОЕДИНЕНИЙ (ГОСТ 1139-80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76320" y="0"/>
            <a:ext cx="8762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СПОСОБЫ ЦЕНТРИРОВАНИЯ ШЛИЦЕВЫХ ПРЯМОБОЧНЫХ СОЕДИНЕНИЙ (ГОСТ 1139-80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6320" y="2117880"/>
            <a:ext cx="8762760" cy="4432320"/>
            <a:chOff x="76320" y="2117880"/>
            <a:chExt cx="8762760" cy="4432320"/>
          </a:xfrm>
        </p:grpSpPr>
        <p:pic>
          <p:nvPicPr>
            <p:cNvPr id="720" name="" descr=""/>
            <p:cNvPicPr/>
            <p:nvPr/>
          </p:nvPicPr>
          <p:blipFill>
            <a:blip r:embed="rId1"/>
            <a:stretch/>
          </p:blipFill>
          <p:spPr>
            <a:xfrm>
              <a:off x="76320" y="3352680"/>
              <a:ext cx="8686800" cy="319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304920" y="2117880"/>
              <a:ext cx="28954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По наружному диаметру 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276720" y="2117880"/>
              <a:ext cx="28954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По внутреннему диаметру 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77120" y="2117880"/>
              <a:ext cx="236196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По ширине шлица 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ДОПУСКИ И ПОСАДКИ ШЛИЦЕВЫХ ПРЯМОБОЧНЫХ СОЕДИНЕНИЙ</a:t>
            </a:r>
            <a:br>
              <a:rPr sz="3600"/>
            </a:b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(ГОСТ 25347-82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76320" y="175248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Точность размеров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пределяетс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ыбором центрирующей поверхности шлицевых соединений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ентрирующие диаметры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втулки и вала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6, 7, 8-й квалите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центрирующие диаметры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втулки и вала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1, 12-й квалите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змер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ширине паза втулки и вала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8, 9, 10-й квалите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по ширине шлица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7, 8, 9-й квалите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3"/>
          <p:cNvSpPr/>
          <p:nvPr/>
        </p:nvSpPr>
        <p:spPr>
          <a:xfrm>
            <a:off x="76320" y="1676520"/>
            <a:ext cx="85341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сад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 размерам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олняют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истеме отверст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что позволяет сократить номенклатуру дорогостоящих протяжек, применяемых для обработки шлицевых отверст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садки по ширине шлиц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подавляющем большинстве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несистемн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что обеспечивает достаточную величину зазора для компенсации погрешностей формы и расположения элементов шлицевых деталей по всей их длин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ДОПУСКИ И ПОСАДКИ ШЛИЦЕВЫХ ПРЯМОБОЧНЫХ СОЕДИНЕНИЙ</a:t>
            </a:r>
            <a:br>
              <a:rPr sz="3600"/>
            </a:b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(ГОСТ 25347-82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ДОПУСКИ И ПОСАДКИ ШПОНОЧНЫХ СОЕДИНЕНИЙ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76320" y="175248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зависимости от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еометрической формы шпонок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единения разделяют н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зматически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егментны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иновы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ангенциальны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ДОПУСКИ И ПОСАДКИ ШЛИЦЕВЫХ ПРЯМОБОЧНЫХ СОЕДИНЕНИЙ</a:t>
            </a:r>
            <a:br>
              <a:rPr sz="3600"/>
            </a:b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(ГОСТ 25347-82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rcRect l="596" t="0" r="0" b="0"/>
          <a:stretch/>
        </p:blipFill>
        <p:spPr>
          <a:xfrm>
            <a:off x="914400" y="1871640"/>
            <a:ext cx="7238880" cy="498492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3"/>
          <p:cNvSpPr/>
          <p:nvPr/>
        </p:nvSpPr>
        <p:spPr>
          <a:xfrm>
            <a:off x="76320" y="1447920"/>
            <a:ext cx="85341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имеры выбора посадо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ОБОЗНАЧЕНИЕ ШЛИЦЕВЫХ ПРЯМОБОЧНЫХ СОЕДИНЕНИЙ НА ЧЕРТЕЖА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76320" y="1676520"/>
            <a:ext cx="85341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означение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лицевых прямобочных соединений, валов и втулок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олжно содержа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кву, обозначающую поверхность центрировани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ло зубье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минальные размеры параметро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, D, b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значения полей допусков и посадок параметро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, D, b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помещаемых после соответствующих размер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2"/>
          <p:cNvSpPr/>
          <p:nvPr/>
        </p:nvSpPr>
        <p:spPr>
          <a:xfrm>
            <a:off x="76320" y="0"/>
            <a:ext cx="8762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ОБОЗНАЧЕНИЕ ШЛИЦЕВЫХ ПРЯМОБОЧНЫХ СОЕДИНЕНИЙ НА ЧЕРТЕЖА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9343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3"/>
          <p:cNvSpPr/>
          <p:nvPr/>
        </p:nvSpPr>
        <p:spPr>
          <a:xfrm>
            <a:off x="76320" y="1676520"/>
            <a:ext cx="85341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Пример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лицевое прямобочное соединение с </a:t>
            </a: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центрированием по внутреннему диаметр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с числом зубьев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z=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утренним диаметром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=3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наружным диаметром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=40 м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шириной зуб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=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7 м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с посадкой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 диаметру центрирования Н8/е8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 размеру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/е8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– 8 × 36 Н8/е8 × 40 Н12/а11 × 7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/е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Rectangle 2"/>
          <p:cNvSpPr/>
          <p:nvPr/>
        </p:nvSpPr>
        <p:spPr>
          <a:xfrm>
            <a:off x="76320" y="0"/>
            <a:ext cx="8762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ОБОЗНАЧЕНИЕ ШЛИЦЕВЫХ ПРЯМОБОЧНЫХ СОЕДИНЕНИЙ НА ЧЕРТЕЖА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3"/>
          <p:cNvSpPr/>
          <p:nvPr/>
        </p:nvSpPr>
        <p:spPr>
          <a:xfrm>
            <a:off x="76320" y="1676520"/>
            <a:ext cx="85341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Пример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лицевое прямобочное соединение с </a:t>
            </a: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центрированием по наружному диаметр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с числом зубьев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z=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утренним диаметром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=3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наружным диаметром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=40 м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шириной зуб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=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7 м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осадкой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 диаметру центрирования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7/h7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 размеру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/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– 8 × 36 × 40 Н7/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7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× 7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/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Rectangle 2"/>
          <p:cNvSpPr/>
          <p:nvPr/>
        </p:nvSpPr>
        <p:spPr>
          <a:xfrm>
            <a:off x="76320" y="0"/>
            <a:ext cx="8762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ОБОЗНАЧЕНИЕ ШЛИЦЕВЫХ ПРЯМОБОЧНЫХ СОЕДИНЕНИЙ НА ЧЕРТЕЖА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3"/>
          <p:cNvSpPr/>
          <p:nvPr/>
        </p:nvSpPr>
        <p:spPr>
          <a:xfrm>
            <a:off x="76320" y="1676520"/>
            <a:ext cx="85341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Пример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лицевое прямобочное соединение с </a:t>
            </a: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центрированием по боковым сторона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с числом зубьев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z=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утренним диаметром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=3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наружным диаметром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=40 м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шириной зуб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=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7 м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осадкой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 размеру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/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– 8 × 36 × 40 × 7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/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Rectangle 2"/>
          <p:cNvSpPr/>
          <p:nvPr/>
        </p:nvSpPr>
        <p:spPr>
          <a:xfrm>
            <a:off x="76320" y="0"/>
            <a:ext cx="8762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ОБОЗНАЧЕНИЕ ШЛИЦЕВЫХ ПРЯМОБОЧНЫХ СОЕДИНЕНИЙ НА ЧЕРТЕЖА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3"/>
          <p:cNvSpPr/>
          <p:nvPr/>
        </p:nvSpPr>
        <p:spPr>
          <a:xfrm>
            <a:off x="76320" y="167652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Пример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ное обозначение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шлицевой втулк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го же соединения при </a:t>
            </a: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центрировании по внутреннему диаметр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– 8 × 36 Н8 × 40 Н12 × 7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ное обозначение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шлицевого вал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го же соединения при </a:t>
            </a: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центрировании по внутреннему диаметр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– 8 × 36 е8 × 40 а11 × 7 е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2" name="Rectangle 2"/>
          <p:cNvSpPr/>
          <p:nvPr/>
        </p:nvSpPr>
        <p:spPr>
          <a:xfrm>
            <a:off x="76320" y="0"/>
            <a:ext cx="8762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ОБОЗНАЧЕНИЕ ШЛИЦЕВЫХ ПРЯМОБОЧНЫХ СОЕДИНЕНИЙ НА ЧЕРТЕЖА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ГЕОМЕТРИЧЕСКИЕ ПАРАМЕТРЫ ШЛИЦЕВЫХ ЭВОЛЬВЕНТНЫХ СОЕДИНЕНИЙ (ГОСТ 6033-80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76320" y="160020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ные парамет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жный диаметр зубьев, номинальный диаметр соединения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дуль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ло зубьев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ол профиля </a:t>
            </a:r>
            <a:r>
              <a:rPr b="1" i="1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30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rcRect l="1556" t="1631" r="0" b="0"/>
          <a:stretch/>
        </p:blipFill>
        <p:spPr>
          <a:xfrm>
            <a:off x="1752480" y="4419720"/>
            <a:ext cx="48769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ГЕОМЕТРИЧЕСКИЕ ПАРАМЕТРЫ ШЛИЦЕВЫХ ЭВОЛЬВЕНТНЫХ СОЕДИНЕНИЙ (ГОСТ 6033-80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76320" y="175248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447920" y="1574640"/>
            <a:ext cx="57909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3"/>
          <p:cNvSpPr/>
          <p:nvPr/>
        </p:nvSpPr>
        <p:spPr>
          <a:xfrm>
            <a:off x="76320" y="16002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пособы центрирования вала и втул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 боковым поверхностям зубьев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наиболее распространённый способ, т.к. достигается хорошая соосность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 наружному диаметру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используется, когда необходима высокая точность вращения деталей, посаженных на шлицевой вал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 внутреннему диаметру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не рекомендуется из-за технологических трудностей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ДОПУСКИ И ПОСАДКИ ШЛИЦЕВЫХ ЭВОЛЬВЕНТНЫХ СОЕДИНЕНИЙ</a:t>
            </a:r>
            <a:br>
              <a:rPr sz="3600"/>
            </a:b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 (ГОСТ 6033-80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ДОПУСКИ И ПОСАДКИ ШПОНОЧНЫХ СОЕДИНЕНИЙ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76320" y="175248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пряжённых соединения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которые способны передавать вращающий момент и осевую нагрузку, используют клиновые шпон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напряжённые соединен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, передающие только крутящий момент, выполняют с призматическими и сегментными шпонка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ДОПУСКИ И ПОСАДКИ ШЛИЦЕВЫХ ЭВОЛЬВЕНТНЫХ СОЕДИНЕНИЙ</a:t>
            </a:r>
            <a:br>
              <a:rPr sz="3600"/>
            </a:b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 (ГОСТ 6033-80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2" name="Rectangle 3"/>
          <p:cNvSpPr/>
          <p:nvPr/>
        </p:nvSpPr>
        <p:spPr>
          <a:xfrm>
            <a:off x="76320" y="175248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имеры выбора посадо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152280" y="2360520"/>
            <a:ext cx="861084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ОБОЗНАЧЕНИЕ ШЛИЦЕВЫХ ЭВОЛЬВЕНТНЫХ СОЕДИНЕНИЙ НА ЧЕРТЕЖА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76320" y="1676520"/>
            <a:ext cx="85341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означение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лицевых эвольвентных соединений, валов и втулок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олжно содержа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минальный диаметр соедин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дуль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я допусков вала и втулк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адки, помещаемые после размеров центрирующих элементо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значение стандарта на эвольвентные шлицевые соедин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76320" y="0"/>
            <a:ext cx="8762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ОБОЗНАЧЕНИЕ ШЛИЦЕВЫХ ЭВОЛЬВЕНТНЫХ СОЕДИНЕНИЙ НА ЧЕРТЕЖА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3818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ОБОЗНАЧЕНИЕ ШЛИЦЕВЫХ ЭВОЛЬВЕНТНЫХ СОЕДИНЕНИЙ НА ЧЕРТЕЖА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76320" y="1676520"/>
            <a:ext cx="85341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Пример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единен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=50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м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=2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с </a:t>
            </a: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центрированием по боковым сторонам зубье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0 × 2 × 9Н/9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ОСТ 6033-8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шлицевой втулк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0 × 2 × 9Н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ОСТ 6033-8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шлицевого вал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0 × 2 × 9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ОСТ 6033-8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ОБОЗНАЧЕНИЕ ШЛИЦЕВЫХ ЭВОЛЬВЕНТНЫХ СОЕДИНЕНИЙ НА ЧЕРТЕЖА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76320" y="1676520"/>
            <a:ext cx="85341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Пример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единен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=50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м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=2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с </a:t>
            </a: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центрированием по наружному диаметр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0 × Н7/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× 2 ГОСТ 6033-8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втулк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0 × Н7 × 2 ГОСТ 6033-8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вал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0 ×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6 × 2 ГОСТ 6033-8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ОБОЗНАЧЕНИЕ ШЛИЦЕВЫХ ЭВОЛЬВЕНТНЫХ СОЕДИНЕНИЙ НА ЧЕРТЕЖА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76320" y="1676520"/>
            <a:ext cx="85341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Пример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единен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=50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м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=2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с </a:t>
            </a: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центрированием по внутреннему диаметр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0 × 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×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7/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ОСТ 6033-8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втулк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0 × 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×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7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ОСТ 6033-8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вал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0 × 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×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g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ОСТ 6033-8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22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СОЕДИНЕНИЕ С ПРИЗМАТИЧЕСКИМИ ШПОНКАМИ (ГОСТ 23360-78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76320" y="175248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05920" cy="58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2133720" y="4419720"/>
            <a:ext cx="5333400" cy="2514240"/>
            <a:chOff x="2133720" y="4419720"/>
            <a:chExt cx="5333400" cy="2514240"/>
          </a:xfrm>
        </p:grpSpPr>
        <p:pic>
          <p:nvPicPr>
            <p:cNvPr id="676" name="" descr=""/>
            <p:cNvPicPr/>
            <p:nvPr/>
          </p:nvPicPr>
          <p:blipFill>
            <a:blip r:embed="rId1">
              <a:biLevel thresh="50000"/>
              <a:lum contrast="18000"/>
            </a:blip>
            <a:srcRect l="331" t="164" r="0" b="36562"/>
            <a:stretch/>
          </p:blipFill>
          <p:spPr>
            <a:xfrm>
              <a:off x="2133720" y="4419720"/>
              <a:ext cx="533340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4565880" y="6649560"/>
              <a:ext cx="405000" cy="28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СОЕДИНЕНИЕ С ПРИЗМАТИЧЕСКИМИ ШПОНКАМИ (ГОСТ 23360-78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76320" y="114300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ahoma"/>
              </a:rPr>
              <a:t>Размеры шпонок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изготавливаются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по ширине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с полем допуска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h9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по высоте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с полем допуска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(при высоте шпонки 2…6 мм – по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9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),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по длине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с полем допуска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14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Глубина паза у вала под шпонку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задаётся размером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предпочтительно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) или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-t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глубина паза у отверстия под шпонку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– размером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+t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предпочтительно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3"/>
          <p:cNvSpPr/>
          <p:nvPr/>
        </p:nvSpPr>
        <p:spPr>
          <a:xfrm>
            <a:off x="76320" y="16002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лину пазов вала и отверст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 шпонку изготавливают с полем допуск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15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лубину пазов вала и втулк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с полем допуск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пазах вал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неподвижная посад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чтобы шпонка не выпадала при монтаже и не передвигалась при эксплуатац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о втулк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одвижная посад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чтобы компенсировать неизбежные погрешности размеров, формы и расположения паз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садк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выполняют только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системе вал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СОЕДИНЕНИЕ С ПРИЗМАТИЧЕСКИМИ ШПОНКАМИ (ГОСТ 23360-78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СОЕДИНЕНИЕ С ПРИЗМАТИЧЕСКИМИ ШПОНКАМИ (ГОСТ 23360-78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763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Три вида соедин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я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едпочтительного примен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rcRect l="325" t="0" r="40144" b="-96"/>
          <a:stretch/>
        </p:blipFill>
        <p:spPr>
          <a:xfrm>
            <a:off x="1752480" y="2514600"/>
            <a:ext cx="556272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СОЕДИНЕНИЕ С ПРИЗМАТИЧЕСКИМИ ШПОНКАМИ (ГОСТ 23360-78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76320" y="152388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условном обозначени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зматической шпонки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казываю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д исполнения (кроме исполнения 1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меры шпонк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ндар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Пример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ное обозначение для шпонки </a:t>
            </a: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исполнения 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 размерам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=18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м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=11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м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=10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м: шпонк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8×11×100 ГОСТ 23360-78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шпонки </a:t>
            </a: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исполнения 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понк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-18×11×100 ГОСТ 23360-78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3"/>
          <p:cNvSpPr/>
          <p:nvPr/>
        </p:nvSpPr>
        <p:spPr>
          <a:xfrm>
            <a:off x="76320" y="175248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5f6d"/>
                </a:solidFill>
                <a:latin typeface="Tahoma"/>
              </a:rPr>
              <a:t>СОЕДИНЕНИЕ С СЕГМЕНТНЫМИ ШПОНКАМИ (ГОСТ 24071-80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228600" y="1101600"/>
            <a:ext cx="84582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4-14T09:54:34Z</dcterms:modified>
  <cp:revision>3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