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C72-0DA3-4C6A-B727-E2E23EF3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891-62D2-49A4-BAB6-09F480FA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86C-24A4-4588-885E-14643E20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EE0-101C-4703-BFFF-007FA3AD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FE5E-FB17-4CFC-920D-50EE2DA6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16E3-CAF0-431F-8053-A1ECE693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3B97-F2F0-4243-A65F-08F43CCE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BA3A-11BC-4AA3-AA4E-9AB4FB63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D66D-3A4B-4ED1-88A2-D0F4861E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6D84-6FE0-4A3E-9B6A-3EB0A1FB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6F67-5E68-4F5F-A907-B20D23D4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6C5-E96C-4A02-9C51-76DF2465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D884-8E5F-43E9-9C29-23125145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5CD9-CEB4-4F41-AB35-A585B269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0731-CE9A-4036-9508-E38FD042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90AC-9DA3-475C-903A-200FF3FC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EB2F-BBE5-4D10-AD54-D505C35E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BCF-CE1C-4AF5-A600-83AB84D0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B1B-E9A4-4C5B-8A7B-0D09753C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794-B426-4030-9D51-F4CA4FB6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E2E-A5E0-4E70-9B87-5F7AFF9C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946-EE0C-4D07-B7AB-B3477F5C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CAA-F1FF-4146-A707-B1197BD0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F4A-0AF0-4ACC-9F8F-FFC88272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5CCA-A50D-449D-8DAC-D53D3E8C8B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CA9F-DB5A-430A-85B5-24332D491C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125360"/>
            <a:ext cx="86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НОРМИРОВАНИЕ ТОЧНОСТИ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И КОНТРОЛЬ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ЗУБЧАТЫХ КОЛЕС И ПЕРЕДАЧ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3 Система допусков цилиндрических зубчатых колес и передач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ормами кинематической точности колес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имитируются степень несогласованности поворота ведомого колеса при его зацеплении с точно изготовленным ведущим колесом. Эти нормы особенно важны в различных следящих системах, делительных механизмах и т.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64A-E188-4874-A9BF-972C1B0C55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2920" cy="9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3.1 Нормы кинематической точно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4249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кинематическая погрешность передачи </a:t>
            </a:r>
            <a:r>
              <a:rPr b="1" i="1" lang="en-US" sz="2400" spc="-1" strike="noStrike">
                <a:solidFill>
                  <a:srgbClr val="0000ff"/>
                </a:solidFill>
                <a:latin typeface="Tahoma"/>
              </a:rPr>
              <a:t>F</a:t>
            </a:r>
            <a:r>
              <a:rPr b="1" i="1" lang="ru-RU" sz="2400" spc="-1" strike="noStrike" baseline="-25000">
                <a:solidFill>
                  <a:srgbClr val="0000ff"/>
                </a:solidFill>
                <a:latin typeface="Tahoma"/>
              </a:rPr>
              <a:t>кпп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разность между действительным и номинальным (расчетным) углами поворота ведомого зубчатого колеса передачи, выраженную в линейных величинах длиной дуги его делительной окруж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27640" y="2133720"/>
            <a:ext cx="4716360" cy="37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CEF-FDD6-4094-9A6F-716E45C4BC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932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3.1 Нормы кинематической точно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136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Наибольшая кинематическая погрешность передачи </a:t>
            </a:r>
            <a:r>
              <a:rPr b="1" i="1" lang="en-US" sz="2400" spc="-1" strike="noStrike">
                <a:solidFill>
                  <a:srgbClr val="0000ff"/>
                </a:solidFill>
                <a:latin typeface="Tahoma"/>
              </a:rPr>
              <a:t>F </a:t>
            </a:r>
            <a:r>
              <a:rPr b="1" i="1" lang="en-US" sz="2400" spc="-1" strike="noStrike" baseline="30000">
                <a:solidFill>
                  <a:srgbClr val="0000ff"/>
                </a:solidFill>
                <a:latin typeface="Tahoma"/>
              </a:rPr>
              <a:t>‘</a:t>
            </a:r>
            <a:r>
              <a:rPr b="1" i="1" lang="en-US" sz="2400" spc="-1" strike="noStrike" baseline="-25000">
                <a:solidFill>
                  <a:srgbClr val="0000ff"/>
                </a:solidFill>
                <a:latin typeface="Tahoma"/>
              </a:rPr>
              <a:t>io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наибольшая алгебраическая разность кинематической погрешности передачи за полный цикл изменения относительного положения зубчатых колес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C2F-462A-48F9-B266-48668AA290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932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3.1 Нормы кинематической точно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4652640"/>
            <a:ext cx="8351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Наибольшая кинематическая погрешность зубчатого колеса </a:t>
            </a:r>
            <a:r>
              <a:rPr b="1" i="1" lang="en-US" sz="2400" spc="-1" strike="noStrike">
                <a:solidFill>
                  <a:srgbClr val="0000ff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′</a:t>
            </a:r>
            <a:r>
              <a:rPr b="1" i="1" lang="en-US" sz="2400" spc="-1" strike="noStrike" baseline="-25000">
                <a:solidFill>
                  <a:srgbClr val="0000ff"/>
                </a:solidFill>
                <a:latin typeface="Tahoma"/>
              </a:rPr>
              <a:t>i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наибольшая алгебраическая разность значений кинематической погрешности зубчатого колеса в пределах его полного оборота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DA0-D523-494B-9C99-B5F6255C42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25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58C-5CB3-442C-BD97-5817AA36F7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1 Классификация зубчатых передач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ahoma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своему </a:t>
            </a:r>
            <a:r>
              <a:rPr b="1" i="1" lang="en-US" sz="2400" spc="-1" strike="noStrike">
                <a:solidFill>
                  <a:srgbClr val="cc3300"/>
                </a:solidFill>
                <a:latin typeface="Tahoma"/>
              </a:rPr>
              <a:t>назначению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убчатые передачи можно разделить на четыре группы: отсчетные, силовые, скоростные, общего назнач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Отсчетные (кинематические) передачи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аще всего используются в измерительных приборах, часах, счетно-решающих машинах, различных делительных механизмах. Т. е. там, где требуется высокая согласованность углов поворота ведомого и ведущего колес и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основным показателем является высокая кинематическая точ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108-CE61-40A5-9D63-9C16891BCC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1 Классификация зубчатых передач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Силовые передачи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ередают большие усилия при небольших скоростях вращения. Зубчатые колеса изготавливают с большой длиной зуба и большим модулем. При работе таких колес должна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максимально использоваться площадь контакта зубье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что и является основным эксплуатационным требованием к этим передача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663-2D3C-450D-85E4-46E1E8C80B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1 Классификация зубчатых передач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83360" cy="42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Скоростные передачи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спользуются в передачах с большими окружными скоростями (более 100 м/с). Такие передачи должны работать без вибраций и шума. Основное требование к ним —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плавность работ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которая достигается высокой точностью изготовления формы и взаимного расположения зубьев коле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ередачи общего назначения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ередают малые нагрузки при невысоких окружных скоростях (до 10 м/с). К их точности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высокие требования не предъявляю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532-2674-401D-9594-60EA49A7B7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2 Основные параметры зубчатого колес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64072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57A-373B-4CE8-B37D-0FBB1F6D33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2 Основные параметры зубчатого колес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филь зубчатого колеса соответствуют требованиям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ГОСТ 13755 — 8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который устанавливает форму и размер исходного контура зубчатого колеса, угол главного профиля и коэффициенты исходного контур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гол главного профиля α = 20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эффициент высоты головки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1 (о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модуль зацепления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эффициент высоты ножки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,25 (о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одуль зацепления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D26-2160-40CE-A083-067CEDC394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2 Основные параметры зубчатого колес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эффициент граничной высоты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 (о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одуль зацепления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эффициент радиуса кривизны переходной кривой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0,38 (о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одуль зацепления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эффициент глубины захода зубьев в паре исходных контуров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w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=2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о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одуль зацепления)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эффициент радиального зазора в паре исходных контуро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0,25 (о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одуль зацепления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BFE-A16A-4A0E-84B9-F31063B31A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20280"/>
            <a:ext cx="77929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3 Система допусков цилиндрических зубчатых колес и передач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чностные требования к колесам, регламентируемые ГОСТ 1643 — 81, устанавливаются исходя из назначения и основных эксплуатационных показателей колес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стема допусков для различных видов передач строится по одним и тем же признака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53D-21C9-4F79-8E4C-A0ED8E6CEC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849-752B-4E8F-9574-5A5128A88C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05:46:27Z</dcterms:created>
  <dc:creator>Worker</dc:creator>
  <dc:description/>
  <dc:language>en-US</dc:language>
  <cp:lastModifiedBy>1</cp:lastModifiedBy>
  <dcterms:modified xsi:type="dcterms:W3CDTF">2009-04-14T09:57:10Z</dcterms:modified>
  <cp:revision>7</cp:revision>
  <dc:subject/>
  <dc:title>НОРМИРОВАНИЕ ТОЧНОСТИ И КОНТРОЛЬ  ЗУБЧАТЫХ КОЛЕС И ПЕРЕДАЧ</dc:title>
</cp:coreProperties>
</file>