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84F-2B34-4F98-94A9-13C2027D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DBB-0C93-4FA6-B87E-6F29A730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C3D-611C-4409-9112-6FFA977B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0B7-FE67-4330-B5B0-E8B7909F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DD84-CB3A-479A-BA68-B8E76111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AD39-239C-4817-9D09-E369B182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E79D-E304-4440-9505-A3B875AA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4775-2E2C-4404-909F-CDF95E31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F0CA-2E5D-40AE-BC12-B1E9B8BD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D3DC-FC46-47B3-ABEF-94890040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A043-C587-459C-95E0-9A003607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7DF-C3FE-49E4-B81F-7B68771A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3DC8-9169-4F51-9626-776723EF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05FE-25AE-453C-B52A-210641A2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9CD9-4955-4010-AFAE-B377D28C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C48E-3520-4E95-98DD-DFAE1848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66E1-976C-4EA7-BEC4-EBD4FA99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8552B-5637-4465-8675-3A4BA887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6AD53-0482-4ADE-875A-1A1DDF14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D4312-41F1-48D5-8BC8-B66EE9F1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47C4E-388E-4757-AEF7-7109D593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30E52-910A-4CCA-B325-4B6A7712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671-AFDC-4589-BB6A-F56B0F26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248FD-FE07-4940-872A-9DEC9EDC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29418-6E41-499F-BEEB-E5085872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8714E-C00D-46EE-B75E-DDBAF51F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AC0A0-36FA-4D53-A207-43A7A20A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6E259-8690-46B4-A83F-E3108A79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8A4BA-BD11-4EED-8186-1381603A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D0BB-FD36-48D1-A8D8-374AEB98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8E6-A45B-4897-9E93-5038EB59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6FC-9158-49F2-A625-A091233B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079-5907-4C48-A92E-E9DA427A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D6C-F0AA-4CCA-9E01-0408CE6E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D13-D77B-472B-820A-F3BC680F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369-4F42-4D17-AFED-96DFC482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2B47-2C76-4CC2-B91E-492C030187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2D1F-E77B-42DC-9EF6-ED8AEE482A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0132-BDE8-45BF-8A87-4E39519EB1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92504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1 Гладкие калибры и их допус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ahoma"/>
              </a:rPr>
              <a:t>Калибр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бесшкальные измерительные инструменты, предназначенные для контроля размеров элементов деталей, их геометрической формы и взаимного распо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либр определяет не численное значение действительного размера изделия, а его годность по контролируемому разм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ahoma"/>
              </a:rPr>
              <a:t>Однопредельные пробки и скоб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меняют при контроле деталей относительно больших разм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ahoma"/>
              </a:rPr>
              <a:t>Двухсторонние двухпредельные калибр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есколько ускоряют контроль, однако предусмотрены лишь для размеров до 50 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ahoma"/>
              </a:rPr>
              <a:t>Односторонние двухпредельные калибр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двое ускоряют контроль, дешевле, потому рекомендуются к примен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80880" y="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онструкция калибр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380880" y="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онструкция калибр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ahoma"/>
              </a:rPr>
              <a:t>Нерегулируемые калибр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часто применяют вследствие дешевизны и большей то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ahoma"/>
              </a:rPr>
              <a:t>Регулируемые калибр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ОСТ 24851-8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i="1" lang="ru-RU" sz="2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роже и менее жёсткие по сравнению с нерегулируемыми, но весьма удобны для серийных производств, поскольку допускают быстрое восстановление изношенных поверх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ff"/>
                </a:solidFill>
                <a:latin typeface="Tahoma"/>
              </a:rPr>
              <a:t>Основные виды калибров-пробо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rcRect l="3622" t="6019" r="55090" b="86438"/>
          <a:stretch/>
        </p:blipFill>
        <p:spPr>
          <a:xfrm>
            <a:off x="76320" y="2057400"/>
            <a:ext cx="4343400" cy="838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76320" y="914400"/>
            <a:ext cx="47242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сторонние двухпредельные с вставками (1…6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76320" y="4299120"/>
            <a:ext cx="47242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сторонние двухпредельные с вставками (3…50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4876920" y="733320"/>
            <a:ext cx="426708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сторонние однопредельные с вставкой (50…75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4876920" y="4114800"/>
            <a:ext cx="42670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сторонние двухпредельные (6…500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7" name="Группа 12"/>
          <p:cNvGrpSpPr/>
          <p:nvPr/>
        </p:nvGrpSpPr>
        <p:grpSpPr>
          <a:xfrm>
            <a:off x="4724280" y="5105520"/>
            <a:ext cx="4380120" cy="1143000"/>
            <a:chOff x="4724280" y="5105520"/>
            <a:chExt cx="4380120" cy="1143000"/>
          </a:xfrm>
        </p:grpSpPr>
        <p:pic>
          <p:nvPicPr>
            <p:cNvPr id="168" name="Picture 13" descr=""/>
            <p:cNvPicPr/>
            <p:nvPr/>
          </p:nvPicPr>
          <p:blipFill>
            <a:blip r:embed="rId2">
              <a:lum contrast="40000"/>
            </a:blip>
            <a:srcRect l="49099" t="17529" r="7270" b="72420"/>
            <a:stretch/>
          </p:blipFill>
          <p:spPr>
            <a:xfrm>
              <a:off x="4724280" y="5183640"/>
              <a:ext cx="4380120" cy="10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Прямоугольник 11"/>
            <p:cNvSpPr/>
            <p:nvPr/>
          </p:nvSpPr>
          <p:spPr>
            <a:xfrm>
              <a:off x="7391520" y="5105520"/>
              <a:ext cx="8380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" name="Группа 14"/>
          <p:cNvGrpSpPr/>
          <p:nvPr/>
        </p:nvGrpSpPr>
        <p:grpSpPr>
          <a:xfrm>
            <a:off x="5029200" y="1828440"/>
            <a:ext cx="4038480" cy="1143360"/>
            <a:chOff x="5029200" y="1828440"/>
            <a:chExt cx="4038480" cy="1143360"/>
          </a:xfrm>
        </p:grpSpPr>
        <p:pic>
          <p:nvPicPr>
            <p:cNvPr id="171" name="Picture 11" descr=""/>
            <p:cNvPicPr/>
            <p:nvPr/>
          </p:nvPicPr>
          <p:blipFill>
            <a:blip r:embed="rId3">
              <a:lum contrast="40000"/>
            </a:blip>
            <a:srcRect l="8489" t="18677" r="56970" b="72420"/>
            <a:stretch/>
          </p:blipFill>
          <p:spPr>
            <a:xfrm>
              <a:off x="5029200" y="1873440"/>
              <a:ext cx="403848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Прямоугольник 13"/>
            <p:cNvSpPr/>
            <p:nvPr/>
          </p:nvSpPr>
          <p:spPr>
            <a:xfrm flipV="1">
              <a:off x="7467480" y="1828080"/>
              <a:ext cx="3808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3" name="Группа 16"/>
          <p:cNvGrpSpPr/>
          <p:nvPr/>
        </p:nvGrpSpPr>
        <p:grpSpPr>
          <a:xfrm>
            <a:off x="152280" y="5181480"/>
            <a:ext cx="4267440" cy="990720"/>
            <a:chOff x="152280" y="5181480"/>
            <a:chExt cx="4267440" cy="990720"/>
          </a:xfrm>
        </p:grpSpPr>
        <p:pic>
          <p:nvPicPr>
            <p:cNvPr id="174" name="Picture 9" descr=""/>
            <p:cNvPicPr/>
            <p:nvPr/>
          </p:nvPicPr>
          <p:blipFill>
            <a:blip r:embed="rId4"/>
            <a:srcRect l="46060" t="5034" r="7957" b="85746"/>
            <a:stretch/>
          </p:blipFill>
          <p:spPr>
            <a:xfrm>
              <a:off x="152280" y="5268600"/>
              <a:ext cx="4267440" cy="9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Прямоугольник 15"/>
            <p:cNvSpPr/>
            <p:nvPr/>
          </p:nvSpPr>
          <p:spPr>
            <a:xfrm>
              <a:off x="2895840" y="518148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ff"/>
                </a:solidFill>
                <a:latin typeface="Tahoma"/>
              </a:rPr>
              <a:t>Основные виды калибров-пробо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0" y="914400"/>
            <a:ext cx="47242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сторонние двухпредельные с насадками (30…100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" name="Группа 5"/>
          <p:cNvGrpSpPr/>
          <p:nvPr/>
        </p:nvGrpSpPr>
        <p:grpSpPr>
          <a:xfrm>
            <a:off x="0" y="1828800"/>
            <a:ext cx="4599000" cy="1295280"/>
            <a:chOff x="0" y="1828800"/>
            <a:chExt cx="4599000" cy="1295280"/>
          </a:xfrm>
        </p:grpSpPr>
        <p:pic>
          <p:nvPicPr>
            <p:cNvPr id="179" name="Picture 5" descr=""/>
            <p:cNvPicPr/>
            <p:nvPr/>
          </p:nvPicPr>
          <p:blipFill>
            <a:blip r:embed="rId1">
              <a:lum contrast="40000"/>
            </a:blip>
            <a:srcRect l="1820" t="31612" r="47880" b="55755"/>
            <a:stretch/>
          </p:blipFill>
          <p:spPr>
            <a:xfrm>
              <a:off x="0" y="1904760"/>
              <a:ext cx="4599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Прямоугольник 4"/>
            <p:cNvSpPr/>
            <p:nvPr/>
          </p:nvSpPr>
          <p:spPr>
            <a:xfrm>
              <a:off x="2389320" y="1828800"/>
              <a:ext cx="304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1" name="Text Box 7"/>
          <p:cNvSpPr/>
          <p:nvPr/>
        </p:nvSpPr>
        <p:spPr>
          <a:xfrm>
            <a:off x="0" y="4191120"/>
            <a:ext cx="457200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овые двухсторонние двухпредельные (18…100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2" name="Группа 14"/>
          <p:cNvGrpSpPr/>
          <p:nvPr/>
        </p:nvGrpSpPr>
        <p:grpSpPr>
          <a:xfrm>
            <a:off x="4680" y="4876920"/>
            <a:ext cx="4643640" cy="1981080"/>
            <a:chOff x="4680" y="4876920"/>
            <a:chExt cx="4643640" cy="1981080"/>
          </a:xfrm>
        </p:grpSpPr>
        <p:grpSp>
          <p:nvGrpSpPr>
            <p:cNvPr id="183" name="Группа 11"/>
            <p:cNvGrpSpPr/>
            <p:nvPr/>
          </p:nvGrpSpPr>
          <p:grpSpPr>
            <a:xfrm>
              <a:off x="4680" y="4876920"/>
              <a:ext cx="4643640" cy="1981080"/>
              <a:chOff x="4680" y="4876920"/>
              <a:chExt cx="4643640" cy="1981080"/>
            </a:xfrm>
          </p:grpSpPr>
          <p:grpSp>
            <p:nvGrpSpPr>
              <p:cNvPr id="184" name="Группа 9"/>
              <p:cNvGrpSpPr/>
              <p:nvPr/>
            </p:nvGrpSpPr>
            <p:grpSpPr>
              <a:xfrm>
                <a:off x="4680" y="4952880"/>
                <a:ext cx="4643640" cy="1905120"/>
                <a:chOff x="4680" y="4952880"/>
                <a:chExt cx="4643640" cy="1905120"/>
              </a:xfrm>
            </p:grpSpPr>
            <p:pic>
              <p:nvPicPr>
                <p:cNvPr id="185" name="Picture 6" descr=""/>
                <p:cNvPicPr/>
                <p:nvPr/>
              </p:nvPicPr>
              <p:blipFill>
                <a:blip r:embed="rId2">
                  <a:lum contrast="40000"/>
                </a:blip>
                <a:srcRect l="52730" t="30178" r="0" b="51438"/>
                <a:stretch/>
              </p:blipFill>
              <p:spPr>
                <a:xfrm>
                  <a:off x="4680" y="4952880"/>
                  <a:ext cx="4643640" cy="190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Прямоугольник 8"/>
                <p:cNvSpPr/>
                <p:nvPr/>
              </p:nvSpPr>
              <p:spPr>
                <a:xfrm>
                  <a:off x="2290680" y="6477120"/>
                  <a:ext cx="380880" cy="3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7" name="Прямоугольник 10"/>
              <p:cNvSpPr/>
              <p:nvPr/>
            </p:nvSpPr>
            <p:spPr>
              <a:xfrm>
                <a:off x="2062080" y="4876920"/>
                <a:ext cx="45720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8" name="Прямоугольник 12"/>
            <p:cNvSpPr/>
            <p:nvPr/>
          </p:nvSpPr>
          <p:spPr>
            <a:xfrm>
              <a:off x="2062080" y="548640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9" name="Text Box 7"/>
          <p:cNvSpPr/>
          <p:nvPr/>
        </p:nvSpPr>
        <p:spPr>
          <a:xfrm>
            <a:off x="4724280" y="914400"/>
            <a:ext cx="441972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овые двухсторонние двухпредельные (50…300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4724280" y="3921120"/>
            <a:ext cx="441972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сторонние однопредельные неполные с ручкой (50…150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3">
            <a:lum contrast="40000"/>
          </a:blip>
          <a:srcRect l="15150" t="47129" r="56970" b="33779"/>
          <a:stretch/>
        </p:blipFill>
        <p:spPr>
          <a:xfrm>
            <a:off x="5562720" y="1752480"/>
            <a:ext cx="2743200" cy="1981440"/>
          </a:xfrm>
          <a:prstGeom prst="rect">
            <a:avLst/>
          </a:prstGeom>
          <a:ln w="0">
            <a:noFill/>
          </a:ln>
        </p:spPr>
      </p:pic>
      <p:grpSp>
        <p:nvGrpSpPr>
          <p:cNvPr id="192" name="Группа 20"/>
          <p:cNvGrpSpPr/>
          <p:nvPr/>
        </p:nvGrpSpPr>
        <p:grpSpPr>
          <a:xfrm>
            <a:off x="5000760" y="5105520"/>
            <a:ext cx="4143240" cy="1600200"/>
            <a:chOff x="5000760" y="5105520"/>
            <a:chExt cx="4143240" cy="1600200"/>
          </a:xfrm>
        </p:grpSpPr>
        <p:pic>
          <p:nvPicPr>
            <p:cNvPr id="193" name="Picture 8" descr=""/>
            <p:cNvPicPr/>
            <p:nvPr/>
          </p:nvPicPr>
          <p:blipFill>
            <a:blip r:embed="rId4">
              <a:lum contrast="40000"/>
            </a:blip>
            <a:srcRect l="42730" t="47992" r="13330" b="35921"/>
            <a:stretch/>
          </p:blipFill>
          <p:spPr>
            <a:xfrm>
              <a:off x="5000760" y="5105520"/>
              <a:ext cx="41432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Прямоугольник 19"/>
            <p:cNvSpPr/>
            <p:nvPr/>
          </p:nvSpPr>
          <p:spPr>
            <a:xfrm>
              <a:off x="8077320" y="5105520"/>
              <a:ext cx="3808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ff"/>
                </a:solidFill>
                <a:latin typeface="Tahoma"/>
              </a:rPr>
              <a:t>Основные виды калибров-пробо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0" y="914400"/>
            <a:ext cx="472428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сторонние двухпредельные неполные с накладкой   (150…300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0" y="2057400"/>
            <a:ext cx="4419720" cy="1409760"/>
            <a:chOff x="0" y="2057400"/>
            <a:chExt cx="4419720" cy="1409760"/>
          </a:xfrm>
        </p:grpSpPr>
        <p:grpSp>
          <p:nvGrpSpPr>
            <p:cNvPr id="198" name="Group 8"/>
            <p:cNvGrpSpPr/>
            <p:nvPr/>
          </p:nvGrpSpPr>
          <p:grpSpPr>
            <a:xfrm>
              <a:off x="0" y="2133720"/>
              <a:ext cx="4419720" cy="1333440"/>
              <a:chOff x="0" y="2133720"/>
              <a:chExt cx="4419720" cy="1333440"/>
            </a:xfrm>
          </p:grpSpPr>
          <p:pic>
            <p:nvPicPr>
              <p:cNvPr id="199" name="Picture 6" descr=""/>
              <p:cNvPicPr/>
              <p:nvPr/>
            </p:nvPicPr>
            <p:blipFill>
              <a:blip r:embed="rId1">
                <a:lum contrast="42000"/>
              </a:blip>
              <a:srcRect l="14549" t="69545" r="50309" b="20404"/>
              <a:stretch/>
            </p:blipFill>
            <p:spPr>
              <a:xfrm>
                <a:off x="0" y="2133720"/>
                <a:ext cx="4419720" cy="13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Rectangle 7"/>
              <p:cNvSpPr/>
              <p:nvPr/>
            </p:nvSpPr>
            <p:spPr>
              <a:xfrm>
                <a:off x="2362320" y="2286000"/>
                <a:ext cx="6094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1" name="Rectangle 9"/>
            <p:cNvSpPr/>
            <p:nvPr/>
          </p:nvSpPr>
          <p:spPr>
            <a:xfrm>
              <a:off x="2514600" y="2057400"/>
              <a:ext cx="6094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2" name="Text Box 7"/>
          <p:cNvSpPr/>
          <p:nvPr/>
        </p:nvSpPr>
        <p:spPr>
          <a:xfrm>
            <a:off x="4800600" y="1143000"/>
            <a:ext cx="434340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ихмасы-нутрометры (250…1000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3" name="Group 16"/>
          <p:cNvGrpSpPr/>
          <p:nvPr/>
        </p:nvGrpSpPr>
        <p:grpSpPr>
          <a:xfrm>
            <a:off x="4800600" y="1905120"/>
            <a:ext cx="4343400" cy="1374480"/>
            <a:chOff x="4800600" y="1905120"/>
            <a:chExt cx="4343400" cy="1374480"/>
          </a:xfrm>
        </p:grpSpPr>
        <p:grpSp>
          <p:nvGrpSpPr>
            <p:cNvPr id="204" name="Group 14"/>
            <p:cNvGrpSpPr/>
            <p:nvPr/>
          </p:nvGrpSpPr>
          <p:grpSpPr>
            <a:xfrm>
              <a:off x="4800600" y="1905120"/>
              <a:ext cx="4343400" cy="1374480"/>
              <a:chOff x="4800600" y="1905120"/>
              <a:chExt cx="4343400" cy="1374480"/>
            </a:xfrm>
          </p:grpSpPr>
          <p:pic>
            <p:nvPicPr>
              <p:cNvPr id="205" name="Picture 12" descr=""/>
              <p:cNvPicPr/>
              <p:nvPr/>
            </p:nvPicPr>
            <p:blipFill>
              <a:blip r:embed="rId2">
                <a:lum contrast="42000"/>
              </a:blip>
              <a:srcRect l="49099" t="68396" r="18180" b="22131"/>
              <a:stretch/>
            </p:blipFill>
            <p:spPr>
              <a:xfrm>
                <a:off x="4800600" y="1951200"/>
                <a:ext cx="4343400" cy="132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Rectangle 13"/>
              <p:cNvSpPr/>
              <p:nvPr/>
            </p:nvSpPr>
            <p:spPr>
              <a:xfrm>
                <a:off x="6705720" y="1905120"/>
                <a:ext cx="60948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7" name="Rectangle 15"/>
            <p:cNvSpPr/>
            <p:nvPr/>
          </p:nvSpPr>
          <p:spPr>
            <a:xfrm>
              <a:off x="6553080" y="2514600"/>
              <a:ext cx="228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" name="Text Box 7"/>
          <p:cNvSpPr/>
          <p:nvPr/>
        </p:nvSpPr>
        <p:spPr>
          <a:xfrm>
            <a:off x="0" y="3841920"/>
            <a:ext cx="914400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сторонние двухпредельные неполные регулируемые (30…100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438280" y="4800600"/>
            <a:ext cx="4648320" cy="1996920"/>
            <a:chOff x="2438280" y="4800600"/>
            <a:chExt cx="4648320" cy="1996920"/>
          </a:xfrm>
        </p:grpSpPr>
        <p:pic>
          <p:nvPicPr>
            <p:cNvPr id="210" name="Picture 18" descr=""/>
            <p:cNvPicPr/>
            <p:nvPr/>
          </p:nvPicPr>
          <p:blipFill>
            <a:blip r:embed="rId3">
              <a:lum contrast="42000"/>
            </a:blip>
            <a:srcRect l="33030" t="81901" r="25459" b="0"/>
            <a:stretch/>
          </p:blipFill>
          <p:spPr>
            <a:xfrm>
              <a:off x="2438280" y="4800600"/>
              <a:ext cx="4343400" cy="19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Rectangle 19"/>
            <p:cNvSpPr/>
            <p:nvPr/>
          </p:nvSpPr>
          <p:spPr>
            <a:xfrm>
              <a:off x="6705720" y="5197320"/>
              <a:ext cx="3808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ff"/>
                </a:solidFill>
                <a:latin typeface="Tahoma"/>
              </a:rPr>
              <a:t>Основные виды калибров-скоб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0" y="914400"/>
            <a:ext cx="42670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овые двухсторонние двухпредельные (1…50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4" name="Group 8"/>
          <p:cNvGrpSpPr/>
          <p:nvPr/>
        </p:nvGrpSpPr>
        <p:grpSpPr>
          <a:xfrm>
            <a:off x="304920" y="1828800"/>
            <a:ext cx="3580920" cy="1523880"/>
            <a:chOff x="304920" y="1828800"/>
            <a:chExt cx="3580920" cy="1523880"/>
          </a:xfrm>
        </p:grpSpPr>
        <p:pic>
          <p:nvPicPr>
            <p:cNvPr id="215" name="Picture 6" descr=""/>
            <p:cNvPicPr/>
            <p:nvPr/>
          </p:nvPicPr>
          <p:blipFill>
            <a:blip r:embed="rId1">
              <a:lum contrast="36000"/>
            </a:blip>
            <a:srcRect l="8790" t="6893" r="63948" b="74834"/>
            <a:stretch/>
          </p:blipFill>
          <p:spPr>
            <a:xfrm>
              <a:off x="304920" y="1828800"/>
              <a:ext cx="35809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7"/>
            <p:cNvSpPr/>
            <p:nvPr/>
          </p:nvSpPr>
          <p:spPr>
            <a:xfrm>
              <a:off x="1418760" y="1943640"/>
              <a:ext cx="716040" cy="2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" name="Text Box 7"/>
          <p:cNvSpPr/>
          <p:nvPr/>
        </p:nvSpPr>
        <p:spPr>
          <a:xfrm>
            <a:off x="4724280" y="733320"/>
            <a:ext cx="434340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овые прямоугольные одностроронние двухпредельные (1…70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6095880" y="1828800"/>
            <a:ext cx="1828440" cy="1523880"/>
            <a:chOff x="6095880" y="1828800"/>
            <a:chExt cx="1828440" cy="1523880"/>
          </a:xfrm>
        </p:grpSpPr>
        <p:pic>
          <p:nvPicPr>
            <p:cNvPr id="219" name="Picture 10" descr=""/>
            <p:cNvPicPr/>
            <p:nvPr/>
          </p:nvPicPr>
          <p:blipFill>
            <a:blip r:embed="rId2">
              <a:lum contrast="42000"/>
            </a:blip>
            <a:srcRect l="42429" t="6208" r="42429" b="75176"/>
            <a:stretch/>
          </p:blipFill>
          <p:spPr>
            <a:xfrm>
              <a:off x="6095880" y="1828800"/>
              <a:ext cx="1828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6634080" y="1967040"/>
              <a:ext cx="268920" cy="20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1" name="Text Box 7"/>
          <p:cNvSpPr/>
          <p:nvPr/>
        </p:nvSpPr>
        <p:spPr>
          <a:xfrm>
            <a:off x="0" y="3733920"/>
            <a:ext cx="426708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овые круглые односторонние двухпредельные (1…180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2" name="Group 18"/>
          <p:cNvGrpSpPr/>
          <p:nvPr/>
        </p:nvGrpSpPr>
        <p:grpSpPr>
          <a:xfrm>
            <a:off x="838080" y="4800600"/>
            <a:ext cx="2667240" cy="2055960"/>
            <a:chOff x="838080" y="4800600"/>
            <a:chExt cx="2667240" cy="2055960"/>
          </a:xfrm>
        </p:grpSpPr>
        <p:grpSp>
          <p:nvGrpSpPr>
            <p:cNvPr id="223" name="Group 16"/>
            <p:cNvGrpSpPr/>
            <p:nvPr/>
          </p:nvGrpSpPr>
          <p:grpSpPr>
            <a:xfrm>
              <a:off x="838080" y="4876920"/>
              <a:ext cx="2667240" cy="1979640"/>
              <a:chOff x="838080" y="4876920"/>
              <a:chExt cx="2667240" cy="1979640"/>
            </a:xfrm>
          </p:grpSpPr>
          <p:pic>
            <p:nvPicPr>
              <p:cNvPr id="224" name="Picture 14" descr=""/>
              <p:cNvPicPr/>
              <p:nvPr/>
            </p:nvPicPr>
            <p:blipFill>
              <a:blip r:embed="rId3">
                <a:lum contrast="48000"/>
              </a:blip>
              <a:srcRect l="64549" t="6893" r="14240" b="75176"/>
              <a:stretch/>
            </p:blipFill>
            <p:spPr>
              <a:xfrm>
                <a:off x="838080" y="4876920"/>
                <a:ext cx="2667240" cy="19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Oval 15"/>
              <p:cNvSpPr/>
              <p:nvPr/>
            </p:nvSpPr>
            <p:spPr>
              <a:xfrm>
                <a:off x="1828800" y="50292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6" name="Rectangle 17"/>
            <p:cNvSpPr/>
            <p:nvPr/>
          </p:nvSpPr>
          <p:spPr>
            <a:xfrm>
              <a:off x="1752480" y="4800600"/>
              <a:ext cx="1526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7" name="Text Box 7"/>
          <p:cNvSpPr/>
          <p:nvPr/>
        </p:nvSpPr>
        <p:spPr>
          <a:xfrm>
            <a:off x="4724280" y="3733920"/>
            <a:ext cx="426744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ампованные односторонние двухпредельные (3…50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8" name="Group 24"/>
          <p:cNvGrpSpPr/>
          <p:nvPr/>
        </p:nvGrpSpPr>
        <p:grpSpPr>
          <a:xfrm>
            <a:off x="5867280" y="4800600"/>
            <a:ext cx="2209680" cy="2052720"/>
            <a:chOff x="5867280" y="4800600"/>
            <a:chExt cx="2209680" cy="2052720"/>
          </a:xfrm>
        </p:grpSpPr>
        <p:grpSp>
          <p:nvGrpSpPr>
            <p:cNvPr id="229" name="Group 22"/>
            <p:cNvGrpSpPr/>
            <p:nvPr/>
          </p:nvGrpSpPr>
          <p:grpSpPr>
            <a:xfrm>
              <a:off x="5867280" y="4800600"/>
              <a:ext cx="2209680" cy="2052720"/>
              <a:chOff x="5867280" y="4800600"/>
              <a:chExt cx="2209680" cy="2052720"/>
            </a:xfrm>
          </p:grpSpPr>
          <p:pic>
            <p:nvPicPr>
              <p:cNvPr id="230" name="Picture 20" descr=""/>
              <p:cNvPicPr/>
              <p:nvPr/>
            </p:nvPicPr>
            <p:blipFill>
              <a:blip r:embed="rId4">
                <a:lum contrast="42000"/>
              </a:blip>
              <a:srcRect l="16060" t="30348" r="53039" b="37935"/>
              <a:stretch/>
            </p:blipFill>
            <p:spPr>
              <a:xfrm>
                <a:off x="5867280" y="4861080"/>
                <a:ext cx="2209680" cy="19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Rectangle 21"/>
              <p:cNvSpPr/>
              <p:nvPr/>
            </p:nvSpPr>
            <p:spPr>
              <a:xfrm>
                <a:off x="7619760" y="480060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2" name="Rectangle 23"/>
            <p:cNvSpPr/>
            <p:nvPr/>
          </p:nvSpPr>
          <p:spPr>
            <a:xfrm>
              <a:off x="7467480" y="51814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ff"/>
                </a:solidFill>
                <a:latin typeface="Tahoma"/>
              </a:rPr>
              <a:t>Основные виды калибров-скоб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0" y="762120"/>
            <a:ext cx="449568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ампованные односторонние двухпредельные с ручками (1…50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1371600" y="1828800"/>
            <a:ext cx="1904760" cy="1980720"/>
            <a:chOff x="1371600" y="1828800"/>
            <a:chExt cx="1904760" cy="1980720"/>
          </a:xfrm>
        </p:grpSpPr>
        <p:grpSp>
          <p:nvGrpSpPr>
            <p:cNvPr id="236" name="Group 8"/>
            <p:cNvGrpSpPr/>
            <p:nvPr/>
          </p:nvGrpSpPr>
          <p:grpSpPr>
            <a:xfrm>
              <a:off x="1371600" y="1828800"/>
              <a:ext cx="1904760" cy="1980720"/>
              <a:chOff x="1371600" y="1828800"/>
              <a:chExt cx="1904760" cy="1980720"/>
            </a:xfrm>
          </p:grpSpPr>
          <p:pic>
            <p:nvPicPr>
              <p:cNvPr id="237" name="Picture 6" descr=""/>
              <p:cNvPicPr/>
              <p:nvPr/>
            </p:nvPicPr>
            <p:blipFill>
              <a:blip r:embed="rId1">
                <a:lum contrast="42000"/>
              </a:blip>
              <a:srcRect l="55159" t="30348" r="18180" b="38971"/>
              <a:stretch/>
            </p:blipFill>
            <p:spPr>
              <a:xfrm>
                <a:off x="1374840" y="1883520"/>
                <a:ext cx="1901520" cy="192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Rectangle 7"/>
              <p:cNvSpPr/>
              <p:nvPr/>
            </p:nvSpPr>
            <p:spPr>
              <a:xfrm>
                <a:off x="1371600" y="1828800"/>
                <a:ext cx="32976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9" name="Rectangle 9"/>
            <p:cNvSpPr/>
            <p:nvPr/>
          </p:nvSpPr>
          <p:spPr>
            <a:xfrm>
              <a:off x="1756080" y="1993680"/>
              <a:ext cx="219600" cy="5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0" name="Text Box 7"/>
          <p:cNvSpPr/>
          <p:nvPr/>
        </p:nvSpPr>
        <p:spPr>
          <a:xfrm>
            <a:off x="4648320" y="914400"/>
            <a:ext cx="44956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ампованные двухсторонние двухпредельные (30…100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Group 16"/>
          <p:cNvGrpSpPr/>
          <p:nvPr/>
        </p:nvGrpSpPr>
        <p:grpSpPr>
          <a:xfrm>
            <a:off x="5257800" y="1600200"/>
            <a:ext cx="3429000" cy="2285640"/>
            <a:chOff x="5257800" y="1600200"/>
            <a:chExt cx="3429000" cy="2285640"/>
          </a:xfrm>
        </p:grpSpPr>
        <p:grpSp>
          <p:nvGrpSpPr>
            <p:cNvPr id="242" name="Group 14"/>
            <p:cNvGrpSpPr/>
            <p:nvPr/>
          </p:nvGrpSpPr>
          <p:grpSpPr>
            <a:xfrm>
              <a:off x="5257800" y="1600200"/>
              <a:ext cx="3429000" cy="2285640"/>
              <a:chOff x="5257800" y="1600200"/>
              <a:chExt cx="3429000" cy="2285640"/>
            </a:xfrm>
          </p:grpSpPr>
          <p:pic>
            <p:nvPicPr>
              <p:cNvPr id="243" name="Picture 12" descr=""/>
              <p:cNvPicPr/>
              <p:nvPr/>
            </p:nvPicPr>
            <p:blipFill>
              <a:blip r:embed="rId2">
                <a:lum contrast="42000"/>
              </a:blip>
              <a:srcRect l="0" t="65526" r="52129" b="0"/>
              <a:stretch/>
            </p:blipFill>
            <p:spPr>
              <a:xfrm>
                <a:off x="5257800" y="1693800"/>
                <a:ext cx="3429000" cy="219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Rectangle 13"/>
              <p:cNvSpPr/>
              <p:nvPr/>
            </p:nvSpPr>
            <p:spPr>
              <a:xfrm>
                <a:off x="5394960" y="1600200"/>
                <a:ext cx="273960" cy="27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Oval 15"/>
            <p:cNvSpPr/>
            <p:nvPr/>
          </p:nvSpPr>
          <p:spPr>
            <a:xfrm>
              <a:off x="5668920" y="1877400"/>
              <a:ext cx="6840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Text Box 7"/>
          <p:cNvSpPr/>
          <p:nvPr/>
        </p:nvSpPr>
        <p:spPr>
          <a:xfrm>
            <a:off x="0" y="4038480"/>
            <a:ext cx="914400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мые односторонние двухпредельные (до 330 м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" name="Group 24"/>
          <p:cNvGrpSpPr/>
          <p:nvPr/>
        </p:nvGrpSpPr>
        <p:grpSpPr>
          <a:xfrm>
            <a:off x="2590920" y="4419720"/>
            <a:ext cx="4190760" cy="2401920"/>
            <a:chOff x="2590920" y="4419720"/>
            <a:chExt cx="4190760" cy="2401920"/>
          </a:xfrm>
        </p:grpSpPr>
        <p:grpSp>
          <p:nvGrpSpPr>
            <p:cNvPr id="248" name="Group 22"/>
            <p:cNvGrpSpPr/>
            <p:nvPr/>
          </p:nvGrpSpPr>
          <p:grpSpPr>
            <a:xfrm>
              <a:off x="2590920" y="4419720"/>
              <a:ext cx="4190760" cy="2401920"/>
              <a:chOff x="2590920" y="4419720"/>
              <a:chExt cx="4190760" cy="2401920"/>
            </a:xfrm>
          </p:grpSpPr>
          <p:grpSp>
            <p:nvGrpSpPr>
              <p:cNvPr id="249" name="Group 20"/>
              <p:cNvGrpSpPr/>
              <p:nvPr/>
            </p:nvGrpSpPr>
            <p:grpSpPr>
              <a:xfrm>
                <a:off x="2590920" y="4419720"/>
                <a:ext cx="4190760" cy="2401920"/>
                <a:chOff x="2590920" y="4419720"/>
                <a:chExt cx="4190760" cy="2401920"/>
              </a:xfrm>
            </p:grpSpPr>
            <p:pic>
              <p:nvPicPr>
                <p:cNvPr id="250" name="Picture 18" descr=""/>
                <p:cNvPicPr/>
                <p:nvPr/>
              </p:nvPicPr>
              <p:blipFill>
                <a:blip r:embed="rId3">
                  <a:lum contrast="42000"/>
                </a:blip>
                <a:srcRect l="47880" t="66210" r="0" b="1036"/>
                <a:stretch/>
              </p:blipFill>
              <p:spPr>
                <a:xfrm>
                  <a:off x="2590920" y="4505400"/>
                  <a:ext cx="4190760" cy="231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Rectangle 19"/>
                <p:cNvSpPr/>
                <p:nvPr/>
              </p:nvSpPr>
              <p:spPr>
                <a:xfrm>
                  <a:off x="4191120" y="4419720"/>
                  <a:ext cx="838080" cy="38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2" name="Oval 21"/>
              <p:cNvSpPr/>
              <p:nvPr/>
            </p:nvSpPr>
            <p:spPr>
              <a:xfrm>
                <a:off x="5181480" y="4800600"/>
                <a:ext cx="152640" cy="228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3" name="Oval 23"/>
            <p:cNvSpPr/>
            <p:nvPr/>
          </p:nvSpPr>
          <p:spPr>
            <a:xfrm>
              <a:off x="3998880" y="4836960"/>
              <a:ext cx="115920" cy="11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опуски на изготовление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сех калибров установлены в зависимости от точности контролируемых размеров дета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ГОСТ 24853-81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устанавливает допуски на гладкие калибры для контроля валов и отверстий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о 500 мм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изготовленных с точностью от 6-го до 17-го квалите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Для размеров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свыше 500 до 3150 мм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согласно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ГОСТ 24852-8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гладкие калибры применяют для контроля деталей, изготовленных с точностью от 9-го до 17-го квалите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380880" y="-1908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опуски калибр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0" y="763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6600ff"/>
                </a:solidFill>
                <a:latin typeface="Tahoma"/>
              </a:rPr>
              <a:t>Типовая схема задания допуска</a:t>
            </a:r>
            <a:br>
              <a:rPr sz="3800"/>
            </a:br>
            <a:r>
              <a:rPr b="0" i="1" lang="ru-RU" sz="3800" spc="-1" strike="noStrike">
                <a:solidFill>
                  <a:srgbClr val="6600ff"/>
                </a:solidFill>
                <a:latin typeface="Tahoma"/>
              </a:rPr>
              <a:t>на износ калибров-пробок П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28600" y="45720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личин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именьшего гарантированного изно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оставляе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т (1…4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гд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допуск на изготовление калибра) для калибров при контроле размеров отверстий, изготовленных с точностью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T6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о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958680" y="1143000"/>
            <a:ext cx="7270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0" y="-76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ff"/>
                </a:solidFill>
                <a:latin typeface="Tahoma"/>
              </a:rPr>
              <a:t>Схема расположения полей допусков калибров для контроля отверстий</a:t>
            </a:r>
            <a:br>
              <a:rPr sz="3600"/>
            </a:br>
            <a:r>
              <a:rPr b="0" i="1" lang="ru-RU" sz="3600" spc="-1" strike="noStrike">
                <a:solidFill>
                  <a:srgbClr val="6600ff"/>
                </a:solidFill>
                <a:latin typeface="Tahoma"/>
              </a:rPr>
              <a:t>(ГОСТ 2485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28240" y="5790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допуск на изготовление калибров-проб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номер вида калибра по ГОСТ 24851-8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92120" y="1523880"/>
            <a:ext cx="7966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380880" y="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лассификация гладких калибр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либры классифицируют по следующи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изнака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способу проверки изделий (предельные и нормальные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технологическому назначению (рабочие и контрольные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конструктивной разновид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числу одновременно проверяемых элементов издел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0" y="-76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ff"/>
                </a:solidFill>
                <a:latin typeface="Tahoma"/>
              </a:rPr>
              <a:t>Схема расположения полей допусков калибров и контркалибров</a:t>
            </a:r>
            <a:br>
              <a:rPr sz="3600"/>
            </a:br>
            <a:r>
              <a:rPr b="0" i="1" lang="ru-RU" sz="3600" spc="-1" strike="noStrike">
                <a:solidFill>
                  <a:srgbClr val="6600ff"/>
                </a:solidFill>
                <a:latin typeface="Tahoma"/>
              </a:rPr>
              <a:t>для контроля валов (ГОСТ 24851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28240" y="5410080"/>
            <a:ext cx="8915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опуски на изготов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Н</a:t>
            </a:r>
            <a:r>
              <a:rPr b="1" lang="ru-RU" sz="2800" spc="-1" strike="noStrike" baseline="-25000">
                <a:solidFill>
                  <a:srgbClr val="6600ff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калибров-скоб; </a:t>
            </a: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Н</a:t>
            </a:r>
            <a:r>
              <a:rPr b="1" lang="ru-RU" sz="2800" spc="-1" strike="noStrike" baseline="-25000">
                <a:solidFill>
                  <a:srgbClr val="6600ff"/>
                </a:solidFill>
                <a:latin typeface="Tahoma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контр-калибр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1-1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номер вида калибра по ГОСТ 24851-8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914400" y="1600200"/>
            <a:ext cx="72388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380880" y="-1908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опуски калибр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83059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определения полей допусков в таблицах </a:t>
            </a: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ГОСТ 24853-8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ля калибров-пробо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ведены значения </a:t>
            </a: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6600ff"/>
                </a:solidFill>
                <a:latin typeface="Tahoma"/>
                <a:ea typeface="Tahoma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для калибров-скоб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– </a:t>
            </a: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Z</a:t>
            </a:r>
            <a:r>
              <a:rPr b="1" lang="ru-RU" sz="2800" spc="-1" strike="noStrike" baseline="-25000">
                <a:solidFill>
                  <a:srgbClr val="6600ff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Y</a:t>
            </a:r>
            <a:r>
              <a:rPr b="1" lang="ru-RU" sz="2800" spc="-1" strike="noStrike" baseline="-25000">
                <a:solidFill>
                  <a:srgbClr val="6600ff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2800" spc="-1" strike="noStrike">
                <a:solidFill>
                  <a:srgbClr val="6600ff"/>
                </a:solidFill>
                <a:latin typeface="Tahoma"/>
                <a:ea typeface="Tahoma"/>
              </a:rPr>
              <a:t>α</a:t>
            </a:r>
            <a:r>
              <a:rPr b="1" lang="ru-RU" sz="2800" spc="-1" strike="noStrike" baseline="-25000">
                <a:solidFill>
                  <a:srgbClr val="6600ff"/>
                </a:solidFill>
                <a:latin typeface="Tahoma"/>
                <a:ea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которы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пределяю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оложение полей допуск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калибров и контр-калибро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тносительно их номинальных размер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380880" y="-1908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Номинальные размеры калибр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ahoma"/>
              </a:rPr>
              <a:t>Номинальными размерами калибр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предельные размеры деталей, контролируемые соответствующими калибр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ля калибра-проб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ПР-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D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; </a:t>
            </a: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НЕ-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D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Tahoma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ля калибра-скоб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ПР-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d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Tahoma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; </a:t>
            </a: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НЕ-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d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Tahoma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ahoma"/>
              </a:rPr>
              <a:t>Номинальные размеры контрольных калибр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кие же, как и калибров, для которых они предназнач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380880" y="-1908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Исполнительные размеры калибров (ГОСТ 2485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для проходных калибров-пробо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для непроходных калибров-пробо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1314360" y="2286000"/>
                <a:ext cx="6610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±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295280" y="4648320"/>
                <a:ext cx="6635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±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380880" y="-1908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Исполнительные размеры калибров (ГОСТ 2485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для проходных калибров-скоб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для непроходных калибров-скоб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690480" y="4648320"/>
                <a:ext cx="7691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785880" y="2286000"/>
                <a:ext cx="75960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380880" y="-1908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Исполнительные размеры калибров (ГОСТ 24853-8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для контркалибров к калибрам-скоба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533520" y="2255760"/>
                <a:ext cx="79516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К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ПР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423720" y="3632040"/>
                <a:ext cx="81867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К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И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−</m:t>
                        </m:r>
                        <m:r>
                          <m:t xml:space="preserve">И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52600" y="5002200"/>
                <a:ext cx="79056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К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НЕ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380880" y="-1908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Предельные размеры изношенных проходных калибров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80880" y="144792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для калибров-пробо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для калибров-скоб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размеров калибров и контркалибро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о 180 м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приведённых расчётных формулах </a:t>
            </a:r>
            <a:r>
              <a:rPr b="1" i="1" lang="el-GR" sz="2800" spc="-1" strike="noStrike">
                <a:solidFill>
                  <a:srgbClr val="ff0066"/>
                </a:solidFill>
                <a:latin typeface="Tahoma"/>
                <a:ea typeface="Tahoma"/>
              </a:rPr>
              <a:t>α</a:t>
            </a:r>
            <a:r>
              <a:rPr b="1" lang="ru-RU" sz="2800" spc="-1" strike="noStrike">
                <a:solidFill>
                  <a:srgbClr val="ff0066"/>
                </a:solidFill>
                <a:latin typeface="Tahoma"/>
                <a:ea typeface="Tahoma"/>
              </a:rPr>
              <a:t>=</a:t>
            </a:r>
            <a:r>
              <a:rPr b="1" i="1" lang="el-GR" sz="2800" spc="-1" strike="noStrike">
                <a:solidFill>
                  <a:srgbClr val="ff0066"/>
                </a:solidFill>
                <a:latin typeface="Tahoma"/>
                <a:ea typeface="Tahoma"/>
              </a:rPr>
              <a:t>α</a:t>
            </a:r>
            <a:r>
              <a:rPr b="1" lang="ru-RU" sz="2800" spc="-1" strike="noStrike" baseline="-25000">
                <a:solidFill>
                  <a:srgbClr val="ff0066"/>
                </a:solidFill>
                <a:latin typeface="Tahoma"/>
                <a:ea typeface="Tahoma"/>
              </a:rPr>
              <a:t>1</a:t>
            </a:r>
            <a:r>
              <a:rPr b="1" lang="ru-RU" sz="2800" spc="-1" strike="noStrike">
                <a:solidFill>
                  <a:srgbClr val="ff0066"/>
                </a:solidFill>
                <a:latin typeface="Tahoma"/>
                <a:ea typeface="Tahoma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2133720" y="1905120"/>
                <a:ext cx="46479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изн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1981080" y="3809880"/>
                <a:ext cx="50292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изн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380880" y="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380880" y="144792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исполнительные размеры гладких предельных калибров для контроля сопряжени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5 Н7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6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ГОСТ 25347-82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находим предельные отклон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рстия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=+21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км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=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а 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=+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км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+2 мк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380880" y="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80880" y="144792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едельные размер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отверстия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25,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м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25,021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вала 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25,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02 мм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25,0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ГОСТ 24853-81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находим данные для расчёта калибр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=4 мкм,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4 мкм,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1,5 мкм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=3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к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3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к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Y=3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к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380880" y="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38088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Исполнительные размеры калибров и контркалибр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контроля отверстия (калибры-пробк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2"/>
              <p:cNvSpPr txBox="1"/>
              <p:nvPr/>
            </p:nvSpPr>
            <p:spPr>
              <a:xfrm>
                <a:off x="1219320" y="2797200"/>
                <a:ext cx="73911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3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4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3"/>
              <p:cNvSpPr txBox="1"/>
              <p:nvPr/>
            </p:nvSpPr>
            <p:spPr>
              <a:xfrm>
                <a:off x="1143000" y="3540240"/>
                <a:ext cx="72644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±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</m:e>
                    </m:d>
                    <m:r>
                      <m:t xml:space="preserve">±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1193760" y="4506840"/>
                <a:ext cx="71881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4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23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5"/>
              <p:cNvSpPr txBox="1"/>
              <p:nvPr/>
            </p:nvSpPr>
            <p:spPr>
              <a:xfrm>
                <a:off x="1143000" y="5326200"/>
                <a:ext cx="73152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±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4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1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6"/>
              <p:cNvSpPr txBox="1"/>
              <p:nvPr/>
            </p:nvSpPr>
            <p:spPr>
              <a:xfrm>
                <a:off x="1905120" y="6324480"/>
                <a:ext cx="512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изн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380880" y="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лассификация гладких калибр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8088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ahoma"/>
              </a:rPr>
              <a:t>Предельные калибры</a:t>
            </a:r>
            <a:r>
              <a:rPr b="1" i="1" lang="ru-RU" sz="28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роходно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епроходно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позволяют установить, находиться ли проверяемый размер в пределах поля допус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ельные калибр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использую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ля проверки размеров гладких цилиндрических, конусных, резьбовых и шлицевых деталей, высоты выступов и глубин впадин, если проверяемые размеры имеют допуск не точнее 6-го квалит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4"/>
          <p:cNvSpPr/>
          <p:nvPr/>
        </p:nvSpPr>
        <p:spPr>
          <a:xfrm>
            <a:off x="380880" y="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38088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контроля вала (калибры-скоб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1523880" y="2119320"/>
                <a:ext cx="65534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3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4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1046160" y="3230640"/>
                <a:ext cx="75643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5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</m:e>
                    </m:d>
                    <m:r>
                      <m:t xml:space="preserve">±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2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1544760" y="4267080"/>
                <a:ext cx="6837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4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5"/>
              <p:cNvSpPr txBox="1"/>
              <p:nvPr/>
            </p:nvSpPr>
            <p:spPr>
              <a:xfrm>
                <a:off x="1523880" y="5452920"/>
                <a:ext cx="6400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6"/>
              <p:cNvSpPr txBox="1"/>
              <p:nvPr/>
            </p:nvSpPr>
            <p:spPr>
              <a:xfrm>
                <a:off x="1639800" y="6324480"/>
                <a:ext cx="6208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изн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380880" y="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8088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контркалибров (калибры-пробк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4"/>
              <p:cNvSpPr txBox="1"/>
              <p:nvPr/>
            </p:nvSpPr>
            <p:spPr>
              <a:xfrm>
                <a:off x="457200" y="2057400"/>
                <a:ext cx="8185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3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1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1275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5"/>
              <p:cNvSpPr txBox="1"/>
              <p:nvPr/>
            </p:nvSpPr>
            <p:spPr>
              <a:xfrm>
                <a:off x="457200" y="3024360"/>
                <a:ext cx="76960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5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</m:e>
                    </m:d>
                    <m:r>
                      <m:t xml:space="preserve">±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2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588960" y="5334120"/>
                <a:ext cx="7792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−</m:t>
                        </m:r>
                        <m:r>
                          <m:t xml:space="preserve">И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</m:e>
                    </m:d>
                    <m:r>
                      <m:t xml:space="preserve">±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8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457200" y="4267080"/>
                <a:ext cx="81406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−</m:t>
                        </m:r>
                        <m:r>
                          <m:t xml:space="preserve">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3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1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1875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533520" y="1447920"/>
                <a:ext cx="80769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1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0275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1" name="Rectangle 5"/>
          <p:cNvSpPr/>
          <p:nvPr/>
        </p:nvSpPr>
        <p:spPr>
          <a:xfrm>
            <a:off x="38088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80880" y="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571680" y="2514600"/>
                <a:ext cx="79628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Н</m:t>
                            </m:r>
                          </m:e>
                          <m:sub>
                            <m:r>
                              <m:t xml:space="preserve">р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7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Приме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04920" y="1371600"/>
            <a:ext cx="8305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Обозначение требова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 геометрическим параметрам калибра-пробки для контроля сопряжения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Ø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25 Н7/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914400" y="2666880"/>
            <a:ext cx="7010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Приме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0" y="13716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Обозначение требова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 геометрическим параметрам калибра-скобы и контрольного калибра для контроля сопряжения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Ø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25 Н7/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990720" y="3048120"/>
            <a:ext cx="7162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0" y="-19080"/>
            <a:ext cx="91440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ff"/>
                </a:solidFill>
                <a:latin typeface="Tahoma"/>
              </a:rPr>
              <a:t>Схема контроля дета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ff"/>
                </a:solidFill>
                <a:latin typeface="Tahoma"/>
              </a:rPr>
              <a:t>предельными калибрам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088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либр-проб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либр-скоб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проверяет отверстия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(проверяет вал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k_55"/>
          <p:cNvPicPr/>
          <p:nvPr/>
        </p:nvPicPr>
        <p:blipFill>
          <a:blip r:embed="rId1"/>
          <a:srcRect l="3027" t="378" r="0" b="54516"/>
          <a:stretch/>
        </p:blipFill>
        <p:spPr>
          <a:xfrm>
            <a:off x="0" y="2057400"/>
            <a:ext cx="4648320" cy="2490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k_55"/>
          <p:cNvPicPr/>
          <p:nvPr/>
        </p:nvPicPr>
        <p:blipFill>
          <a:blip r:embed="rId2"/>
          <a:srcRect l="7796" t="51510" r="4326" b="0"/>
          <a:stretch/>
        </p:blipFill>
        <p:spPr>
          <a:xfrm>
            <a:off x="5410080" y="2171880"/>
            <a:ext cx="365760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380880" y="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лассификация гладких калибр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cc"/>
                </a:solidFill>
                <a:latin typeface="Tahoma"/>
              </a:rPr>
              <a:t>Нормальные калибр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роходны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– точные шаблоны и калибры, изготовленные по размеру, соответствующему началу границы поля допус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 годности деталей судят по равномерности зазора между проверяемым профилем и рабочим профилем нормального калиб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380880" y="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лассификация гладких калибр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ahoma"/>
              </a:rPr>
              <a:t>Рабочие калибры</a:t>
            </a:r>
            <a:r>
              <a:rPr b="1" i="1" lang="ru-RU" sz="28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роб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и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скоб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ходные Р-ПР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проходные Р-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назначены для контроля отверстий и валов в процессе изготовл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6" name="Прямая со стрелкой 4"/>
          <p:cNvCxnSpPr/>
          <p:nvPr/>
        </p:nvCxnSpPr>
        <p:spPr>
          <a:xfrm flipH="1">
            <a:off x="3047400" y="2133720"/>
            <a:ext cx="144828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7" name="Прямая со стрелкой 5"/>
          <p:cNvCxnSpPr/>
          <p:nvPr/>
        </p:nvCxnSpPr>
        <p:spPr>
          <a:xfrm>
            <a:off x="4419720" y="2133720"/>
            <a:ext cx="13723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0880" y="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лассификация гладких калибр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ahoma"/>
              </a:rPr>
              <a:t>Контрольные калиб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-ПР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К-Н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К-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дл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р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для провер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(для прове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вых рабочи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вых рабочи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износа рабочи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ходных скоб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проходных скоб)  проходных скоб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и контрольные калибры являются проходными. Контрольные калибры выполняются в виде шай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0" name="Прямая со стрелкой 4"/>
          <p:cNvCxnSpPr/>
          <p:nvPr/>
        </p:nvCxnSpPr>
        <p:spPr>
          <a:xfrm flipH="1">
            <a:off x="2056680" y="2057400"/>
            <a:ext cx="25153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Прямая со стрелкой 6"/>
          <p:cNvCxnSpPr/>
          <p:nvPr/>
        </p:nvCxnSpPr>
        <p:spPr>
          <a:xfrm flipH="1">
            <a:off x="4570200" y="2058840"/>
            <a:ext cx="360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Прямая со стрелкой 8"/>
          <p:cNvCxnSpPr/>
          <p:nvPr/>
        </p:nvCxnSpPr>
        <p:spPr>
          <a:xfrm>
            <a:off x="4572000" y="2057400"/>
            <a:ext cx="236304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380880" y="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онструкция калибр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 основу конструир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гладких предельных калибров положен принцип подобия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нцип Тейл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, согласно которому проходные калибры по форме и размерам должны являться прототипом сопрягаемой детали и контролировать в комплексе размеры по всей длине соединения с учётом погрешностей формы и расположения поверхностей детал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о характеру измерительного контак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азличают калиб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поверхностным линей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точечным контак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о конструктивному устройств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гладкие предельные калибры для контроля валов и отверстий разделяют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ьные и состав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нопредельные и двухпредель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носторонние и двухсторон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гулируемые и нерегулируемые (жёстк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380880" y="0"/>
            <a:ext cx="79250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онструкция калибр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 -2</cp:lastModifiedBy>
  <dcterms:modified xsi:type="dcterms:W3CDTF">2010-04-20T17:27:16Z</dcterms:modified>
  <cp:revision>1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