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836-121C-4A96-B9A2-2CA4C01F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FAC-97E8-48A2-890C-D0FC50FD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A97-3782-40BD-BA89-A4AF4638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39E-0141-4228-B24B-94551C71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CE43-19B3-4066-B3A8-DA03787D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F6F1-5C81-42EE-8DED-7C07125F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7B66-A9AD-44F5-8ECC-9C327B3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065-3FBB-47AD-A721-9E17FDC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B83E-C0E8-4775-8900-9DB48612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CCED-A1EF-4B12-9427-97D997D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4B81-2809-44D6-BF54-B906746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A75-DC7D-4F9F-B247-8791E10E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C19E-0A2C-4BE8-8F08-60130DB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6BF-B6C0-439F-849C-FC41789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B24-17A1-4536-BC4C-FDBD437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6ED-9A79-4843-9756-DBA95457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FB24-A084-4416-8761-D7E81218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8510-C8E5-453D-819F-149E5383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E712-6611-4067-8EA5-E7E93074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5EAB-E3A4-4EAD-BB57-9F143D55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4E4B-D302-4DB6-9AE2-D83A3F76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D20C-71B3-46C3-9E68-D1F5847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E63-F94F-4F51-BA69-C1EAA6D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9C36-E05A-4749-B36A-74AE23D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7261-0221-4B10-923D-4386A51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8BFF-4B85-4A36-88E4-D1E5E11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C104-0678-4CB0-9498-478043E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AA86-544A-4CA3-87B1-2E62FB36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1BEE-3A50-422D-B492-5408C415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D530-ED61-41CF-8577-AFAACDA0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49A9-D1C6-4A30-B344-72DCA7F1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B321-D31E-4FC9-A375-CA8DDD2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F92F-6323-45F4-916B-9CFA0D0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FB1-4F79-46B7-AC4F-2485251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FB54-477F-45DD-BA54-A029998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407B-328C-4F60-860A-2ABA50B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3E8A-2D17-4655-9AC7-B991CF96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177E-0796-4FEC-8192-9B28EEF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437D-9EF2-4F68-875E-A307635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5094-4904-4629-AB56-F7852D15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ACEF-0597-47E0-99F6-D9EA688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1012-210E-40AA-8DEF-6F3222B2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1DF1-A5BD-4294-933F-CBD4E4CF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5DE6-F402-4514-A2F1-4E7DF3A6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DA4-4BD3-481A-9555-48BAC8A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54DD-C78A-4666-8505-ABAB2BA7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178D-8741-4EE6-A875-E319FCF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A18C-B402-4112-8BCE-0BDE8C6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B115-ECAE-4322-9A68-0BF5D315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A95E-B2A1-4159-9912-8FF8AD89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4A3A-92DC-4489-9E4C-6B78A47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1452A-7E3B-4BE8-8484-7DE156A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4C70-B877-45F7-BF14-FC02EA0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D387-B143-40DD-A366-AEEB1A8E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F2F3-96F3-46A1-B125-597451C8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02D-D8FD-4A45-9028-39713288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C2BF-5665-419E-8EC4-89E40A86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5EC7-05D7-46F1-A628-E57272DC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8CAE-650C-4826-90DE-AE93481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F102-18DE-4C09-8334-47E12B68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E870-92E2-4E87-8AC2-733E4EC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66D5-1CC1-4367-82BA-922875FE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1443-07CE-4D86-B9A1-D9669A8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6362-456C-42B1-A6FF-15A3A6B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7CDB-B5E5-4DBB-8BB6-3DADFF1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7DBC-81D3-4067-8E6A-029E99E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5DF-5C92-4832-AF88-795FEFB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2F16-7513-4260-9879-A04F67A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5C09-B38D-4E38-A704-623F449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7CAF-1607-4141-8E31-150CCC7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309E3-B298-460E-B1E3-57462CF9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4AC61-6615-405D-B952-24085317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D2AE-8CCD-4FD0-8795-91F837E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C29DC-B637-4E16-B09A-FB99163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BD466-9548-4E62-96CE-D4B4A7E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7ACE-FE13-4D1F-A6E7-8331B36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DCD9A-8307-46D5-85D3-221D16C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F73-32D5-460F-839A-53EC28B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4E52-74DA-45F9-AB95-9DCB04A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D73B-BAB7-4507-9905-1745C99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1DEC-373A-4EFF-892E-D57C8E16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39AE-73A5-494A-8F19-3FC2DB3F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F0DE7-F4BA-4B04-B5C2-F601933F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BFF4-7684-40E0-8E37-952E0AC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1BD4-EEDC-4A59-B176-F41D6D92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39751-23F1-45E8-8D54-A872EB4B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35FAF-2A48-4CA1-AEC9-1848AFF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5831-D099-4874-B42A-477BF9F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B76-1E59-4275-ACF7-2C4BF81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6A8D-A3A9-4642-B8EF-541219B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E28A-7612-4881-AE91-44397787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7438-EEC1-4611-8ACB-3F260DD7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A9C1-7D35-470D-91EA-4263349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117E-9112-4BB8-B7A2-BE6B145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BA76-4B28-40D3-9811-08F8CFEB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D12B-98D4-4337-B23A-075DFC01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B0D-658E-4CCA-8565-3EAC7A21DE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FDF-9CAD-456E-9170-062CCE1965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6E9-A283-43AD-91C1-7A0537C60B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7AD-56E8-4F24-9F6C-6B63DB4E6C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6B3-C31D-45D8-8B50-E3580D5075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13E6-0613-498C-8517-5C6ECDA55B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48A-323F-451A-8C70-FCF26CA4DD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C8C-DF84-465E-9CC6-7A02A87023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59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клонения формы и расположения поверхност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возникаю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в процессе обработки деталей из-за неточности и деформации станка, инструмента и приспособления; деформации обрабатываемого изделия; неравномерности припуска на обработку; неоднородности материала заготовки и т.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1 Допуски формы и расположения поверхност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22860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от цилиндрич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ибольшее расстояние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от точек реальной поверхности до прилегающего цилиндра в пределах нормируемого учас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0" t="2127" r="0" b="2127"/>
          <a:stretch/>
        </p:blipFill>
        <p:spPr>
          <a:xfrm>
            <a:off x="3090960" y="1143000"/>
            <a:ext cx="2855880" cy="3124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581280" y="27432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от кругл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ибольшее расстояние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от точек реального профиля до прилегающей окруж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0" t="2511" r="71273" b="9716"/>
          <a:stretch/>
        </p:blipFill>
        <p:spPr>
          <a:xfrm>
            <a:off x="609480" y="1523880"/>
            <a:ext cx="2903760" cy="4419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3505320" y="2133720"/>
            <a:ext cx="5486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чины появления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вальность самой заготовки детали, овальность опорных поверхностей шпинделя станка, упругие деформации детали (особенно тонкостенных) при закреплении в ста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29787" t="11586" r="37391" b="10980"/>
          <a:stretch/>
        </p:blipFill>
        <p:spPr>
          <a:xfrm>
            <a:off x="163440" y="1905120"/>
            <a:ext cx="3370320" cy="39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1447920"/>
            <a:ext cx="320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в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3733920" y="2133720"/>
            <a:ext cx="5257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чины появления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нения мгновенного центра вращения детали, </a:t>
            </a: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при бесцентровом шлифова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63833" t="10374" r="0" b="22567"/>
          <a:stretch/>
        </p:blipFill>
        <p:spPr>
          <a:xfrm>
            <a:off x="76320" y="2165400"/>
            <a:ext cx="3429000" cy="3168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28600" y="1447920"/>
            <a:ext cx="320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гра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228600" y="16002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профиля продольного сеч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наибольшее расстояние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точек образующих поверхности, лежащих в плоскости, проходящей через её ось, до соответствующей стороны прилегающего профи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2151" t="1126" r="55387" b="50940"/>
          <a:stretch/>
        </p:blipFill>
        <p:spPr>
          <a:xfrm>
            <a:off x="1143000" y="1440000"/>
            <a:ext cx="3124080" cy="2616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181480" y="2089080"/>
                <a:ext cx="35053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505320" y="2133720"/>
            <a:ext cx="5486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чины появления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нос резца, несовпадение осей шпинделя и пиноли задней бабки станка, отклонения от параллельности оси центров и направляющих стан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56624" t="7116" r="2770" b="59182"/>
          <a:stretch/>
        </p:blipFill>
        <p:spPr>
          <a:xfrm>
            <a:off x="0" y="2487600"/>
            <a:ext cx="3505320" cy="2389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28600" y="1477800"/>
            <a:ext cx="342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Конусообраз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04920" y="47242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чины появления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обтачивании тонких длинных валов без люнетов в связи с упругой де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2151" t="59182" r="58462" b="5619"/>
          <a:stretch/>
        </p:blipFill>
        <p:spPr>
          <a:xfrm>
            <a:off x="2743200" y="205740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895480" y="1447920"/>
            <a:ext cx="342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Бочкообраз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04920" y="5029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чины появления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пругая деформация опор шпинделя и пиноли задней бабки ста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rcRect l="57547" t="57685" r="1228" b="7488"/>
          <a:stretch/>
        </p:blipFill>
        <p:spPr>
          <a:xfrm>
            <a:off x="2209680" y="2050920"/>
            <a:ext cx="3962520" cy="27496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819520" y="1295280"/>
            <a:ext cx="342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Седлообраз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22860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тклонение от прямолинейности в плоск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наибольшее расстояние </a:t>
            </a:r>
            <a:r>
              <a:rPr b="1" lang="el-GR" sz="2400" spc="-1" strike="noStrike">
                <a:solidFill>
                  <a:srgbClr val="0000ff"/>
                </a:solidFill>
                <a:latin typeface="Tahoma"/>
                <a:ea typeface="Tahoma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от точек реального профиля до прилегающей прямой в пределах нормируемого участка (отклонение от прямолинейности оси (или линии)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ahoma"/>
              </a:rPr>
              <a:t>в пространств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; отклонение от прямолинейности оси (или линии)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ahoma"/>
              </a:rPr>
              <a:t>в заданном направл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1784" t="0" r="0" b="4485"/>
          <a:stretch/>
        </p:blipFill>
        <p:spPr>
          <a:xfrm>
            <a:off x="1981080" y="1143000"/>
            <a:ext cx="4572000" cy="26607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228600" y="16002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от плоскостност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наибольшее расстояние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точек реальной поверхности до прилегающей плоскости в пределах нормируемого участка (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огнут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ыпукл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2743200" cy="2508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76320" y="167652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клонения формы и расположения поверхностей приводя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к снижению заданных эксплуатационных свойст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подвижных соединения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эти отклонения приводят к уменьшению износостойкости деталей вследствие повышенного удельного давления на выступах неровностей, к нарушению плавности хода, шуму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лияние отклонений формы и расположения поверхностей на качество издел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2 Отклонения расположения поверхностей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304920" y="16765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тклонение расположения поверхносте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отклонение реального расположения рассматриваемого элемента детали от его номинального распо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оминальное расположение элемент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пределяетс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номинальными линейными и угловыми размерами между ним и базами или между рассматриваемыми элементами, если базы не зад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Отклонения расположения поверхностей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0" y="144792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База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элемент детали или сборочной единицы (или выполняющее ту же функцию сочетание элементов), по отношению к которому задаётся допуск расположения или определяется расположение рассматриваемого нормируемого эле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Базой может бы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оверхность (</a:t>
            </a: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плоскость), её образующая или точка (</a:t>
            </a: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вершина конуса, центр сферы), ось, если базой является поверхность вра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0" y="3962520"/>
            <a:ext cx="8915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Отклонение от параллельности</a:t>
            </a: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разность </a:t>
            </a:r>
            <a:r>
              <a:rPr b="1" lang="el-GR" sz="2600" spc="-1" strike="noStrike">
                <a:solidFill>
                  <a:srgbClr val="0000ff"/>
                </a:solidFill>
                <a:latin typeface="Tahoma"/>
                <a:ea typeface="Tahoma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наибольшего и наименьшего расстояний между плоскостями (осью и плоскостью, прямыми в плоскости, осями в пространстве и т.д.) в пределах нормируемого участ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rcRect l="1972" t="1284" r="58691" b="73725"/>
          <a:stretch/>
        </p:blipFill>
        <p:spPr>
          <a:xfrm>
            <a:off x="2590920" y="1066680"/>
            <a:ext cx="3047760" cy="29703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632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Отклонение от перпендикулярности</a:t>
            </a: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отклонение угла между плоскостями (плоскостью и осью, осями и т.д.) от прямого угла, выраженного в линейных единицах </a:t>
            </a:r>
            <a:r>
              <a:rPr b="1" lang="el-GR" sz="26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 длине нормируемого участ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rcRect l="59676" t="1284" r="5571" b="74791"/>
          <a:stretch/>
        </p:blipFill>
        <p:spPr>
          <a:xfrm>
            <a:off x="2830680" y="1295280"/>
            <a:ext cx="2884320" cy="304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0" y="434340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Отклонение наклона</a:t>
            </a: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отклонение угла между плоскостями (осями или прямыми, плоскостью и осью и т.д.) от номинального угла, выраженного в линейных единицах </a:t>
            </a:r>
            <a:r>
              <a:rPr b="1" lang="el-GR" sz="26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 длине нормируемого участ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rcRect l="1972" t="30133" r="59676" b="47226"/>
          <a:stretch/>
        </p:blipFill>
        <p:spPr>
          <a:xfrm>
            <a:off x="2895480" y="1166760"/>
            <a:ext cx="3505320" cy="3176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0" y="4114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тклонение от симметричности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аибольшее расстояние </a:t>
            </a:r>
            <a:r>
              <a:rPr b="1" lang="el-GR" sz="24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 плоскостью (осью) рассматриваемого элемента (или элементов) и плоскостью симметрии базового элемента (или общей плоскостью симметрии двух или нескольких элементов), в пределах нормируемого участ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rcRect l="63285" t="28849" r="5571" b="48934"/>
          <a:stretch/>
        </p:blipFill>
        <p:spPr>
          <a:xfrm>
            <a:off x="3240000" y="1295280"/>
            <a:ext cx="2576520" cy="281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0" y="39625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Отклонение от соосности</a:t>
            </a: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наибольшее расстояние </a:t>
            </a:r>
            <a:r>
              <a:rPr b="1" lang="el-GR" sz="26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ду осью рассматриваемой поверхности вращения и осью базовой поверхности (или осью двух или нескольких поверхностей) на длине нормируемого участ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rcRect l="1972" t="56414" r="52795" b="22223"/>
          <a:stretch/>
        </p:blipFill>
        <p:spPr>
          <a:xfrm>
            <a:off x="2666880" y="1143000"/>
            <a:ext cx="3810240" cy="2760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0" y="4648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от пересечения осей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наименьшее расстояние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жду осями, номинально пересекающими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rcRect l="51483" t="54403" r="1637" b="21581"/>
          <a:stretch/>
        </p:blipFill>
        <p:spPr>
          <a:xfrm>
            <a:off x="2286000" y="1066680"/>
            <a:ext cx="4343400" cy="3413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0" y="4267080"/>
            <a:ext cx="8915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Позиционное отклонение</a:t>
            </a:r>
            <a:r>
              <a:rPr b="1" lang="ru-RU" sz="2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наибольшее расстояние </a:t>
            </a:r>
            <a:r>
              <a:rPr b="1" lang="el-GR" sz="26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между реальным расположением элемента (центра, оси или плоскости симметрии) и его номинальным расположением в пределах нормируемого участ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90720" y="1143000"/>
            <a:ext cx="7467120" cy="2818800"/>
            <a:chOff x="990720" y="1143000"/>
            <a:chExt cx="7467120" cy="28188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rcRect l="5905" t="81199" r="7542" b="854"/>
            <a:stretch/>
          </p:blipFill>
          <p:spPr>
            <a:xfrm>
              <a:off x="990720" y="1143000"/>
              <a:ext cx="7467120" cy="27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879800" y="3598200"/>
              <a:ext cx="38916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иды отклонений формы поверхностей (ГОСТ 2464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76320" y="21337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неподвижных соединения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клонения формы и расположения поверхностей вызывают неравномерность натяга, вследствие чего снижаются прочность соединения, герметичность и точность центр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лияние отклонений формы и расположения поверхностей на качество издел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76320" y="2057400"/>
            <a:ext cx="8915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сборка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и погрешности приводят к погрешностям базирования деталей друг относительно друга, деформациям, неравномерным зазорам, что вызывает нарушения нормальной работы отдельных узлов и механизма в целом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подшипники качения весьма чувствительны к отклонениям формы и взаимного расположения поверх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Влияние отклонений формы и расположения поверхностей на качество издел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228600" y="16002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Номинальная поверхност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идеальная поверхность, размеры и форма которой соответствуют заданным номинальным размерам и номинальной фор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Реальная поверхност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оверхность, ограничивающая деталь и отделяющая её от окружающей сре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е параметры деталей. 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52280" y="16002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рофи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линия пересечения поверхности с плоскостью или с заданной поверхностью (существуют поняти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аль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оминаль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фил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налогичные понятиям номинальной и реальной поверхносте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Нормируемый участо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L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участок поверхности или линии, к которому относится допуск формы, допуск расположения или соответствующее отклон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е параметры деталей. 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52280" y="152388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Прилегающая поверхност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именяется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азов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при определении отклонений формы и расположения)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поверхность, имеющая форму номинальной поверхности, соприкасающаяся с реальной поверхностью и расположенная вне материала детали так, чтобы отклонение от неё наиболее удалённой точки реальной поверхности в пределах нормируемого участка имело минимальной знач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Средний элемен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имеет номинальную форму и проведён методом наименьших квадратов по отношению к реальн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е параметры деталей. 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е параметры деталей. Основные пон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6320" y="1752480"/>
            <a:ext cx="8915400" cy="4065840"/>
            <a:chOff x="76320" y="1752480"/>
            <a:chExt cx="8915400" cy="406584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rcRect l="0" t="995" r="935" b="2329"/>
            <a:stretch/>
          </p:blipFill>
          <p:spPr>
            <a:xfrm>
              <a:off x="76320" y="1752480"/>
              <a:ext cx="8915400" cy="40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67652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23880" y="4191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22860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тклонение фор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отклонение формы реальной поверхности или реального профиля от формы номинальной поверхности или номинального профи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оличествен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клонение формы оценивается наибольшим расстоянием </a:t>
            </a:r>
            <a:r>
              <a:rPr b="1" lang="el-GR" sz="28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точек реальной поверхности (профиля) по нормали в пределах нормируемого участка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Отклонения формы поверхност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07T13:03:31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