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4D6-8A85-421E-9B40-B3A57FD4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452-73A4-49CF-BEDE-D9C9F02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C3A-00D3-40F5-A531-C0AF92E9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8D7-D6EB-4165-9ACB-0B9DCABC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8C9D-036D-49FC-8C65-00EC4A8C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326D-5B0B-426B-AF6C-626ED8AB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EC36-C02D-4A32-8FB3-B022269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A17A-5F73-4212-BCF6-BDFF53E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E548-DCBA-4F8F-A042-7A8E524F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DE32-974F-48FA-894A-DE77181E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FA11-123C-4D7E-8AAE-E407D38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D57-5874-4D4A-8643-1AC92242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119-CAB0-45DF-BEC2-2C7BE3E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285-5753-4A42-BD34-8D73A7DC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3E52-A873-4C7B-8316-AAD8F6D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9B4E-C3E2-4189-8408-2641A514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F15C-7964-4F2F-A437-1BFDFFCA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6EDC-A07E-4FD5-AD59-E8724CD1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E5F1-17A1-4B06-A553-01F1D10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5630-44EC-4577-A880-A6ED7EA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8FCC-58FF-43EB-A85E-6919648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029D-A6C6-45EF-B8E9-60B2FCFC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FB9-3B92-4781-9E56-260CC75A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A4E5-2E8E-4352-BDE8-4721F4E6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0A25-0217-4BBC-A9AD-B249A1B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7FEA-1A9F-47D8-9009-27D7BFC8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3EE1-4EE2-43FE-8FEB-EB0C355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05E4-6155-41A5-BCFF-F01796A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0D28-E5BE-4513-8EF0-0E50EF85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8CA4-2903-42B9-86AB-2964A313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7EA-A90C-4D4B-A450-1AA49414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EEB-B376-425A-BA92-9DCA8D9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A33-2A61-40FD-A5BD-3F22538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B8E-CDF9-452F-BF94-35AADA5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2C0-579E-416F-83F6-EFA2360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152-9C49-4642-B2A2-F18E209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5D4-B14E-4E22-9265-E0577B2424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1F3A-78DA-4C54-9BA4-12C761827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5D70-CF0B-4735-B406-4E58B3D357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Tahoma"/>
              </a:rPr>
              <a:t>1 Основы ЕС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152280" y="1447920"/>
            <a:ext cx="8839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Система допусков и посадо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овокупность допусков и посадок, закономерно построенных на основе опыта, теоретических и экспериментальных исследований и оформленных в виде стандартов.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а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кономерность построения допус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меет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IT(T)=Ki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K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число единиц допуска (коэффициент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арактеризующий квалите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единица допуска, м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Общее правило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ые отклонения отверстий и вала, обозначенные одной буквой, равны по величине и противоположны по зна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тверстия от А до Н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Е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I=-e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тверстия от К д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Е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S=-e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.е. основное отклонение отверстия должно быть симметрично относительно нулевой линии основному отклонению вала, обозначенному той же бу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Системы допусков и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Примеры расположения полей допусков отверстий и ва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0" y="1787400"/>
          <a:ext cx="91440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7400"/>
                    <a:ext cx="91440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бразование и обозначение</a:t>
            </a: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полей допус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9"/>
          <p:cNvGrpSpPr/>
          <p:nvPr/>
        </p:nvGrpSpPr>
        <p:grpSpPr>
          <a:xfrm>
            <a:off x="426960" y="1066680"/>
            <a:ext cx="8893080" cy="4038480"/>
            <a:chOff x="426960" y="1066680"/>
            <a:chExt cx="8893080" cy="4038480"/>
          </a:xfrm>
        </p:grpSpPr>
        <p:sp>
          <p:nvSpPr>
            <p:cNvPr id="241" name="Text Box 43"/>
            <p:cNvSpPr/>
            <p:nvPr/>
          </p:nvSpPr>
          <p:spPr>
            <a:xfrm>
              <a:off x="8418600" y="2971800"/>
              <a:ext cx="901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47"/>
            <p:cNvGrpSpPr/>
            <p:nvPr/>
          </p:nvGrpSpPr>
          <p:grpSpPr>
            <a:xfrm>
              <a:off x="426960" y="1066680"/>
              <a:ext cx="8412120" cy="4038480"/>
              <a:chOff x="426960" y="1066680"/>
              <a:chExt cx="8412120" cy="4038480"/>
            </a:xfrm>
          </p:grpSpPr>
          <p:sp>
            <p:nvSpPr>
              <p:cNvPr id="243" name="Line 6"/>
              <p:cNvSpPr/>
              <p:nvPr/>
            </p:nvSpPr>
            <p:spPr>
              <a:xfrm>
                <a:off x="857520" y="2979720"/>
                <a:ext cx="755172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7"/>
              <p:cNvSpPr/>
              <p:nvPr/>
            </p:nvSpPr>
            <p:spPr>
              <a:xfrm>
                <a:off x="2367720" y="3828600"/>
                <a:ext cx="863280" cy="8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8"/>
              <p:cNvSpPr/>
              <p:nvPr/>
            </p:nvSpPr>
            <p:spPr>
              <a:xfrm>
                <a:off x="2367720" y="1279080"/>
                <a:ext cx="861840" cy="848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9"/>
              <p:cNvSpPr/>
              <p:nvPr/>
            </p:nvSpPr>
            <p:spPr>
              <a:xfrm>
                <a:off x="7113240" y="3404880"/>
                <a:ext cx="646560" cy="637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0"/>
              <p:cNvSpPr/>
              <p:nvPr/>
            </p:nvSpPr>
            <p:spPr>
              <a:xfrm>
                <a:off x="5172480" y="3617280"/>
                <a:ext cx="646560" cy="1064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1"/>
              <p:cNvSpPr/>
              <p:nvPr/>
            </p:nvSpPr>
            <p:spPr>
              <a:xfrm>
                <a:off x="5172480" y="1279080"/>
                <a:ext cx="648000" cy="1062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2"/>
              <p:cNvSpPr/>
              <p:nvPr/>
            </p:nvSpPr>
            <p:spPr>
              <a:xfrm>
                <a:off x="6897960" y="1066680"/>
                <a:ext cx="646560" cy="637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3"/>
              <p:cNvSpPr/>
              <p:nvPr/>
            </p:nvSpPr>
            <p:spPr>
              <a:xfrm>
                <a:off x="1290240" y="1279080"/>
                <a:ext cx="28029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>
                <a:off x="1721520" y="2129400"/>
                <a:ext cx="237168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>
                <a:off x="4308840" y="3617280"/>
                <a:ext cx="86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4308840" y="4680360"/>
                <a:ext cx="86328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>
                <a:off x="1936800" y="2129400"/>
                <a:ext cx="1080" cy="84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8"/>
              <p:cNvSpPr/>
              <p:nvPr/>
            </p:nvSpPr>
            <p:spPr>
              <a:xfrm>
                <a:off x="1505880" y="1279080"/>
                <a:ext cx="0" cy="170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2798640" y="2129400"/>
                <a:ext cx="1440" cy="84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20"/>
              <p:cNvSpPr/>
              <p:nvPr/>
            </p:nvSpPr>
            <p:spPr>
              <a:xfrm>
                <a:off x="3876120" y="1279080"/>
                <a:ext cx="1440" cy="84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1"/>
              <p:cNvSpPr/>
              <p:nvPr/>
            </p:nvSpPr>
            <p:spPr>
              <a:xfrm>
                <a:off x="4524120" y="3617280"/>
                <a:ext cx="1440" cy="10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2"/>
              <p:cNvSpPr/>
              <p:nvPr/>
            </p:nvSpPr>
            <p:spPr>
              <a:xfrm>
                <a:off x="5601960" y="2979720"/>
                <a:ext cx="1440" cy="63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23"/>
              <p:cNvSpPr/>
              <p:nvPr/>
            </p:nvSpPr>
            <p:spPr>
              <a:xfrm rot="10800000">
                <a:off x="948600" y="1562400"/>
                <a:ext cx="10774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24"/>
              <p:cNvSpPr/>
              <p:nvPr/>
            </p:nvSpPr>
            <p:spPr>
              <a:xfrm>
                <a:off x="2367720" y="149148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25"/>
              <p:cNvSpPr/>
              <p:nvPr/>
            </p:nvSpPr>
            <p:spPr>
              <a:xfrm>
                <a:off x="2367720" y="404244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26"/>
              <p:cNvSpPr/>
              <p:nvPr/>
            </p:nvSpPr>
            <p:spPr>
              <a:xfrm>
                <a:off x="5172480" y="1491480"/>
                <a:ext cx="8618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7"/>
              <p:cNvSpPr/>
              <p:nvPr/>
            </p:nvSpPr>
            <p:spPr>
              <a:xfrm>
                <a:off x="5252760" y="3830040"/>
                <a:ext cx="8618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28"/>
              <p:cNvSpPr/>
              <p:nvPr/>
            </p:nvSpPr>
            <p:spPr>
              <a:xfrm>
                <a:off x="6843240" y="1119600"/>
                <a:ext cx="8618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z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29"/>
              <p:cNvSpPr/>
              <p:nvPr/>
            </p:nvSpPr>
            <p:spPr>
              <a:xfrm>
                <a:off x="7145280" y="345816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M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30"/>
              <p:cNvSpPr/>
              <p:nvPr/>
            </p:nvSpPr>
            <p:spPr>
              <a:xfrm>
                <a:off x="3231360" y="3617280"/>
                <a:ext cx="8618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-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31"/>
              <p:cNvSpPr/>
              <p:nvPr/>
            </p:nvSpPr>
            <p:spPr>
              <a:xfrm>
                <a:off x="5819040" y="340488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-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32"/>
              <p:cNvSpPr/>
              <p:nvPr/>
            </p:nvSpPr>
            <p:spPr>
              <a:xfrm>
                <a:off x="3231360" y="4467600"/>
                <a:ext cx="8618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-e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33"/>
              <p:cNvSpPr/>
              <p:nvPr/>
            </p:nvSpPr>
            <p:spPr>
              <a:xfrm>
                <a:off x="5819040" y="446760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-e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34"/>
              <p:cNvSpPr/>
              <p:nvPr/>
            </p:nvSpPr>
            <p:spPr>
              <a:xfrm>
                <a:off x="5819040" y="212940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E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35"/>
              <p:cNvSpPr/>
              <p:nvPr/>
            </p:nvSpPr>
            <p:spPr>
              <a:xfrm>
                <a:off x="7760160" y="383004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-E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36"/>
              <p:cNvSpPr/>
              <p:nvPr/>
            </p:nvSpPr>
            <p:spPr>
              <a:xfrm>
                <a:off x="5819040" y="1066680"/>
                <a:ext cx="1078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37"/>
              <p:cNvSpPr/>
              <p:nvPr/>
            </p:nvSpPr>
            <p:spPr>
              <a:xfrm>
                <a:off x="7760160" y="3192120"/>
                <a:ext cx="1078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-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38"/>
              <p:cNvSpPr/>
              <p:nvPr/>
            </p:nvSpPr>
            <p:spPr>
              <a:xfrm rot="10800000">
                <a:off x="1466280" y="2270520"/>
                <a:ext cx="1078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E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39"/>
              <p:cNvSpPr/>
              <p:nvPr/>
            </p:nvSpPr>
            <p:spPr>
              <a:xfrm rot="10800000">
                <a:off x="4001760" y="3758760"/>
                <a:ext cx="10774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T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40"/>
              <p:cNvSpPr/>
              <p:nvPr/>
            </p:nvSpPr>
            <p:spPr>
              <a:xfrm rot="10800000">
                <a:off x="2225160" y="1987560"/>
                <a:ext cx="10771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1"/>
              <p:cNvSpPr/>
              <p:nvPr/>
            </p:nvSpPr>
            <p:spPr>
              <a:xfrm rot="10800000">
                <a:off x="5022000" y="2766600"/>
                <a:ext cx="10774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42"/>
              <p:cNvSpPr/>
              <p:nvPr/>
            </p:nvSpPr>
            <p:spPr>
              <a:xfrm rot="10800000">
                <a:off x="3361320" y="1349640"/>
                <a:ext cx="10774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T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44"/>
              <p:cNvSpPr/>
              <p:nvPr/>
            </p:nvSpPr>
            <p:spPr>
              <a:xfrm>
                <a:off x="426960" y="2979720"/>
                <a:ext cx="863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48769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е допуска в ЕСДП образуется сочетанием основного отклонения (буквы, характеризующей отклонение) и квалитета (цифры, характеризующей величину поля допус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сновное отклонение верхне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нижнее откло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вала 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ei=es-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тверстий 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EI=ES-I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сновное отклонение нижне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 верхнее откло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вала 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es=ei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тверстий 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ES=EI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I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пределение предельных откло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ahoma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предельные отклонения для отверст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1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: Для отверст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1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по ГОСТ 25346-89 опре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основного отклонения, условно обозначенного букв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для интервала размеров свыше 18 до 30 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I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+0,065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допуска по 10-му квалитету для того же интервала разме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T10=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084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Тогда второе верхнее откло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S=EI+IT10; ES=+0,065+0,084=0,14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пределение предельных откло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76320" y="-36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Tahoma"/>
              </a:rPr>
              <a:t>Поля допусков валов общего назначения при номинальных размерах</a:t>
            </a:r>
            <a:br>
              <a:rPr sz="3600"/>
            </a:br>
            <a:r>
              <a:rPr b="0" i="1" lang="en-US" sz="3600" spc="-1" strike="noStrike">
                <a:solidFill>
                  <a:srgbClr val="6600cc"/>
                </a:solidFill>
                <a:latin typeface="Tahoma"/>
              </a:rPr>
              <a:t>от 1 до 500 мм (ГОСТ 253-8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0" t="699" r="0" b="699"/>
          <a:stretch/>
        </p:blipFill>
        <p:spPr>
          <a:xfrm rot="21468600">
            <a:off x="384120" y="1517400"/>
            <a:ext cx="8458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76320" y="-36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Tahoma"/>
              </a:rPr>
              <a:t>Поля допусков валов общего применения при номинальных размерах</a:t>
            </a:r>
            <a:br>
              <a:rPr sz="3600"/>
            </a:br>
            <a:r>
              <a:rPr b="0" i="1" lang="en-US" sz="3600" spc="-1" strike="noStrike">
                <a:solidFill>
                  <a:srgbClr val="6600cc"/>
                </a:solidFill>
                <a:latin typeface="Tahoma"/>
              </a:rPr>
              <a:t>от 1 до 500 мм (ГОСТ 253-8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6320" y="1706400"/>
            <a:ext cx="89913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бразование и обозначение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618"/>
          <p:cNvSpPr/>
          <p:nvPr/>
        </p:nvSpPr>
        <p:spPr>
          <a:xfrm>
            <a:off x="457200" y="160020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адки в ЕСДП образу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четанием поля допуска основного отверсти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 системе отверст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 полями допусков в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четаниями полей допуска основного вала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 системе в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 полями допусков отверс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значаются посадки в виде дроби, в числителе которой указывается поле допуска отверстия, а в знаменателе – поле допуска 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619"/>
              <p:cNvSpPr txBox="1"/>
              <p:nvPr/>
            </p:nvSpPr>
            <p:spPr>
              <a:xfrm>
                <a:off x="3048120" y="5867280"/>
                <a:ext cx="2819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Н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бозначение допусков и посадок</a:t>
            </a: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на чертеж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45"/>
          <p:cNvGrpSpPr/>
          <p:nvPr/>
        </p:nvGrpSpPr>
        <p:grpSpPr>
          <a:xfrm>
            <a:off x="533520" y="1523880"/>
            <a:ext cx="8039160" cy="3581280"/>
            <a:chOff x="533520" y="1523880"/>
            <a:chExt cx="8039160" cy="3581280"/>
          </a:xfrm>
        </p:grpSpPr>
        <p:grpSp>
          <p:nvGrpSpPr>
            <p:cNvPr id="296" name="Group 76"/>
            <p:cNvGrpSpPr/>
            <p:nvPr/>
          </p:nvGrpSpPr>
          <p:grpSpPr>
            <a:xfrm>
              <a:off x="533520" y="1752480"/>
              <a:ext cx="2476440" cy="1028520"/>
              <a:chOff x="533520" y="1752480"/>
              <a:chExt cx="2476440" cy="1028520"/>
            </a:xfrm>
          </p:grpSpPr>
          <p:sp>
            <p:nvSpPr>
              <p:cNvPr id="297" name="Freeform 77"/>
              <p:cNvSpPr/>
              <p:nvPr/>
            </p:nvSpPr>
            <p:spPr>
              <a:xfrm>
                <a:off x="533520" y="1752480"/>
                <a:ext cx="2476440" cy="1028520"/>
              </a:xfrm>
              <a:prstGeom prst="pie">
                <a:avLst/>
              </a:prstGeom>
              <a:blipFill rotWithShape="0">
                <a:blip r:embed="rId1">
                  <a:alphaModFix amt="30000"/>
                </a:blip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78"/>
              <p:cNvSpPr/>
              <p:nvPr/>
            </p:nvSpPr>
            <p:spPr>
              <a:xfrm>
                <a:off x="1214280" y="1752480"/>
                <a:ext cx="1074960" cy="1028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79"/>
              <p:cNvSpPr/>
              <p:nvPr/>
            </p:nvSpPr>
            <p:spPr>
              <a:xfrm>
                <a:off x="1181160" y="1981440"/>
                <a:ext cx="1143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80"/>
              <p:cNvSpPr/>
              <p:nvPr/>
            </p:nvSpPr>
            <p:spPr>
              <a:xfrm>
                <a:off x="1181160" y="2323440"/>
                <a:ext cx="1143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81"/>
              <p:cNvSpPr/>
              <p:nvPr/>
            </p:nvSpPr>
            <p:spPr>
              <a:xfrm>
                <a:off x="1181160" y="2666160"/>
                <a:ext cx="1143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82"/>
              <p:cNvSpPr/>
              <p:nvPr/>
            </p:nvSpPr>
            <p:spPr>
              <a:xfrm>
                <a:off x="1409760" y="1752840"/>
                <a:ext cx="7999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H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83"/>
              <p:cNvSpPr/>
              <p:nvPr/>
            </p:nvSpPr>
            <p:spPr>
              <a:xfrm>
                <a:off x="1295280" y="2095560"/>
                <a:ext cx="12571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H7 (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+0.02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84"/>
              <p:cNvSpPr/>
              <p:nvPr/>
            </p:nvSpPr>
            <p:spPr>
              <a:xfrm>
                <a:off x="1409760" y="2438280"/>
                <a:ext cx="12571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+0.0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5" name="Object 85"/>
                  <p:cNvSpPr txBox="1"/>
                  <p:nvPr/>
                </p:nvSpPr>
                <p:spPr>
                  <a:xfrm>
                    <a:off x="2095560" y="2324160"/>
                    <a:ext cx="11412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306" name="Group 86"/>
            <p:cNvGrpSpPr/>
            <p:nvPr/>
          </p:nvGrpSpPr>
          <p:grpSpPr>
            <a:xfrm>
              <a:off x="3314880" y="1523880"/>
              <a:ext cx="2476440" cy="1969920"/>
              <a:chOff x="3314880" y="1523880"/>
              <a:chExt cx="2476440" cy="1969920"/>
            </a:xfrm>
          </p:grpSpPr>
          <p:sp>
            <p:nvSpPr>
              <p:cNvPr id="307" name="Freeform 87"/>
              <p:cNvSpPr/>
              <p:nvPr/>
            </p:nvSpPr>
            <p:spPr>
              <a:xfrm>
                <a:off x="3314880" y="1752480"/>
                <a:ext cx="2476440" cy="1257120"/>
              </a:xfrm>
              <a:prstGeom prst="pie">
                <a:avLst/>
              </a:prstGeom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88"/>
              <p:cNvSpPr/>
              <p:nvPr/>
            </p:nvSpPr>
            <p:spPr>
              <a:xfrm>
                <a:off x="3962520" y="1589760"/>
                <a:ext cx="1142640" cy="190404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89"/>
              <p:cNvSpPr/>
              <p:nvPr/>
            </p:nvSpPr>
            <p:spPr>
              <a:xfrm>
                <a:off x="3962520" y="1523880"/>
                <a:ext cx="1142640" cy="658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90"/>
              <p:cNvSpPr/>
              <p:nvPr/>
            </p:nvSpPr>
            <p:spPr>
              <a:xfrm>
                <a:off x="3962520" y="1980720"/>
                <a:ext cx="11426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91"/>
              <p:cNvSpPr/>
              <p:nvPr/>
            </p:nvSpPr>
            <p:spPr>
              <a:xfrm>
                <a:off x="3962520" y="2437560"/>
                <a:ext cx="11426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92"/>
              <p:cNvSpPr/>
              <p:nvPr/>
            </p:nvSpPr>
            <p:spPr>
              <a:xfrm>
                <a:off x="3962520" y="2894400"/>
                <a:ext cx="11426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93"/>
              <p:cNvSpPr/>
              <p:nvPr/>
            </p:nvSpPr>
            <p:spPr>
              <a:xfrm>
                <a:off x="4076640" y="1752480"/>
                <a:ext cx="7999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H7/f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94"/>
              <p:cNvSpPr/>
              <p:nvPr/>
            </p:nvSpPr>
            <p:spPr>
              <a:xfrm>
                <a:off x="4076640" y="2095200"/>
                <a:ext cx="7999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-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0.04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5" name="Object 95"/>
                  <p:cNvSpPr txBox="1"/>
                  <p:nvPr/>
                </p:nvSpPr>
                <p:spPr>
                  <a:xfrm>
                    <a:off x="4419720" y="1980720"/>
                    <a:ext cx="30456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/>
                          <m:sub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1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0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6" name="Text Box 96"/>
              <p:cNvSpPr/>
              <p:nvPr/>
            </p:nvSpPr>
            <p:spPr>
              <a:xfrm>
                <a:off x="3962520" y="2552400"/>
                <a:ext cx="13716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H7/f7 -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0.04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7" name="Object 97"/>
                  <p:cNvSpPr txBox="1"/>
                  <p:nvPr/>
                </p:nvSpPr>
                <p:spPr>
                  <a:xfrm>
                    <a:off x="4648320" y="2437920"/>
                    <a:ext cx="30456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/>
                          <m: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0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18" name="Group 98"/>
            <p:cNvGrpSpPr/>
            <p:nvPr/>
          </p:nvGrpSpPr>
          <p:grpSpPr>
            <a:xfrm>
              <a:off x="1181160" y="3725640"/>
              <a:ext cx="1485720" cy="998640"/>
              <a:chOff x="1181160" y="3725640"/>
              <a:chExt cx="1485720" cy="998640"/>
            </a:xfrm>
          </p:grpSpPr>
          <p:grpSp>
            <p:nvGrpSpPr>
              <p:cNvPr id="319" name="Group 99"/>
              <p:cNvGrpSpPr/>
              <p:nvPr/>
            </p:nvGrpSpPr>
            <p:grpSpPr>
              <a:xfrm>
                <a:off x="1181160" y="3725640"/>
                <a:ext cx="1143000" cy="998640"/>
                <a:chOff x="1181160" y="3725640"/>
                <a:chExt cx="1143000" cy="998640"/>
              </a:xfrm>
            </p:grpSpPr>
            <p:sp>
              <p:nvSpPr>
                <p:cNvPr id="320" name="Freeform 100"/>
                <p:cNvSpPr/>
                <p:nvPr/>
              </p:nvSpPr>
              <p:spPr>
                <a:xfrm>
                  <a:off x="1181160" y="3791520"/>
                  <a:ext cx="1143000" cy="93276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101"/>
                <p:cNvSpPr/>
                <p:nvPr/>
              </p:nvSpPr>
              <p:spPr>
                <a:xfrm>
                  <a:off x="1181160" y="3725640"/>
                  <a:ext cx="1143000" cy="65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22" name="Object 102"/>
                    <p:cNvSpPr txBox="1"/>
                    <p:nvPr/>
                  </p:nvSpPr>
                  <p:spPr>
                    <a:xfrm>
                      <a:off x="1822320" y="4235760"/>
                      <a:ext cx="304560" cy="240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/>
                            <m: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1</m:t>
                              </m:r>
                            </m:sub>
                            <m:sup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0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23" name="Object 103"/>
                    <p:cNvSpPr txBox="1"/>
                    <p:nvPr/>
                  </p:nvSpPr>
                  <p:spPr>
                    <a:xfrm>
                      <a:off x="1752480" y="4007160"/>
                      <a:ext cx="304560" cy="240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/>
                            <m: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1</m:t>
                              </m:r>
                            </m:sub>
                            <m:sup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0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24" name="Line 104"/>
                <p:cNvSpPr/>
                <p:nvPr/>
              </p:nvSpPr>
              <p:spPr>
                <a:xfrm>
                  <a:off x="1181160" y="4019400"/>
                  <a:ext cx="11430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05"/>
                <p:cNvSpPr/>
                <p:nvPr/>
              </p:nvSpPr>
              <p:spPr>
                <a:xfrm>
                  <a:off x="1181160" y="4248000"/>
                  <a:ext cx="11430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06"/>
                <p:cNvSpPr/>
                <p:nvPr/>
              </p:nvSpPr>
              <p:spPr>
                <a:xfrm>
                  <a:off x="1181160" y="4476240"/>
                  <a:ext cx="11430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Text Box 107"/>
              <p:cNvSpPr/>
              <p:nvPr/>
            </p:nvSpPr>
            <p:spPr>
              <a:xfrm>
                <a:off x="1333440" y="4248000"/>
                <a:ext cx="125712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f7(        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08"/>
              <p:cNvSpPr/>
              <p:nvPr/>
            </p:nvSpPr>
            <p:spPr>
              <a:xfrm>
                <a:off x="1409760" y="3791520"/>
                <a:ext cx="125712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f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09"/>
              <p:cNvSpPr/>
              <p:nvPr/>
            </p:nvSpPr>
            <p:spPr>
              <a:xfrm>
                <a:off x="1333440" y="4019400"/>
                <a:ext cx="125712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111"/>
            <p:cNvGrpSpPr/>
            <p:nvPr/>
          </p:nvGrpSpPr>
          <p:grpSpPr>
            <a:xfrm>
              <a:off x="6095880" y="1828440"/>
              <a:ext cx="2476800" cy="1028880"/>
              <a:chOff x="6095880" y="1828440"/>
              <a:chExt cx="2476800" cy="1028880"/>
            </a:xfrm>
          </p:grpSpPr>
          <p:sp>
            <p:nvSpPr>
              <p:cNvPr id="331" name="Freeform 112"/>
              <p:cNvSpPr/>
              <p:nvPr/>
            </p:nvSpPr>
            <p:spPr>
              <a:xfrm>
                <a:off x="6095880" y="1828440"/>
                <a:ext cx="2476800" cy="1028880"/>
              </a:xfrm>
              <a:prstGeom prst="pie">
                <a:avLst/>
              </a:prstGeom>
              <a:blipFill rotWithShape="0">
                <a:blip r:embed="rId3">
                  <a:alphaModFix amt="30000"/>
                </a:blip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13"/>
              <p:cNvSpPr/>
              <p:nvPr/>
            </p:nvSpPr>
            <p:spPr>
              <a:xfrm>
                <a:off x="6553080" y="1828440"/>
                <a:ext cx="1491120" cy="1028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14"/>
              <p:cNvSpPr/>
              <p:nvPr/>
            </p:nvSpPr>
            <p:spPr>
              <a:xfrm flipV="1">
                <a:off x="6553080" y="2056320"/>
                <a:ext cx="14860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15"/>
              <p:cNvSpPr/>
              <p:nvPr/>
            </p:nvSpPr>
            <p:spPr>
              <a:xfrm>
                <a:off x="6553080" y="2399400"/>
                <a:ext cx="14860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16"/>
              <p:cNvSpPr/>
              <p:nvPr/>
            </p:nvSpPr>
            <p:spPr>
              <a:xfrm>
                <a:off x="6629040" y="2742480"/>
                <a:ext cx="14097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17"/>
              <p:cNvSpPr/>
              <p:nvPr/>
            </p:nvSpPr>
            <p:spPr>
              <a:xfrm>
                <a:off x="6972120" y="1828800"/>
                <a:ext cx="7239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F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18"/>
              <p:cNvSpPr/>
              <p:nvPr/>
            </p:nvSpPr>
            <p:spPr>
              <a:xfrm>
                <a:off x="6858000" y="2171520"/>
                <a:ext cx="495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8" name="Object 119"/>
                  <p:cNvSpPr txBox="1"/>
                  <p:nvPr/>
                </p:nvSpPr>
                <p:spPr>
                  <a:xfrm>
                    <a:off x="7658280" y="2400120"/>
                    <a:ext cx="11412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9" name="Object 120"/>
                  <p:cNvSpPr txBox="1"/>
                  <p:nvPr/>
                </p:nvSpPr>
                <p:spPr>
                  <a:xfrm>
                    <a:off x="7238880" y="2158560"/>
                    <a:ext cx="304560" cy="24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/>
                          <m:sub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0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1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0" name="Text Box 121"/>
              <p:cNvSpPr/>
              <p:nvPr/>
            </p:nvSpPr>
            <p:spPr>
              <a:xfrm>
                <a:off x="6781680" y="2513880"/>
                <a:ext cx="11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F7 (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1" name="Object 122"/>
                  <p:cNvSpPr txBox="1"/>
                  <p:nvPr/>
                </p:nvSpPr>
                <p:spPr>
                  <a:xfrm>
                    <a:off x="7391520" y="2501280"/>
                    <a:ext cx="30456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/>
                          <m:sub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0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1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42" name="Group 123"/>
            <p:cNvGrpSpPr/>
            <p:nvPr/>
          </p:nvGrpSpPr>
          <p:grpSpPr>
            <a:xfrm>
              <a:off x="3657600" y="3744720"/>
              <a:ext cx="1599840" cy="979560"/>
              <a:chOff x="3657600" y="3744720"/>
              <a:chExt cx="1599840" cy="979560"/>
            </a:xfrm>
          </p:grpSpPr>
          <p:sp>
            <p:nvSpPr>
              <p:cNvPr id="343" name="Freeform 124"/>
              <p:cNvSpPr/>
              <p:nvPr/>
            </p:nvSpPr>
            <p:spPr>
              <a:xfrm>
                <a:off x="3657600" y="3791520"/>
                <a:ext cx="1485720" cy="9327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5"/>
              <p:cNvSpPr/>
              <p:nvPr/>
            </p:nvSpPr>
            <p:spPr>
              <a:xfrm>
                <a:off x="3657600" y="3744720"/>
                <a:ext cx="1485720" cy="658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126"/>
              <p:cNvSpPr/>
              <p:nvPr/>
            </p:nvSpPr>
            <p:spPr>
              <a:xfrm>
                <a:off x="3657600" y="4038120"/>
                <a:ext cx="148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27"/>
              <p:cNvSpPr/>
              <p:nvPr/>
            </p:nvSpPr>
            <p:spPr>
              <a:xfrm>
                <a:off x="3657600" y="4266720"/>
                <a:ext cx="148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28"/>
              <p:cNvSpPr/>
              <p:nvPr/>
            </p:nvSpPr>
            <p:spPr>
              <a:xfrm>
                <a:off x="3657600" y="4495320"/>
                <a:ext cx="148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9"/>
              <p:cNvSpPr/>
              <p:nvPr/>
            </p:nvSpPr>
            <p:spPr>
              <a:xfrm>
                <a:off x="4000320" y="4267440"/>
                <a:ext cx="125712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h7 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(-0.02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30"/>
              <p:cNvSpPr/>
              <p:nvPr/>
            </p:nvSpPr>
            <p:spPr>
              <a:xfrm>
                <a:off x="4000320" y="3810600"/>
                <a:ext cx="7236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h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31"/>
              <p:cNvSpPr/>
              <p:nvPr/>
            </p:nvSpPr>
            <p:spPr>
              <a:xfrm>
                <a:off x="4029120" y="4068360"/>
                <a:ext cx="10285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-0.0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32"/>
            <p:cNvGrpSpPr/>
            <p:nvPr/>
          </p:nvGrpSpPr>
          <p:grpSpPr>
            <a:xfrm>
              <a:off x="6019920" y="3276360"/>
              <a:ext cx="2476440" cy="1828800"/>
              <a:chOff x="6019920" y="3276360"/>
              <a:chExt cx="2476440" cy="1828800"/>
            </a:xfrm>
          </p:grpSpPr>
          <p:sp>
            <p:nvSpPr>
              <p:cNvPr id="352" name="Freeform 133"/>
              <p:cNvSpPr/>
              <p:nvPr/>
            </p:nvSpPr>
            <p:spPr>
              <a:xfrm>
                <a:off x="6019920" y="3389760"/>
                <a:ext cx="2476440" cy="1257840"/>
              </a:xfrm>
              <a:prstGeom prst="pie">
                <a:avLst/>
              </a:prstGeom>
              <a:blipFill rotWithShape="0">
                <a:blip r:embed="rId4">
                  <a:alphaModFix amt="30000"/>
                </a:blip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134"/>
              <p:cNvGrpSpPr/>
              <p:nvPr/>
            </p:nvGrpSpPr>
            <p:grpSpPr>
              <a:xfrm>
                <a:off x="6553080" y="3276360"/>
                <a:ext cx="1485720" cy="1828800"/>
                <a:chOff x="6553080" y="3276360"/>
                <a:chExt cx="1485720" cy="1828800"/>
              </a:xfrm>
            </p:grpSpPr>
            <p:sp>
              <p:nvSpPr>
                <p:cNvPr id="354" name="Freeform 135"/>
                <p:cNvSpPr/>
                <p:nvPr/>
              </p:nvSpPr>
              <p:spPr>
                <a:xfrm>
                  <a:off x="6553080" y="3323160"/>
                  <a:ext cx="1485720" cy="178200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136"/>
                <p:cNvSpPr/>
                <p:nvPr/>
              </p:nvSpPr>
              <p:spPr>
                <a:xfrm>
                  <a:off x="6553080" y="3276360"/>
                  <a:ext cx="1485720" cy="65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37"/>
                <p:cNvSpPr/>
                <p:nvPr/>
              </p:nvSpPr>
              <p:spPr>
                <a:xfrm>
                  <a:off x="6553080" y="3619080"/>
                  <a:ext cx="14857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38"/>
                <p:cNvSpPr/>
                <p:nvPr/>
              </p:nvSpPr>
              <p:spPr>
                <a:xfrm>
                  <a:off x="6553080" y="4075920"/>
                  <a:ext cx="148572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39"/>
                <p:cNvSpPr/>
                <p:nvPr/>
              </p:nvSpPr>
              <p:spPr>
                <a:xfrm>
                  <a:off x="6553080" y="4533120"/>
                  <a:ext cx="148572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140"/>
                <p:cNvSpPr/>
                <p:nvPr/>
              </p:nvSpPr>
              <p:spPr>
                <a:xfrm>
                  <a:off x="6972120" y="3390480"/>
                  <a:ext cx="95220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5 F7/h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Text Box 141"/>
                <p:cNvSpPr/>
                <p:nvPr/>
              </p:nvSpPr>
              <p:spPr>
                <a:xfrm>
                  <a:off x="7048440" y="3733560"/>
                  <a:ext cx="79992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5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-0.02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1" name="Object 142"/>
                    <p:cNvSpPr txBox="1"/>
                    <p:nvPr/>
                  </p:nvSpPr>
                  <p:spPr>
                    <a:xfrm>
                      <a:off x="7391160" y="3619080"/>
                      <a:ext cx="304560" cy="241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/>
                            <m:sub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0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1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62" name="Text Box 143"/>
                <p:cNvSpPr/>
                <p:nvPr/>
              </p:nvSpPr>
              <p:spPr>
                <a:xfrm>
                  <a:off x="6743520" y="4190760"/>
                  <a:ext cx="1295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5 F7/h7 -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0.02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3" name="Object 144"/>
                    <p:cNvSpPr txBox="1"/>
                    <p:nvPr/>
                  </p:nvSpPr>
                  <p:spPr>
                    <a:xfrm>
                      <a:off x="7467480" y="4076280"/>
                      <a:ext cx="304560" cy="241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/>
                            <m:sub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0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1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364" name="Rectangle 146"/>
          <p:cNvSpPr/>
          <p:nvPr/>
        </p:nvSpPr>
        <p:spPr>
          <a:xfrm>
            <a:off x="380880" y="53341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чертежах применяют три способа обозначения допусков и посадок: буквенное (условное), цифровое, смешан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ожно примен6ять любое сочетание полей допусков, установленных станда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адки должны назначаться либо в системе отверстия, либо в системе 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менение системы отверстия предпочтитель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едует отдавать предпочтение рекомендуемым посадкам (ГОСТ 25347-82), при этом в первую очередь – предпочт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адки с 4-го по 7-й квалитеты рекомендуется образовывать путём сопряжения отверстия на квалитет грубее, чем 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ahoma"/>
              </a:rPr>
              <a:t>2 Правила образования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Единица допус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ражает зависимость допуска от номинального разм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диапазона размеров свыше 1 до 500 мм единица допуска вычисляе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диапазона размеров свыше 1 до 500 мм единица допуска вычисляе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икрометрах (мкм);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иллиметрах (мм); второй член в формуле учитывает погрешности измерения, являющиеся следствием наличия температурной и силовой деформации средств изме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сновы ЕС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2666880" y="3048120"/>
                <a:ext cx="37339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45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819520" y="4294080"/>
                <a:ext cx="29718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004D</m:t>
                    </m:r>
                    <m:r>
                      <m:t xml:space="preserve">+</m:t>
                    </m:r>
                    <m:r>
                      <m:t xml:space="preserve">2,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ahoma"/>
              </a:rPr>
              <a:t>Метод прецедентов, или аналогов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адка выбирается по аналогии с посадкой в надёжно работающем узле. Сложность метода заключается в оценке и сопоставлении условий работы посадки в проектируемом узле и анал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ahoma"/>
              </a:rPr>
              <a:t>Метод подоб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развитие метода прецедентов. Посадки выбираются на основании рекомендаций отраслевых технических документов и литературных источников. Недостатком метода является, как правило, отсутствие точных количественных оценок условий работы сопря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ahoma"/>
              </a:rPr>
              <a:t>Расчётный метод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адки рассчитываются на основании полуэмпирических зависимостей. Однако формулы не всегда учитывают сложный характер физических явлений, происходящих в сопря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Tahoma"/>
              </a:rPr>
              <a:t>3 Методы выбора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результате тех или иных расчётов необходимо получи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опустимы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ибольшие и наименьш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нач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счётных зазоров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 расчётных натягов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учётом влияния шероховатости сопрягаемых поверх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]=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-2(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Z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+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Z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-8(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a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+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a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N]=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+1,2(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Z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+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Z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+5(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a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+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a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– индексы, относящиеся соответственно к параметрам шероховатост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рстия и 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Методы выбора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6840" y="1717560"/>
            <a:ext cx="8381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олученным значениям расчётных зазоров или натягов выбирается стандартная посадка таким образом, чтобы её предельные зазоры или натяги по возможности были близки к расчёт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≤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≤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ельные зазоры и натяги в посадках определяются по таблицам или по форму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Методы выбора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 многих случаях выбор посадок целесообразно осуществлять, ориентируясь на вероятностные предельные зазоры или натяг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≤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≤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роятностные предельные зазоры и натяг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пределённые с учётом характеристик рассеяния размеров деталей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Методы выбора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ех случаях, когда расчётом или иным путём устанавливается также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птимальное знач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зора или натяга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оп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оп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ри котором соединение функционирует наилучшим образом, посадку следует подбирать так, чтобы её среднее значение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было как можно ближе к оптималь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Методы выбора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Квалитет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овокупность (ряд) допусков для всех номинальных размеров, соответствующих одной степени то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ЕСДП установлено 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20 квалитет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ые обозначают арабскими цифрами (01;0;1;2;…;18). С увеличением номера квалитета точность понижается (допуск увеличиваетс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Допуск квалите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значается буквам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номером квалитета.</a:t>
            </a:r>
            <a:r>
              <a:rPr b="1" i="1" lang="ru-RU" sz="2800" spc="-1" strike="noStrike">
                <a:solidFill>
                  <a:srgbClr val="008000"/>
                </a:solidFill>
                <a:latin typeface="Tahoma"/>
              </a:rPr>
              <a:t> Наприме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сновы ЕС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литеты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т 01-го до 4-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при изготовлении концевых мер длины, калибров и контркалибров, деталей измерительных средств и других высокоточных изде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литеты от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05-го до 12-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ют при изготовлении деталей, преимущественно образующих сопряжения с другими деталями различного тип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литеты от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13-го до 18-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для параметров деталей, не образующих сопряжений и не оказывающих определяющего влияния на работоспособность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Область применения квалит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Tahoma"/>
              </a:rPr>
              <a:t>Система отверстия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система допусков и посадок, при которой предельные размеры отверстия для всех посадок для данного номинального размера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сопряжения и квалитета остаются постоянными, а требуемые посадки достигаются за счёт изменения предельных размеров в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Системы допусков и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0"/>
          <p:cNvGrpSpPr/>
          <p:nvPr/>
        </p:nvGrpSpPr>
        <p:grpSpPr>
          <a:xfrm>
            <a:off x="1371600" y="4221000"/>
            <a:ext cx="6400800" cy="2713320"/>
            <a:chOff x="1371600" y="4221000"/>
            <a:chExt cx="6400800" cy="2713320"/>
          </a:xfrm>
        </p:grpSpPr>
        <p:sp>
          <p:nvSpPr>
            <p:cNvPr id="157" name="Rectangle 6"/>
            <p:cNvSpPr/>
            <p:nvPr/>
          </p:nvSpPr>
          <p:spPr>
            <a:xfrm>
              <a:off x="1604880" y="5051520"/>
              <a:ext cx="4888080" cy="501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7"/>
            <p:cNvGrpSpPr/>
            <p:nvPr/>
          </p:nvGrpSpPr>
          <p:grpSpPr>
            <a:xfrm>
              <a:off x="3583080" y="5176800"/>
              <a:ext cx="814320" cy="252360"/>
              <a:chOff x="3583080" y="5176800"/>
              <a:chExt cx="814320" cy="252360"/>
            </a:xfrm>
          </p:grpSpPr>
          <p:sp>
            <p:nvSpPr>
              <p:cNvPr id="159" name="Rectangle 8"/>
              <p:cNvSpPr/>
              <p:nvPr/>
            </p:nvSpPr>
            <p:spPr>
              <a:xfrm>
                <a:off x="3583080" y="5176800"/>
                <a:ext cx="814320" cy="251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9"/>
              <p:cNvSpPr/>
              <p:nvPr/>
            </p:nvSpPr>
            <p:spPr>
              <a:xfrm>
                <a:off x="3816000" y="5176800"/>
                <a:ext cx="349200" cy="25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4630680" y="4925880"/>
              <a:ext cx="814320" cy="250920"/>
              <a:chOff x="4630680" y="4925880"/>
              <a:chExt cx="814320" cy="250920"/>
            </a:xfrm>
          </p:grpSpPr>
          <p:sp>
            <p:nvSpPr>
              <p:cNvPr id="162" name="Rectangle 11"/>
              <p:cNvSpPr/>
              <p:nvPr/>
            </p:nvSpPr>
            <p:spPr>
              <a:xfrm>
                <a:off x="4630680" y="4925880"/>
                <a:ext cx="814320" cy="250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"/>
              <p:cNvSpPr/>
              <p:nvPr/>
            </p:nvSpPr>
            <p:spPr>
              <a:xfrm>
                <a:off x="4863600" y="4925880"/>
                <a:ext cx="349200" cy="250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3"/>
            <p:cNvGrpSpPr/>
            <p:nvPr/>
          </p:nvGrpSpPr>
          <p:grpSpPr>
            <a:xfrm>
              <a:off x="5676840" y="4673520"/>
              <a:ext cx="816120" cy="252360"/>
              <a:chOff x="5676840" y="4673520"/>
              <a:chExt cx="816120" cy="252360"/>
            </a:xfrm>
          </p:grpSpPr>
          <p:sp>
            <p:nvSpPr>
              <p:cNvPr id="165" name="Rectangle 14"/>
              <p:cNvSpPr/>
              <p:nvPr/>
            </p:nvSpPr>
            <p:spPr>
              <a:xfrm>
                <a:off x="5676840" y="4673520"/>
                <a:ext cx="816120" cy="251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5"/>
              <p:cNvSpPr/>
              <p:nvPr/>
            </p:nvSpPr>
            <p:spPr>
              <a:xfrm>
                <a:off x="5910480" y="4673520"/>
                <a:ext cx="349920" cy="25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6"/>
            <p:cNvGrpSpPr/>
            <p:nvPr/>
          </p:nvGrpSpPr>
          <p:grpSpPr>
            <a:xfrm>
              <a:off x="2535120" y="5427720"/>
              <a:ext cx="814680" cy="252360"/>
              <a:chOff x="2535120" y="5427720"/>
              <a:chExt cx="814680" cy="252360"/>
            </a:xfrm>
          </p:grpSpPr>
          <p:sp>
            <p:nvSpPr>
              <p:cNvPr id="168" name="Rectangle 17"/>
              <p:cNvSpPr/>
              <p:nvPr/>
            </p:nvSpPr>
            <p:spPr>
              <a:xfrm>
                <a:off x="2535120" y="5427720"/>
                <a:ext cx="814680" cy="251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8"/>
              <p:cNvSpPr/>
              <p:nvPr/>
            </p:nvSpPr>
            <p:spPr>
              <a:xfrm>
                <a:off x="2768400" y="5427720"/>
                <a:ext cx="349560" cy="25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9"/>
            <p:cNvGrpSpPr/>
            <p:nvPr/>
          </p:nvGrpSpPr>
          <p:grpSpPr>
            <a:xfrm>
              <a:off x="1604880" y="5678640"/>
              <a:ext cx="814320" cy="250560"/>
              <a:chOff x="1604880" y="5678640"/>
              <a:chExt cx="814320" cy="250560"/>
            </a:xfrm>
          </p:grpSpPr>
          <p:sp>
            <p:nvSpPr>
              <p:cNvPr id="171" name="Rectangle 20"/>
              <p:cNvSpPr/>
              <p:nvPr/>
            </p:nvSpPr>
            <p:spPr>
              <a:xfrm>
                <a:off x="1604880" y="5678640"/>
                <a:ext cx="814320" cy="2498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21"/>
              <p:cNvSpPr/>
              <p:nvPr/>
            </p:nvSpPr>
            <p:spPr>
              <a:xfrm>
                <a:off x="1837800" y="5678640"/>
                <a:ext cx="349200" cy="25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22"/>
            <p:cNvSpPr/>
            <p:nvPr/>
          </p:nvSpPr>
          <p:spPr>
            <a:xfrm>
              <a:off x="1952640" y="5175360"/>
              <a:ext cx="35100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2417760" y="6354720"/>
              <a:ext cx="13971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 допусков вал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2070000" y="5680080"/>
              <a:ext cx="814320" cy="870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>
              <a:off x="2417760" y="65581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3233880" y="5837400"/>
              <a:ext cx="17445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е допуска основного отверст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7"/>
            <p:cNvSpPr/>
            <p:nvPr/>
          </p:nvSpPr>
          <p:spPr>
            <a:xfrm>
              <a:off x="3583080" y="5429160"/>
              <a:ext cx="1628640" cy="627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8"/>
            <p:cNvSpPr/>
            <p:nvPr/>
          </p:nvSpPr>
          <p:spPr>
            <a:xfrm>
              <a:off x="4978440" y="4424400"/>
              <a:ext cx="1049400" cy="50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9"/>
            <p:cNvSpPr/>
            <p:nvPr/>
          </p:nvSpPr>
          <p:spPr>
            <a:xfrm flipV="1">
              <a:off x="4048200" y="4424400"/>
              <a:ext cx="93024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3932280" y="442440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1"/>
            <p:cNvSpPr/>
            <p:nvPr/>
          </p:nvSpPr>
          <p:spPr>
            <a:xfrm>
              <a:off x="3699000" y="4221000"/>
              <a:ext cx="1396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 допусков вал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>
              <a:off x="6492960" y="5554800"/>
              <a:ext cx="104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3"/>
            <p:cNvSpPr/>
            <p:nvPr/>
          </p:nvSpPr>
          <p:spPr>
            <a:xfrm>
              <a:off x="6375240" y="5302080"/>
              <a:ext cx="13971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улевая ли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4"/>
            <p:cNvSpPr/>
            <p:nvPr/>
          </p:nvSpPr>
          <p:spPr>
            <a:xfrm flipV="1">
              <a:off x="7191360" y="555444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6858000" y="5554800"/>
              <a:ext cx="58248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оминальный разм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6"/>
            <p:cNvSpPr/>
            <p:nvPr/>
          </p:nvSpPr>
          <p:spPr>
            <a:xfrm>
              <a:off x="6375240" y="4925880"/>
              <a:ext cx="5828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7"/>
            <p:cNvSpPr/>
            <p:nvPr/>
          </p:nvSpPr>
          <p:spPr>
            <a:xfrm>
              <a:off x="7424640" y="5554800"/>
              <a:ext cx="3477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8"/>
            <p:cNvSpPr/>
            <p:nvPr/>
          </p:nvSpPr>
          <p:spPr>
            <a:xfrm>
              <a:off x="1371600" y="5554800"/>
              <a:ext cx="3477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Tahoma"/>
              </a:rPr>
              <a:t>Система вала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система допусков и посадок, при которой предельные размеры вала для всех посадок для данного номинального размера сопряжения и квалитета остаются постоянными, а требуемые посадки достигаются за счёт изменения предельных размеров отверс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Системы допусков и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7039080" y="5105520"/>
            <a:ext cx="6062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8"/>
          <p:cNvGrpSpPr/>
          <p:nvPr/>
        </p:nvGrpSpPr>
        <p:grpSpPr>
          <a:xfrm>
            <a:off x="1371600" y="3962520"/>
            <a:ext cx="6553080" cy="2895480"/>
            <a:chOff x="1371600" y="3962520"/>
            <a:chExt cx="6553080" cy="2895480"/>
          </a:xfrm>
        </p:grpSpPr>
        <p:sp>
          <p:nvSpPr>
            <p:cNvPr id="194" name="Rectangle 6"/>
            <p:cNvSpPr/>
            <p:nvPr/>
          </p:nvSpPr>
          <p:spPr>
            <a:xfrm>
              <a:off x="1614600" y="4951440"/>
              <a:ext cx="5097240" cy="609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7"/>
            <p:cNvGrpSpPr/>
            <p:nvPr/>
          </p:nvGrpSpPr>
          <p:grpSpPr>
            <a:xfrm>
              <a:off x="3798720" y="5105520"/>
              <a:ext cx="849600" cy="304920"/>
              <a:chOff x="3798720" y="5105520"/>
              <a:chExt cx="849600" cy="304920"/>
            </a:xfrm>
          </p:grpSpPr>
          <p:sp>
            <p:nvSpPr>
              <p:cNvPr id="196" name="Rectangle 8"/>
              <p:cNvSpPr/>
              <p:nvPr/>
            </p:nvSpPr>
            <p:spPr>
              <a:xfrm>
                <a:off x="3798720" y="5105520"/>
                <a:ext cx="849600" cy="303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4041720" y="5105520"/>
                <a:ext cx="3643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Rectangle 10"/>
            <p:cNvSpPr/>
            <p:nvPr/>
          </p:nvSpPr>
          <p:spPr>
            <a:xfrm>
              <a:off x="2705040" y="4800600"/>
              <a:ext cx="85104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2949480" y="4800600"/>
              <a:ext cx="3654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2"/>
            <p:cNvGrpSpPr/>
            <p:nvPr/>
          </p:nvGrpSpPr>
          <p:grpSpPr>
            <a:xfrm>
              <a:off x="1614600" y="4496040"/>
              <a:ext cx="849240" cy="304560"/>
              <a:chOff x="1614600" y="4496040"/>
              <a:chExt cx="849240" cy="304560"/>
            </a:xfrm>
          </p:grpSpPr>
          <p:sp>
            <p:nvSpPr>
              <p:cNvPr id="201" name="Rectangle 13"/>
              <p:cNvSpPr/>
              <p:nvPr/>
            </p:nvSpPr>
            <p:spPr>
              <a:xfrm>
                <a:off x="1614600" y="4496040"/>
                <a:ext cx="849240" cy="3034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4"/>
              <p:cNvSpPr/>
              <p:nvPr/>
            </p:nvSpPr>
            <p:spPr>
              <a:xfrm>
                <a:off x="1857600" y="4496040"/>
                <a:ext cx="3643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D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"/>
            <p:cNvGrpSpPr/>
            <p:nvPr/>
          </p:nvGrpSpPr>
          <p:grpSpPr>
            <a:xfrm>
              <a:off x="4889520" y="5408640"/>
              <a:ext cx="851040" cy="306360"/>
              <a:chOff x="4889520" y="5408640"/>
              <a:chExt cx="851040" cy="306360"/>
            </a:xfrm>
          </p:grpSpPr>
          <p:sp>
            <p:nvSpPr>
              <p:cNvPr id="204" name="Rectangle 16"/>
              <p:cNvSpPr/>
              <p:nvPr/>
            </p:nvSpPr>
            <p:spPr>
              <a:xfrm>
                <a:off x="4889520" y="5408640"/>
                <a:ext cx="851040" cy="3052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7"/>
              <p:cNvSpPr/>
              <p:nvPr/>
            </p:nvSpPr>
            <p:spPr>
              <a:xfrm>
                <a:off x="5132880" y="5408640"/>
                <a:ext cx="3650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8"/>
            <p:cNvGrpSpPr/>
            <p:nvPr/>
          </p:nvGrpSpPr>
          <p:grpSpPr>
            <a:xfrm>
              <a:off x="5861160" y="5713560"/>
              <a:ext cx="850680" cy="306360"/>
              <a:chOff x="5861160" y="5713560"/>
              <a:chExt cx="850680" cy="306360"/>
            </a:xfrm>
          </p:grpSpPr>
          <p:sp>
            <p:nvSpPr>
              <p:cNvPr id="207" name="Rectangle 19"/>
              <p:cNvSpPr/>
              <p:nvPr/>
            </p:nvSpPr>
            <p:spPr>
              <a:xfrm>
                <a:off x="5861160" y="5713560"/>
                <a:ext cx="850680" cy="3052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20"/>
              <p:cNvSpPr/>
              <p:nvPr/>
            </p:nvSpPr>
            <p:spPr>
              <a:xfrm>
                <a:off x="6104520" y="5713560"/>
                <a:ext cx="3650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21"/>
            <p:cNvSpPr/>
            <p:nvPr/>
          </p:nvSpPr>
          <p:spPr>
            <a:xfrm>
              <a:off x="1978200" y="5104080"/>
              <a:ext cx="36504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>
              <a:off x="6711840" y="495324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 flipV="1">
              <a:off x="7318440" y="4952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6469200" y="4648320"/>
              <a:ext cx="145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улевая ли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2100240" y="4191120"/>
              <a:ext cx="969840" cy="609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6"/>
            <p:cNvSpPr/>
            <p:nvPr/>
          </p:nvSpPr>
          <p:spPr>
            <a:xfrm flipH="1" flipV="1">
              <a:off x="2949120" y="4191120"/>
              <a:ext cx="1335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2949480" y="4191120"/>
              <a:ext cx="12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8"/>
            <p:cNvSpPr/>
            <p:nvPr/>
          </p:nvSpPr>
          <p:spPr>
            <a:xfrm>
              <a:off x="2949480" y="3962520"/>
              <a:ext cx="1455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ля допусков отверс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>
              <a:off x="1565280" y="5410440"/>
              <a:ext cx="1747800" cy="609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0"/>
            <p:cNvSpPr/>
            <p:nvPr/>
          </p:nvSpPr>
          <p:spPr>
            <a:xfrm>
              <a:off x="1371600" y="5791320"/>
              <a:ext cx="182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ле допуска основного вал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>
              <a:off x="5254560" y="5715000"/>
              <a:ext cx="971640" cy="76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 flipH="1">
              <a:off x="4404960" y="6477120"/>
              <a:ext cx="12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3"/>
            <p:cNvSpPr/>
            <p:nvPr/>
          </p:nvSpPr>
          <p:spPr>
            <a:xfrm>
              <a:off x="4162320" y="6248520"/>
              <a:ext cx="145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ля допусков отверс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5"/>
            <p:cNvSpPr/>
            <p:nvPr/>
          </p:nvSpPr>
          <p:spPr>
            <a:xfrm>
              <a:off x="6634080" y="5410440"/>
              <a:ext cx="606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e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6"/>
            <p:cNvSpPr/>
            <p:nvPr/>
          </p:nvSpPr>
          <p:spPr>
            <a:xfrm>
              <a:off x="1371600" y="4800600"/>
              <a:ext cx="363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7"/>
            <p:cNvSpPr/>
            <p:nvPr/>
          </p:nvSpPr>
          <p:spPr>
            <a:xfrm>
              <a:off x="7561440" y="4953240"/>
              <a:ext cx="36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Основная дета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деталь, размеры которой для всех посадок при неизменных номинальном размере и квалитете не мен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истеме отверстия основной деталью явля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р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 в системе вала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а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Основной вал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ал, верхнее отклонение которого равно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Основное отверст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отверстие, нижнее отклонение которого равно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Системы допусков и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Основное отклон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одно из двух предельных отклонений поля допуска (верхнее или нижнее), которое является ближайшим к нулевой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ЕСДП установлено по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новных отклонений валов и отверстий, которые обозначены буквами латинского алфавита строчны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вал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от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z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прописны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отверсти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от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Z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в диапазоне номинальных размеров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о 500 м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новных отклонений валов и отверстий в диапазоне номинальных размеров свыше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500 д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10 000 м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Системы допусков и пос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ahoma"/>
              </a:rPr>
              <a:t>Схемы расположения основных отклонений отверстий и ва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5"/>
          <p:cNvGraphicFramePr/>
          <p:nvPr/>
        </p:nvGraphicFramePr>
        <p:xfrm>
          <a:off x="152280" y="1020600"/>
          <a:ext cx="8839440" cy="58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20600"/>
                    <a:ext cx="883944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16T09:02:39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