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5B1-0A7F-49E7-8FC0-1125B33E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442-E291-4723-83A9-9F6CD891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AA5-B03B-4AB8-BC34-66869B17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0D1-8EE2-485F-A7DF-53E97C1C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D6FF-D321-4D1A-A5AF-F323DD97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E769-A227-44F4-A0FE-D34E040B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0AE9-71C6-4DDB-A7B7-57CE7A2F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E6EB-24DF-45BB-8803-9948012F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7DD9-FCF0-445B-94D9-6E60FF7A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F7CC-47DE-4576-8507-10779DFD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EF2E-2F2F-4731-B8F5-014CCBF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CD3-5D62-4AAD-AB5F-61982231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F878-00E0-42D9-9F94-B676E4CA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C933-35F8-4D5A-83B5-CE608807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F00D-110A-46AE-842A-F23DE500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5686-D0C7-49CE-A7E3-ED531D9C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F9AE-3F04-4FDE-9C3A-623B3816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F32-6950-465F-89A7-742D7A18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5CD-3338-4B96-9A78-E9834836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B78-BCB3-40E0-922D-B1AF8417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1A3-C9D1-4DB8-BB36-1E5F6990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185-DDC5-4DB6-8438-1DE67304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ED0-2BD8-4E07-8327-F5EE1A6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1FE-F0F9-4183-B963-B0629C97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8303-0793-4930-AB1A-F193B85F76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35E7-E92A-4600-A0CF-9E1E076B39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Взаимозаменяемость резьбовых соединений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3 Общие принципы взаимозаменяемости цилиндрических резьб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468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C8B-6C0A-436E-AD0E-613A0D1FF8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3 Общие принципы взаимозаменяемости цилиндрических резьб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иаметральная компенсация погрешности шага резьб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1101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114800" cy="1825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051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8610480" cy="74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2FD-DDEC-46F2-BE99-E749CC22C3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3 Общие принципы взаимозаменяемости цилиндрических резьб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275256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5181480" cy="465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76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" y="3657600"/>
                <a:ext cx="3952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Δ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62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иаметральная компенсация угла профиля резьб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9D2-D67C-4406-8FAF-D1E86BB966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Значение среднего диаметра резьбы, увеличенное для наружной или уменьшенное для внутренней резьбы на суммарную диаметральную компенсацию отклонений шага и угла наклона боковой стороны профиля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иведенным средним диаметром</a:t>
            </a: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□   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для наружной резьбы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пр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u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зм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+</a:t>
            </a: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□   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для внутренней резьбы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пр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u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зм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3 Общие принципы взаимозаменяемости цилиндрических резьб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752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3.2 Приведенный средний диаметр резьбы.</a:t>
            </a: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557-A4DB-46CA-9A2A-3DAA92839F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3 Общие принципы взаимозаменяемости цилиндрических резьб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356220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925040" cy="1084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1752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3.3 Суммарный допуск среднего диаметра резьбы.</a:t>
            </a: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CAF-AD62-4A33-9B57-BC1243932D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C41-4571-4AC0-A4B7-53F890FAF0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СТ 16093-81 устанавливает предельные отклонения диаметров резьбы в посадках типа скользящих и с зазор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ы ряды основных отклонений: для болтов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 для гаек Н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2DA-08FA-4300-8AA5-1B415C520D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ружно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ьб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(80+11P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(50+ 11P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f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(30+ 11P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g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+ 11P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4581360" y="1676520"/>
            <a:ext cx="402912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нутренней резьб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(50+ 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(30 + 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(15 + 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09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верхнее и нижнее отклонения, мкм; Р — шаг резьбы,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04D-CF99-4AF0-857C-0CEA341389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ы также следующие степени точности, определяющие значения допусков диаметров наружной и внутренней резьб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126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аметры бол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жный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, 6, 8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ний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, 4, 5, 6, 7, 8, 9, 10*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126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аметры гай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утренний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4, 5, 6, 7, 8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ний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, 5, 6, 7, 8, 9*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1AF-B156-4566-AAFA-D33EA8280F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26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наружного диаметра болто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126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внутреннего диаметра гаек  при Р≤0,8 мм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 &gt; 1 м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где Р 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в мм; Т — в мк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876920" y="2286000"/>
                <a:ext cx="4267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d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76920" y="3962520"/>
                <a:ext cx="41148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3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0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029200" y="5181480"/>
                <a:ext cx="31240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,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914400" y="1523880"/>
            <a:ext cx="7162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Допуски по 6-й степени точности определяются по формул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845-F00E-41C6-84BC-4690000D1A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 Классификация резьб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о назнач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резьб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об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 специальны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о профил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витков (виду контура осевого сечени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треугольны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 трапецеидальны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 упорные (пилообразные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) прямоугольны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) кругл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414-DD43-48CE-860C-C33F342ED5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26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среднего диаметра бол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126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среднего диаметра гаек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(6)=1,3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(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где Р 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в мм; Т — в мк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876920" y="1905120"/>
                <a:ext cx="3886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,4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0,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724280" y="3200400"/>
                <a:ext cx="38862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9D7-929E-444A-A964-95446C0C73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опуски остальных степеней точности определяются умножением допуска 6-й степени точности на следующие коэффициен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тепень точности   3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4        5        7        8        9      1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эффициент         0,5     0,63    0,8      1,25    1,6      2     2,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AF0-9402-4234-B816-8169EA3A32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зависимости от длины свинчивания резьбы разделены на три груп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126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лы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длины свинчивания до 2,24Р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0,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126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рмальные N - длины от 2,24Р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0,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о 6,7Р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0,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126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ьш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длины свинчивания свыше 6,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0,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D37-F0FD-44B0-8702-700AA8E147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В зависимости от точности резьбового соединения установлены три класса точности: точный, средний и груб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90720" y="2638440"/>
            <a:ext cx="7086600" cy="42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C99-73D9-422E-AD44-FFCC30F182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4594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642-A594-4CF5-9357-9BD2944416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50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651-B236-42F1-95CA-73D31410F8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Verdana"/>
              </a:rPr>
              <a:t>Обозначение допусков и посадок с зазором метрических резь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126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24 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5-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5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резьба метрическая: наружный диаметр 24 мм; шаг 1,5 мм; поле допуска на средний диаметр 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поле допуска на наружный диаметр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резьба с закругленной впадиной; длина свинчивания 50 мм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126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2 х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/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резьба левая;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поля допусков среднего и внутреннего диаметров гайки;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поля допусков среднего и наружного диаметров болт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4 Допуски и посадки резьб с зазор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BC3-67AC-49F4-8831-225C5BA01C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ОСТ 4608-81* предусматривает посадки с натягом только в системе отверс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5 Допуски и посадки резьб с натяг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238880" cy="36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36F-4C4E-45BD-B411-503216F2D4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положение полей допусков резьбы а посадках с натяг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5 Допуски и посадки резьб с натягом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5410080" cy="394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05720" y="2438280"/>
                <a:ext cx="1371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781680" y="3352680"/>
                <a:ext cx="1371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858000" y="4419720"/>
                <a:ext cx="1295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5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0" y="5486400"/>
                <a:ext cx="12193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4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48B-BD5C-4EBF-AFBA-934F1CB945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5 Допуски и посадки резьб с переходной посадко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1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5BE-260A-4BEB-B8BD-FBEAB23E9E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 Классификация резьб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 числу заход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) однозаходные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) многозаходные (двухзаходные, трехзаходные и т. д.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 форме поверхносте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) цилиндр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) коническ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1FA-AA3A-4C90-BDA3-00CDC501C3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5 Допуски и посадки резьб с переходной посадко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 ГОСТ 24834-81* предусмотрены следующие посад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5943600" cy="3616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248520" y="2286000"/>
                <a:ext cx="990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Н</m:t>
                        </m:r>
                        <m:r>
                          <m:t xml:space="preserve">6</m:t>
                        </m:r>
                        <m:r>
                          <m:t xml:space="preserve">Н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772400" y="2209680"/>
                <a:ext cx="990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Н</m:t>
                        </m:r>
                        <m:r>
                          <m:t xml:space="preserve">6</m:t>
                        </m:r>
                        <m:r>
                          <m:t xml:space="preserve">Н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324480" y="3276720"/>
                <a:ext cx="990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Н</m:t>
                        </m:r>
                        <m:r>
                          <m:t xml:space="preserve">6</m:t>
                        </m:r>
                        <m:r>
                          <m:t xml:space="preserve">Н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j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772400" y="3352680"/>
                <a:ext cx="914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Н</m:t>
                        </m:r>
                        <m:r>
                          <m:t xml:space="preserve">6</m:t>
                        </m:r>
                        <m:r>
                          <m:t xml:space="preserve">Н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629400" y="4419720"/>
                <a:ext cx="9144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Н</m:t>
                        </m:r>
                        <m:r>
                          <m:t xml:space="preserve">6</m:t>
                        </m:r>
                        <m:r>
                          <m:t xml:space="preserve">Н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924680" y="4419720"/>
                <a:ext cx="838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Н</m:t>
                        </m:r>
                        <m:r>
                          <m:t xml:space="preserve">6</m:t>
                        </m:r>
                        <m:r>
                          <m:t xml:space="preserve">Н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4E2-6DE8-46AB-B336-5A2D01AAD7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условных обозначениях резьб с натягом и с переходными посадк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ле допуска наружного диаметр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шпильки (болта) не проставляется, поскольку оно постоянное (для резьб с натягом — 6е или 6с, а для резьб с переходными посадками —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4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адка с натяго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4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М12-2Н5С(2)/3р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4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ходная посадк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4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М12-4Н6Н/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5 Допуски и посадки резьб с переходной посадко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CC1-2E20-402F-BB91-D90D5C02A7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 Классификация резьб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В зависимости от направления вращения контура осевого сеч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прав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 левые резьб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о принятой единице измерения линейных размер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метр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 дюймов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D52-5358-4CC1-A812-713FBD86DC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2 Основные параметры метрической крепежной резьб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ОСТ 9150-81 и ГОСТ 24705-8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60560"/>
            <a:ext cx="7696440" cy="48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784-D53D-4018-A9F8-BE2E5B01C7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2 Основные параметры метрической крепежной резьб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аружный диаметр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аметр воображаемого цилиндра, описанного вокруг вершин наружной резьбы (болта) или по впадинам внутренней резьбы (гайки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нутренний диаметр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— диаметр воображаемого цилиндра, вписанного во впадины наружной резьбы (болта) или в вершины внутренней резьбы (гайки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редний диаметр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— диаметр воображаемого соосного с резьбой цилиндра, образующая которого пересекает профиль витков в точках, где ширина канавки равна половине номинального ша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970-56DF-4671-98A5-551200DE72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2 Основные параметры метрической крепежной резьб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Шаг резьбы Р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— расстояние между соседними одноименными боковыми сторонами профиля в направлении, параллельном оси резьб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гол профиля резьбы </a:t>
            </a:r>
            <a:r>
              <a:rPr b="1" i="1" lang="el-GR" sz="24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— угол между смежными боковыми сторонами резьбы в плоскости осевого сечения; для метрической резьбы </a:t>
            </a:r>
            <a:r>
              <a:rPr b="0" i="1" lang="el-GR" sz="24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= 60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лина свинчивания (высота гайки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— длина участка взаимного перекрытия наружной и внутренней резьб в осевом направлении, размер фаски не входит в длину свинчив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ысота исходного треугольника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бочая высота профиля Н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BF1-7BE7-420A-82CD-C1FCBCC04D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3 Общие принципы взаимозаменяемости цилиндрических резьб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6002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3.1 Отклонения шага и угла профиля резьбы и их диаметральная компенсация.</a:t>
            </a: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4582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7D7-AA13-49B0-A71E-0E2DE44F4D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3 Общие принципы взаимозаменяемости цилиндрических резьб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444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CED-63FB-4FDE-9C9A-B7C7D88FB9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4-14T09:56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