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E88B-598C-4227-803F-CD69EE88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11C3-7650-499A-BCCD-784A95A6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0101-589E-481D-99AB-89AFE96F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935A-EA87-43AA-A224-E84C004C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DAAD-A691-4660-BF52-1860EE17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2677-0E01-495A-8D18-848F48EF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CE4E-312F-4141-91FE-DEC4CE7D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8489-389E-445E-8386-BEBF0584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E977-377F-44C4-AC1F-6423ADAA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2CAC-4A00-4269-A4D6-FDD3D898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42DD-72C6-464E-89C3-3434FED8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F1EF-BCF8-4073-B3FA-646A1667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65A6-E9FF-4987-BF67-1F1ECDC3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3A7D-3369-453A-B1B8-8720C281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2A38-EEF2-414C-89FA-84CA110F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256B-F91B-46DF-86C7-DB74DD55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3049-4600-4AA1-BEB4-D09914A7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2D4D-0401-4BD1-B4D3-0BDD5F51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55AF-D578-4BBB-8862-AE6A423F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A74E-00E6-4F04-88E2-ABBFF4CF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C869-E087-47D7-8733-65EC2116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B6A7-E7EB-4869-B152-76AC2A41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867-D5BD-49E3-9107-535EC728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D339-9D85-46AA-8CAB-2C177C60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F6F1-6630-40B2-9961-E54CB24F2B0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B43F-D7E9-4986-B0D3-7362E820869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0066"/>
                </a:solidFill>
                <a:latin typeface="Tahoma"/>
              </a:rPr>
              <a:t>1 Взаимозаменяемость угловых размеров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320" y="1719360"/>
            <a:ext cx="899136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ff"/>
                </a:solidFill>
                <a:latin typeface="Tahoma"/>
              </a:rPr>
              <a:t>Углы общего назначения (ГОСТ 8908-81)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– углы , размеры которых во многих случаях являются независимыми, т.к. не связаны расчётными зависимостями с другими принятыми линейными или угловыми параметрами (</a:t>
            </a:r>
            <a:r>
              <a:rPr b="1" i="1" lang="ru-RU" sz="2600" spc="-1" strike="noStrike">
                <a:solidFill>
                  <a:srgbClr val="00b400"/>
                </a:solidFill>
                <a:latin typeface="Tahoma"/>
              </a:rPr>
              <a:t>например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 фаски, скосы, наклонные поверхности, штамповочные и литейные уклоны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ff"/>
                </a:solidFill>
                <a:latin typeface="Tahoma"/>
              </a:rPr>
              <a:t>Первый ряд: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; 5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; 15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; 20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; 30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; 45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; 60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; 90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; 120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ff"/>
                </a:solidFill>
                <a:latin typeface="Tahoma"/>
              </a:rPr>
              <a:t>Второй ряд: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углы первого ряда и в дополнение к ним углы 0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; 1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; 2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; 3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; 4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; 6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; 7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; 8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; 10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; 40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; 75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ff"/>
                </a:solidFill>
                <a:latin typeface="Tahoma"/>
              </a:rPr>
              <a:t>Третий ряд: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углы первого и второго рядов и большое количество дополнительных угл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0066"/>
                </a:solidFill>
                <a:latin typeface="Tahoma"/>
              </a:rPr>
              <a:t>Размеры конического соединения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719360"/>
            <a:ext cx="88390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ahoma"/>
              </a:rPr>
              <a:t>Коническое соединени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соединение наружного и внутреннего конусов, имеющих одинаковые номинальные углы конусов или одинаковые номинальные конус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68699" t="16281" r="1016" b="4357"/>
          <a:stretch/>
        </p:blipFill>
        <p:spPr>
          <a:xfrm>
            <a:off x="3276720" y="3809880"/>
            <a:ext cx="2522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0066"/>
                </a:solidFill>
                <a:latin typeface="Tahoma"/>
              </a:rPr>
              <a:t>Размеры конического соединения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719360"/>
            <a:ext cx="88390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ahoma"/>
              </a:rPr>
              <a:t>Основная плоскость конус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плоскость, перпендикулярная к оси конуса, в которой задаётся номинальный диаметр кон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400"/>
                </a:solidFill>
                <a:latin typeface="Tahoma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есл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основная плоскость совпадает с большим основание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конуса, то номинальным диаметром будет являтьс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447920" y="4419720"/>
            <a:ext cx="2285640" cy="2382120"/>
            <a:chOff x="1447920" y="4419720"/>
            <a:chExt cx="2285640" cy="2382120"/>
          </a:xfrm>
        </p:grpSpPr>
        <p:grpSp>
          <p:nvGrpSpPr>
            <p:cNvPr id="185" name=""/>
            <p:cNvGrpSpPr/>
            <p:nvPr/>
          </p:nvGrpSpPr>
          <p:grpSpPr>
            <a:xfrm>
              <a:off x="1447920" y="4419720"/>
              <a:ext cx="2285640" cy="2382120"/>
              <a:chOff x="1447920" y="4419720"/>
              <a:chExt cx="2285640" cy="238212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1447920" y="4419720"/>
                <a:ext cx="2285640" cy="2382120"/>
                <a:chOff x="1447920" y="4419720"/>
                <a:chExt cx="2285640" cy="238212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1883160" y="4419720"/>
                  <a:ext cx="1850400" cy="2214360"/>
                  <a:chOff x="1883160" y="4419720"/>
                  <a:chExt cx="1850400" cy="2214360"/>
                </a:xfrm>
              </p:grpSpPr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1883160" y="4419720"/>
                    <a:ext cx="1850400" cy="2066400"/>
                    <a:chOff x="1883160" y="4419720"/>
                    <a:chExt cx="1850400" cy="2066400"/>
                  </a:xfrm>
                </p:grpSpPr>
                <p:pic>
                  <p:nvPicPr>
                    <p:cNvPr id="189" name="" descr=""/>
                    <p:cNvPicPr/>
                    <p:nvPr/>
                  </p:nvPicPr>
                  <p:blipFill>
                    <a:blip r:embed="rId1"/>
                    <a:srcRect l="0" t="15473" r="73099" b="20234"/>
                    <a:stretch/>
                  </p:blipFill>
                  <p:spPr>
                    <a:xfrm>
                      <a:off x="1883160" y="4566960"/>
                      <a:ext cx="1850400" cy="191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2898720" y="4419720"/>
                      <a:ext cx="362880" cy="368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>
                    <a:off x="1955520" y="6043320"/>
                    <a:ext cx="144720" cy="59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"/>
                <p:cNvSpPr/>
                <p:nvPr/>
              </p:nvSpPr>
              <p:spPr>
                <a:xfrm>
                  <a:off x="1447920" y="6191640"/>
                  <a:ext cx="1523880" cy="610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9900ff"/>
                      </a:solidFill>
                      <a:latin typeface="Tahoma"/>
                    </a:rPr>
                    <a:t>Основная плоскость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"/>
              <p:cNvSpPr/>
              <p:nvPr/>
            </p:nvSpPr>
            <p:spPr>
              <a:xfrm>
                <a:off x="2971800" y="6298920"/>
                <a:ext cx="2901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3189240" y="6413040"/>
              <a:ext cx="217440" cy="14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257800" y="4191120"/>
            <a:ext cx="3047040" cy="2590200"/>
            <a:chOff x="5257800" y="4191120"/>
            <a:chExt cx="3047040" cy="2590200"/>
          </a:xfrm>
        </p:grpSpPr>
        <p:grpSp>
          <p:nvGrpSpPr>
            <p:cNvPr id="196" name=""/>
            <p:cNvGrpSpPr/>
            <p:nvPr/>
          </p:nvGrpSpPr>
          <p:grpSpPr>
            <a:xfrm>
              <a:off x="5257800" y="4191120"/>
              <a:ext cx="3047040" cy="2590200"/>
              <a:chOff x="5257800" y="4191120"/>
              <a:chExt cx="3047040" cy="259020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5257800" y="4191120"/>
                <a:ext cx="3047040" cy="2589480"/>
                <a:chOff x="5257800" y="4191120"/>
                <a:chExt cx="3047040" cy="2589480"/>
              </a:xfrm>
            </p:grpSpPr>
            <p:grpSp>
              <p:nvGrpSpPr>
                <p:cNvPr id="198" name=""/>
                <p:cNvGrpSpPr/>
                <p:nvPr/>
              </p:nvGrpSpPr>
              <p:grpSpPr>
                <a:xfrm>
                  <a:off x="5257800" y="4191120"/>
                  <a:ext cx="3047040" cy="2589480"/>
                  <a:chOff x="5257800" y="4191120"/>
                  <a:chExt cx="3047040" cy="2589480"/>
                </a:xfrm>
              </p:grpSpPr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rcRect l="32998" t="0" r="40610" b="5951"/>
                  <a:stretch/>
                </p:blipFill>
                <p:spPr>
                  <a:xfrm>
                    <a:off x="5257800" y="4525200"/>
                    <a:ext cx="1866960" cy="22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0" name=""/>
                  <p:cNvSpPr/>
                  <p:nvPr/>
                </p:nvSpPr>
                <p:spPr>
                  <a:xfrm>
                    <a:off x="6413400" y="4191120"/>
                    <a:ext cx="1891440" cy="61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9900ff"/>
                        </a:solidFill>
                        <a:latin typeface="Tahoma"/>
                      </a:rPr>
                      <a:t>Основная плоскость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>
                  <a:off x="6728760" y="5527800"/>
                  <a:ext cx="210240" cy="334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5257800" y="6363720"/>
                <a:ext cx="1891800" cy="41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 rot="10800000">
              <a:off x="6629400" y="5486040"/>
              <a:ext cx="48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ff"/>
                  </a:solidFill>
                  <a:latin typeface="Tahom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0066"/>
                </a:solidFill>
                <a:latin typeface="Tahoma"/>
              </a:rPr>
              <a:t>Размеры конического соединения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240" y="1719360"/>
            <a:ext cx="88390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Базовая плоскость конус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плоскость, перпендикулярная к оси конуса и служащая для определения осевого положения основной плоскости или осевого положения данного конуса относительно сопрягаемого с ним кон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676520" y="4191120"/>
            <a:ext cx="1915920" cy="2514600"/>
            <a:chOff x="1676520" y="4191120"/>
            <a:chExt cx="1915920" cy="2514600"/>
          </a:xfrm>
        </p:grpSpPr>
        <p:grpSp>
          <p:nvGrpSpPr>
            <p:cNvPr id="207" name=""/>
            <p:cNvGrpSpPr/>
            <p:nvPr/>
          </p:nvGrpSpPr>
          <p:grpSpPr>
            <a:xfrm>
              <a:off x="1752480" y="4496040"/>
              <a:ext cx="1839960" cy="2209680"/>
              <a:chOff x="1752480" y="4496040"/>
              <a:chExt cx="1839960" cy="220968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1752480" y="4496040"/>
                <a:ext cx="1839960" cy="2209680"/>
                <a:chOff x="1752480" y="4496040"/>
                <a:chExt cx="1839960" cy="220968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1752480" y="4496040"/>
                  <a:ext cx="1839960" cy="2209680"/>
                  <a:chOff x="1752480" y="4496040"/>
                  <a:chExt cx="1839960" cy="2209680"/>
                </a:xfrm>
              </p:grpSpPr>
              <p:pic>
                <p:nvPicPr>
                  <p:cNvPr id="210" name="" descr=""/>
                  <p:cNvPicPr/>
                  <p:nvPr/>
                </p:nvPicPr>
                <p:blipFill>
                  <a:blip r:embed="rId1"/>
                  <a:srcRect l="0" t="10712" r="75640" b="23018"/>
                  <a:stretch/>
                </p:blipFill>
                <p:spPr>
                  <a:xfrm>
                    <a:off x="1752480" y="4496040"/>
                    <a:ext cx="183996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1" name=""/>
                  <p:cNvSpPr/>
                  <p:nvPr/>
                </p:nvSpPr>
                <p:spPr>
                  <a:xfrm>
                    <a:off x="1828800" y="6208920"/>
                    <a:ext cx="152280" cy="496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2" name=""/>
                <p:cNvSpPr/>
                <p:nvPr/>
              </p:nvSpPr>
              <p:spPr>
                <a:xfrm>
                  <a:off x="2438280" y="6364440"/>
                  <a:ext cx="381240" cy="264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2743200" y="6096240"/>
                <a:ext cx="304920" cy="609480"/>
                <a:chOff x="2743200" y="6096240"/>
                <a:chExt cx="304920" cy="6094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2743200" y="609624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971800" y="6400800"/>
                  <a:ext cx="7632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3048120" y="647712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1676520" y="4191120"/>
              <a:ext cx="1447560" cy="61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ff"/>
                  </a:solidFill>
                  <a:latin typeface="Tahoma"/>
                </a:rPr>
                <a:t>Базовая плоск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689360" y="4191120"/>
            <a:ext cx="3463920" cy="2438280"/>
            <a:chOff x="4689360" y="4191120"/>
            <a:chExt cx="3463920" cy="2438280"/>
          </a:xfrm>
        </p:grpSpPr>
        <p:pic>
          <p:nvPicPr>
            <p:cNvPr id="219" name="" descr=""/>
            <p:cNvPicPr/>
            <p:nvPr/>
          </p:nvPicPr>
          <p:blipFill>
            <a:blip r:embed="rId2"/>
            <a:srcRect l="32490" t="15473" r="46870" b="23018"/>
            <a:stretch/>
          </p:blipFill>
          <p:spPr>
            <a:xfrm>
              <a:off x="4689360" y="4648320"/>
              <a:ext cx="155916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 flipV="1">
              <a:off x="6248520" y="4647960"/>
              <a:ext cx="45720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05720" y="4191120"/>
              <a:ext cx="1447560" cy="61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ff"/>
                  </a:solidFill>
                  <a:latin typeface="Tahoma"/>
                </a:rPr>
                <a:t>Базовая плоск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0066"/>
                </a:solidFill>
                <a:latin typeface="Tahoma"/>
              </a:rPr>
              <a:t>Размеры конического соединения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240" y="1719360"/>
            <a:ext cx="88390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ahoma"/>
              </a:rPr>
              <a:t>Базорасстояние конус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Z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расстояние между основной и базовой плоскост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62120" y="2819520"/>
            <a:ext cx="2220840" cy="3841200"/>
            <a:chOff x="762120" y="2819520"/>
            <a:chExt cx="2220840" cy="3841200"/>
          </a:xfrm>
        </p:grpSpPr>
        <p:grpSp>
          <p:nvGrpSpPr>
            <p:cNvPr id="225" name=""/>
            <p:cNvGrpSpPr/>
            <p:nvPr/>
          </p:nvGrpSpPr>
          <p:grpSpPr>
            <a:xfrm>
              <a:off x="762120" y="2819520"/>
              <a:ext cx="2220840" cy="3841200"/>
              <a:chOff x="762120" y="2819520"/>
              <a:chExt cx="2220840" cy="384120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762120" y="2819520"/>
                <a:ext cx="2220840" cy="3841200"/>
                <a:chOff x="762120" y="2819520"/>
                <a:chExt cx="2220840" cy="3841200"/>
              </a:xfrm>
            </p:grpSpPr>
            <p:grpSp>
              <p:nvGrpSpPr>
                <p:cNvPr id="227" name=""/>
                <p:cNvGrpSpPr/>
                <p:nvPr/>
              </p:nvGrpSpPr>
              <p:grpSpPr>
                <a:xfrm>
                  <a:off x="762120" y="3079440"/>
                  <a:ext cx="2220840" cy="3581280"/>
                  <a:chOff x="762120" y="3079440"/>
                  <a:chExt cx="2220840" cy="3581280"/>
                </a:xfrm>
              </p:grpSpPr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762120" y="3079440"/>
                    <a:ext cx="2220840" cy="3581280"/>
                    <a:chOff x="762120" y="3079440"/>
                    <a:chExt cx="2220840" cy="3581280"/>
                  </a:xfrm>
                </p:grpSpPr>
                <p:grpSp>
                  <p:nvGrpSpPr>
                    <p:cNvPr id="229" name=""/>
                    <p:cNvGrpSpPr/>
                    <p:nvPr/>
                  </p:nvGrpSpPr>
                  <p:grpSpPr>
                    <a:xfrm>
                      <a:off x="762120" y="3079440"/>
                      <a:ext cx="2220840" cy="3124080"/>
                      <a:chOff x="762120" y="3079440"/>
                      <a:chExt cx="2220840" cy="3124080"/>
                    </a:xfrm>
                  </p:grpSpPr>
                  <p:pic>
                    <p:nvPicPr>
                      <p:cNvPr id="230" name="" descr=""/>
                      <p:cNvPicPr/>
                      <p:nvPr/>
                    </p:nvPicPr>
                    <p:blipFill>
                      <a:blip r:embed="rId1"/>
                      <a:srcRect l="0" t="10712" r="75975" b="11902"/>
                      <a:stretch/>
                    </p:blipFill>
                    <p:spPr>
                      <a:xfrm>
                        <a:off x="762120" y="3079440"/>
                        <a:ext cx="2220840" cy="3048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231" name=""/>
                      <p:cNvSpPr/>
                      <p:nvPr/>
                    </p:nvSpPr>
                    <p:spPr>
                      <a:xfrm>
                        <a:off x="838440" y="5178240"/>
                        <a:ext cx="228600" cy="1025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925560" y="5060520"/>
                      <a:ext cx="0" cy="16002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2678400" y="5898600"/>
                      <a:ext cx="0" cy="762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4" name=""/>
                  <p:cNvSpPr/>
                  <p:nvPr/>
                </p:nvSpPr>
                <p:spPr>
                  <a:xfrm>
                    <a:off x="925560" y="6508440"/>
                    <a:ext cx="1752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lg" type="triangle" w="med"/>
                    <a:tailEnd len="lg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5" name=""/>
                <p:cNvSpPr/>
                <p:nvPr/>
              </p:nvSpPr>
              <p:spPr>
                <a:xfrm>
                  <a:off x="990720" y="5486040"/>
                  <a:ext cx="1295280" cy="48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ff"/>
                      </a:solidFill>
                      <a:latin typeface="Tahoma"/>
                    </a:rPr>
                    <a:t>Основная плоскость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067040" y="2819520"/>
                  <a:ext cx="1295280" cy="48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ff"/>
                      </a:solidFill>
                      <a:latin typeface="Tahoma"/>
                    </a:rPr>
                    <a:t>Базовая плоскость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2362320" y="5478120"/>
                <a:ext cx="252360" cy="496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ff"/>
                    </a:solidFill>
                    <a:latin typeface="Tahoma"/>
                  </a:rPr>
                  <a:t>Z</a:t>
                </a:r>
                <a:r>
                  <a:rPr b="1" lang="en-US" sz="1600" spc="-1" strike="noStrike" baseline="-25000">
                    <a:solidFill>
                      <a:srgbClr val="9900ff"/>
                    </a:solidFill>
                    <a:latin typeface="Tahoma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447920" y="6203880"/>
              <a:ext cx="762120" cy="27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ff"/>
                  </a:solidFill>
                  <a:latin typeface="Tahoma"/>
                </a:rPr>
                <a:t>L</a:t>
              </a:r>
              <a:r>
                <a:rPr b="1" lang="en-US" sz="1600" spc="-1" strike="noStrike" baseline="-25000">
                  <a:solidFill>
                    <a:srgbClr val="9900ff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081760" y="2743200"/>
            <a:ext cx="3605040" cy="3505320"/>
            <a:chOff x="5081760" y="2743200"/>
            <a:chExt cx="3605040" cy="3505320"/>
          </a:xfrm>
        </p:grpSpPr>
        <p:grpSp>
          <p:nvGrpSpPr>
            <p:cNvPr id="240" name=""/>
            <p:cNvGrpSpPr/>
            <p:nvPr/>
          </p:nvGrpSpPr>
          <p:grpSpPr>
            <a:xfrm>
              <a:off x="5081760" y="2743200"/>
              <a:ext cx="3605040" cy="3505320"/>
              <a:chOff x="5081760" y="2743200"/>
              <a:chExt cx="3605040" cy="3505320"/>
            </a:xfrm>
          </p:grpSpPr>
          <p:pic>
            <p:nvPicPr>
              <p:cNvPr id="241" name="" descr=""/>
              <p:cNvPicPr/>
              <p:nvPr/>
            </p:nvPicPr>
            <p:blipFill>
              <a:blip r:embed="rId2"/>
              <a:srcRect l="32998" t="10712" r="38414" b="6737"/>
              <a:stretch/>
            </p:blipFill>
            <p:spPr>
              <a:xfrm>
                <a:off x="5081760" y="3124080"/>
                <a:ext cx="2538360" cy="312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6934320" y="2743200"/>
                <a:ext cx="1752480" cy="7304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ff"/>
                    </a:solidFill>
                    <a:latin typeface="Tahoma"/>
                  </a:rPr>
                  <a:t>Базовая = Основная плоскость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5791320" y="5638680"/>
              <a:ext cx="533160" cy="49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ff"/>
                  </a:solidFill>
                  <a:latin typeface="Tahoma"/>
                </a:rPr>
                <a:t>L</a:t>
              </a:r>
              <a:r>
                <a:rPr b="1" lang="en-US" sz="1600" spc="-1" strike="noStrike" baseline="-25000">
                  <a:solidFill>
                    <a:srgbClr val="9900ff"/>
                  </a:solidFill>
                  <a:latin typeface="Tahoma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0066"/>
                </a:solidFill>
                <a:latin typeface="Tahoma"/>
              </a:rPr>
              <a:t>Допуски угловых размеров</a:t>
            </a:r>
            <a:br>
              <a:rPr sz="3600"/>
            </a:br>
            <a:r>
              <a:rPr b="0" i="1" lang="en-US" sz="3600" spc="-1" strike="noStrike">
                <a:solidFill>
                  <a:srgbClr val="330066"/>
                </a:solidFill>
                <a:latin typeface="Tahoma"/>
              </a:rPr>
              <a:t>(ГОСТ 8908-81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ahoma"/>
              </a:rPr>
              <a:t>Допуск угла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АТ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от англ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ngle Toler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пуск угла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разность между наибольшим </a:t>
            </a:r>
            <a:r>
              <a:rPr b="0" i="1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ax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наименьшим </a:t>
            </a:r>
            <a:r>
              <a:rPr b="0" i="1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in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редельными уг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9900ff"/>
                </a:solidFill>
                <a:latin typeface="Tahoma"/>
              </a:rPr>
              <a:t>Для конусов</a:t>
            </a:r>
            <a:r>
              <a:rPr b="1" lang="ru-RU" sz="20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9900ff"/>
                </a:solidFill>
                <a:latin typeface="Tahoma"/>
              </a:rPr>
              <a:t>          Для конусов</a:t>
            </a:r>
            <a:r>
              <a:rPr b="1" lang="ru-RU" sz="20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9900ff"/>
                </a:solidFill>
                <a:latin typeface="Tahoma"/>
              </a:rPr>
              <a:t>        Для призматиче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ff"/>
                </a:solidFill>
                <a:latin typeface="Tahoma"/>
              </a:rPr>
              <a:t>с конусостью до 1:3</a:t>
            </a:r>
            <a:r>
              <a:rPr b="1" lang="ru-RU" sz="20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9900ff"/>
                </a:solidFill>
                <a:latin typeface="Tahoma"/>
              </a:rPr>
              <a:t>         с конусостью</a:t>
            </a:r>
            <a:r>
              <a:rPr b="1" lang="ru-RU" sz="20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9900ff"/>
                </a:solidFill>
                <a:latin typeface="Tahoma"/>
              </a:rPr>
              <a:t>                  дета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9900ff"/>
                </a:solidFill>
                <a:latin typeface="Tahoma"/>
              </a:rPr>
              <a:t>           </a:t>
            </a:r>
            <a:r>
              <a:rPr b="1" lang="ru-RU" sz="2000" spc="-1" strike="noStrike">
                <a:solidFill>
                  <a:srgbClr val="9900ff"/>
                </a:solidFill>
                <a:latin typeface="Tahoma"/>
              </a:rPr>
              <a:t>свыше 1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rcRect l="0" t="0" r="59390" b="54956"/>
          <a:stretch/>
        </p:blipFill>
        <p:spPr>
          <a:xfrm>
            <a:off x="39600" y="3962520"/>
            <a:ext cx="2430720" cy="281916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3581280" y="4191120"/>
            <a:ext cx="1981440" cy="2666880"/>
            <a:chOff x="3581280" y="4191120"/>
            <a:chExt cx="1981440" cy="2666880"/>
          </a:xfrm>
        </p:grpSpPr>
        <p:pic>
          <p:nvPicPr>
            <p:cNvPr id="248" name="" descr=""/>
            <p:cNvPicPr/>
            <p:nvPr/>
          </p:nvPicPr>
          <p:blipFill>
            <a:blip r:embed="rId2"/>
            <a:srcRect l="47894" t="6227" r="0" b="18319"/>
            <a:stretch/>
          </p:blipFill>
          <p:spPr>
            <a:xfrm>
              <a:off x="3581280" y="4191120"/>
              <a:ext cx="198144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4448160" y="6798600"/>
              <a:ext cx="399960" cy="5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" descr=""/>
          <p:cNvPicPr/>
          <p:nvPr/>
        </p:nvPicPr>
        <p:blipFill>
          <a:blip r:embed="rId3"/>
          <a:srcRect l="771" t="60810" r="52497" b="4401"/>
          <a:stretch/>
        </p:blipFill>
        <p:spPr>
          <a:xfrm>
            <a:off x="6095880" y="4254480"/>
            <a:ext cx="30481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0066"/>
                </a:solidFill>
                <a:latin typeface="Tahoma"/>
              </a:rPr>
              <a:t>Допуски угловых размеров</a:t>
            </a:r>
            <a:br>
              <a:rPr sz="3600"/>
            </a:br>
            <a:r>
              <a:rPr b="0" i="1" lang="en-US" sz="3600" spc="-1" strike="noStrike">
                <a:solidFill>
                  <a:srgbClr val="330066"/>
                </a:solidFill>
                <a:latin typeface="Tahoma"/>
              </a:rPr>
              <a:t>(ГОСТ 8908-81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240" y="1719360"/>
            <a:ext cx="88390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ahoma"/>
              </a:rPr>
              <a:t>АТ</a:t>
            </a:r>
            <a:r>
              <a:rPr b="1" i="1" lang="el-GR" sz="2800" spc="-1" strike="noStrike" baseline="-25000">
                <a:solidFill>
                  <a:srgbClr val="9900ff"/>
                </a:solidFill>
                <a:latin typeface="Tahoma"/>
                <a:ea typeface="Tahoma"/>
              </a:rPr>
              <a:t>α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– точное значение допуска угла, выраженного в радианной и градусной мер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ahoma"/>
              </a:rPr>
              <a:t>АТ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  <a:ea typeface="Tahoma"/>
              </a:rPr>
              <a:t>'</a:t>
            </a:r>
            <a:r>
              <a:rPr b="1" i="1" lang="el-GR" sz="2800" spc="-1" strike="noStrike" baseline="-25000">
                <a:solidFill>
                  <a:srgbClr val="9900ff"/>
                </a:solidFill>
                <a:latin typeface="Tahoma"/>
                <a:ea typeface="Tahoma"/>
              </a:rPr>
              <a:t>α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– округлённое значение допуск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АТ</a:t>
            </a:r>
            <a:r>
              <a:rPr b="1" i="1" lang="el-GR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α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угла, выраженного в градусной мере; значение этих допусков используют при указании предельных отклонений углов на чертеж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rcRect l="0" t="0" r="59390" b="54956"/>
          <a:stretch/>
        </p:blipFill>
        <p:spPr>
          <a:xfrm>
            <a:off x="304920" y="4419720"/>
            <a:ext cx="2036520" cy="236196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4197240" y="4622760"/>
            <a:ext cx="1236600" cy="2235240"/>
            <a:chOff x="4197240" y="4622760"/>
            <a:chExt cx="1236600" cy="2235240"/>
          </a:xfrm>
        </p:grpSpPr>
        <p:pic>
          <p:nvPicPr>
            <p:cNvPr id="255" name="" descr=""/>
            <p:cNvPicPr/>
            <p:nvPr/>
          </p:nvPicPr>
          <p:blipFill>
            <a:blip r:embed="rId2"/>
            <a:srcRect l="47894" t="6227" r="0" b="18319"/>
            <a:stretch/>
          </p:blipFill>
          <p:spPr>
            <a:xfrm>
              <a:off x="4197240" y="4622760"/>
              <a:ext cx="1236600" cy="22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738320" y="6808320"/>
              <a:ext cx="249480" cy="4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7" name="" descr=""/>
          <p:cNvPicPr/>
          <p:nvPr/>
        </p:nvPicPr>
        <p:blipFill>
          <a:blip r:embed="rId3"/>
          <a:srcRect l="771" t="60810" r="52497" b="4401"/>
          <a:stretch/>
        </p:blipFill>
        <p:spPr>
          <a:xfrm>
            <a:off x="6462720" y="4640400"/>
            <a:ext cx="25527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0066"/>
                </a:solidFill>
                <a:latin typeface="Tahoma"/>
              </a:rPr>
              <a:t>Допуски угловых размеров</a:t>
            </a:r>
            <a:br>
              <a:rPr sz="3600"/>
            </a:br>
            <a:r>
              <a:rPr b="0" i="1" lang="en-US" sz="3600" spc="-1" strike="noStrike">
                <a:solidFill>
                  <a:srgbClr val="330066"/>
                </a:solidFill>
                <a:latin typeface="Tahoma"/>
              </a:rPr>
              <a:t>(ГОСТ 8908-81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240" y="1719360"/>
            <a:ext cx="88390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ahoma"/>
              </a:rPr>
              <a:t>АТ</a:t>
            </a:r>
            <a:r>
              <a:rPr b="1" i="1" lang="en-US" sz="2800" spc="-1" strike="noStrike" baseline="-25000">
                <a:solidFill>
                  <a:srgbClr val="9900ff"/>
                </a:solidFill>
                <a:latin typeface="Tahoma"/>
              </a:rPr>
              <a:t>h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пуск угла, выраженный отрезком на перпендикуляре к меньшей стороне угла на расстояни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 вершины угла относится только к призматическим элемен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0" r="59390" b="54956"/>
          <a:stretch/>
        </p:blipFill>
        <p:spPr>
          <a:xfrm>
            <a:off x="39600" y="3809880"/>
            <a:ext cx="2430720" cy="281952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3581280" y="4038480"/>
            <a:ext cx="1981440" cy="2667240"/>
            <a:chOff x="3581280" y="4038480"/>
            <a:chExt cx="1981440" cy="2667240"/>
          </a:xfrm>
        </p:grpSpPr>
        <p:pic>
          <p:nvPicPr>
            <p:cNvPr id="262" name="" descr=""/>
            <p:cNvPicPr/>
            <p:nvPr/>
          </p:nvPicPr>
          <p:blipFill>
            <a:blip r:embed="rId2"/>
            <a:srcRect l="47894" t="6227" r="0" b="18319"/>
            <a:stretch/>
          </p:blipFill>
          <p:spPr>
            <a:xfrm>
              <a:off x="3581280" y="4038480"/>
              <a:ext cx="198144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4448160" y="6646320"/>
              <a:ext cx="399960" cy="5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" descr=""/>
          <p:cNvPicPr/>
          <p:nvPr/>
        </p:nvPicPr>
        <p:blipFill>
          <a:blip r:embed="rId3"/>
          <a:srcRect l="771" t="60810" r="52497" b="4401"/>
          <a:stretch/>
        </p:blipFill>
        <p:spPr>
          <a:xfrm>
            <a:off x="6095880" y="4102200"/>
            <a:ext cx="30481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0066"/>
                </a:solidFill>
                <a:latin typeface="Tahoma"/>
              </a:rPr>
              <a:t>Допуски угловых размеров</a:t>
            </a:r>
            <a:br>
              <a:rPr sz="3600"/>
            </a:br>
            <a:r>
              <a:rPr b="0" i="1" lang="en-US" sz="3600" spc="-1" strike="noStrike">
                <a:solidFill>
                  <a:srgbClr val="330066"/>
                </a:solidFill>
                <a:latin typeface="Tahoma"/>
              </a:rPr>
              <a:t>(ГОСТ 8908-81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240" y="1719360"/>
            <a:ext cx="88390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ahoma"/>
              </a:rPr>
              <a:t>АТ</a:t>
            </a:r>
            <a:r>
              <a:rPr b="1" i="1" lang="en-US" sz="2800" spc="-1" strike="noStrike" baseline="-25000">
                <a:solidFill>
                  <a:srgbClr val="9900ff"/>
                </a:solidFill>
                <a:latin typeface="Tahoma"/>
              </a:rPr>
              <a:t>D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пуск угла конуса, выраженный допусков на разность диаметров в двух сечениях конуса на заданном расстояни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ежду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rcRect l="0" t="0" r="59390" b="54956"/>
          <a:stretch/>
        </p:blipFill>
        <p:spPr>
          <a:xfrm>
            <a:off x="0" y="3733920"/>
            <a:ext cx="2430360" cy="2819160"/>
          </a:xfrm>
          <a:prstGeom prst="rect">
            <a:avLst/>
          </a:prstGeom>
          <a:ln w="0">
            <a:noFill/>
          </a:ln>
        </p:spPr>
      </p:pic>
      <p:grpSp>
        <p:nvGrpSpPr>
          <p:cNvPr id="268" name=""/>
          <p:cNvGrpSpPr/>
          <p:nvPr/>
        </p:nvGrpSpPr>
        <p:grpSpPr>
          <a:xfrm>
            <a:off x="3541680" y="3962520"/>
            <a:ext cx="1981080" cy="2666880"/>
            <a:chOff x="3541680" y="3962520"/>
            <a:chExt cx="1981080" cy="2666880"/>
          </a:xfrm>
        </p:grpSpPr>
        <p:pic>
          <p:nvPicPr>
            <p:cNvPr id="269" name="" descr=""/>
            <p:cNvPicPr/>
            <p:nvPr/>
          </p:nvPicPr>
          <p:blipFill>
            <a:blip r:embed="rId2"/>
            <a:srcRect l="47894" t="6227" r="0" b="18319"/>
            <a:stretch/>
          </p:blipFill>
          <p:spPr>
            <a:xfrm>
              <a:off x="3541680" y="3962520"/>
              <a:ext cx="198108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4408560" y="6570000"/>
              <a:ext cx="399960" cy="5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1" name="" descr=""/>
          <p:cNvPicPr/>
          <p:nvPr/>
        </p:nvPicPr>
        <p:blipFill>
          <a:blip r:embed="rId3"/>
          <a:srcRect l="771" t="60810" r="52497" b="4401"/>
          <a:stretch/>
        </p:blipFill>
        <p:spPr>
          <a:xfrm>
            <a:off x="6056280" y="4025880"/>
            <a:ext cx="30481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0066"/>
                </a:solidFill>
                <a:latin typeface="Tahoma"/>
              </a:rPr>
              <a:t>Допуски угловых размеров</a:t>
            </a:r>
            <a:br>
              <a:rPr sz="3600"/>
            </a:br>
            <a:r>
              <a:rPr b="0" i="1" lang="en-US" sz="3600" spc="-1" strike="noStrike">
                <a:solidFill>
                  <a:srgbClr val="330066"/>
                </a:solidFill>
                <a:latin typeface="Tahoma"/>
              </a:rPr>
              <a:t>(ГОСТ 8908-81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240" y="1719360"/>
            <a:ext cx="88390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АТ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пуск угла конуса, выраженный допусков на разность диаметров в двух сечениях конуса на заданном расстояни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ежду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0066"/>
                </a:solidFill>
                <a:latin typeface="Tahoma"/>
              </a:rPr>
              <a:t>Взаимозаменяемость угловых размеров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Углы специального назначени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имеют ограниченное применение, т.к. используются в стандартизованных специальных деталях (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наприме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конусы Морзе, инструментальные конусы, конические трубные резьбы и калибры, шпиндели и оправки станков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0066"/>
                </a:solidFill>
                <a:latin typeface="Tahoma"/>
              </a:rPr>
              <a:t>Взаимозаменяемость угловых размеров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ahoma"/>
              </a:rPr>
              <a:t>Специальные угл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углы, размеры которых связаны расчётными зависимостями с другими принятыми линейными и угловыми размерами (</a:t>
            </a:r>
            <a:r>
              <a:rPr b="1" i="1" lang="ru-RU" sz="2800" spc="-1" strike="noStrike">
                <a:solidFill>
                  <a:srgbClr val="00b400"/>
                </a:solidFill>
                <a:latin typeface="Tahoma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угол подъёма спирали червячной фрезы зависит от диаметра фрезы и шага спирали, т.е. является производным размеро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1697" t="2939" r="1697" b="0"/>
          <a:stretch/>
        </p:blipFill>
        <p:spPr>
          <a:xfrm>
            <a:off x="4800600" y="3429000"/>
            <a:ext cx="3886200" cy="3362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0066"/>
                </a:solidFill>
                <a:latin typeface="Tahoma"/>
              </a:rPr>
              <a:t>Геометрические параметры призматических деталей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ahoma"/>
              </a:rPr>
              <a:t>Высоты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h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точек наклонной стороны относительно второй (базовой) сторо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ahoma"/>
              </a:rPr>
              <a:t>Длина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равная расстоянию между высотам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о базовой сторо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ahoma"/>
              </a:rPr>
              <a:t>Угол </a:t>
            </a:r>
            <a:r>
              <a:rPr b="1" lang="el-GR" sz="2800" spc="-1" strike="noStrike">
                <a:solidFill>
                  <a:srgbClr val="000000"/>
                </a:solidFill>
                <a:latin typeface="Tahoma"/>
              </a:rPr>
              <a:t>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изматической дета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ahoma"/>
              </a:rPr>
              <a:t>Укл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905120" y="4191120"/>
                <a:ext cx="251460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92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ahoma"/>
              </a:rPr>
              <a:t>Кону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обобщённый термин, под которым в зависимости от конкретных условий понимают коническую поверхность, коническую деталь или конический элемент дет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ff"/>
                </a:solidFill>
                <a:latin typeface="Tahom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параметры наружных кону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параметры внутренних кону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0066"/>
                </a:solidFill>
                <a:latin typeface="Tahoma"/>
              </a:rPr>
              <a:t>Геометрические параметры конусов (ГОСТ 25548-82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ff"/>
                </a:solidFill>
                <a:latin typeface="Tahoma"/>
              </a:rPr>
              <a:t>Диаметр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600" spc="-1" strike="noStrike">
                <a:solidFill>
                  <a:srgbClr val="9900ff"/>
                </a:solidFill>
                <a:latin typeface="Tahoma"/>
              </a:rPr>
              <a:t> большого основания конус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ff"/>
                </a:solidFill>
                <a:latin typeface="Tahoma"/>
              </a:rPr>
              <a:t>Диаметр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ru-RU" sz="2600" spc="-1" strike="noStrike">
                <a:solidFill>
                  <a:srgbClr val="9900ff"/>
                </a:solidFill>
                <a:latin typeface="Tahoma"/>
              </a:rPr>
              <a:t> малого основания конус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ff"/>
                </a:solidFill>
                <a:latin typeface="Tahoma"/>
              </a:rPr>
              <a:t>Диаметр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2600" spc="-1" strike="noStrike">
                <a:solidFill>
                  <a:srgbClr val="9900ff"/>
                </a:solidFill>
                <a:latin typeface="Tahoma"/>
              </a:rPr>
              <a:t> в заданном поперечном сечении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– сечении, имеющем заданное осевое положение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ff"/>
                </a:solidFill>
                <a:latin typeface="Tahoma"/>
              </a:rPr>
              <a:t>Диаметр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26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 поперечном сечении с произвольным осевым положением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ff"/>
                </a:solidFill>
                <a:latin typeface="Tahoma"/>
              </a:rPr>
              <a:t>Длина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2600" spc="-1" strike="noStrike">
                <a:solidFill>
                  <a:srgbClr val="9900ff"/>
                </a:solidFill>
                <a:latin typeface="Tahoma"/>
              </a:rPr>
              <a:t> конуса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– расстояние между вершиной и основанием конуса или между основаниями конус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ff"/>
                </a:solidFill>
                <a:latin typeface="Tahoma"/>
              </a:rPr>
              <a:t>Угол конуса </a:t>
            </a:r>
            <a:r>
              <a:rPr b="1" i="1" lang="el-GR" sz="26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1" lang="ru-RU" sz="26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– угол между образующими в продольном сечен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ff"/>
                </a:solidFill>
                <a:latin typeface="Tahoma"/>
              </a:rPr>
              <a:t>Угол уклона </a:t>
            </a:r>
            <a:r>
              <a:rPr b="1" i="1" lang="el-GR" sz="26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/2</a:t>
            </a:r>
            <a:r>
              <a:rPr b="1" lang="ru-RU" sz="26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– угол между образующей и осью конус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0066"/>
                </a:solidFill>
                <a:latin typeface="Tahoma"/>
              </a:rPr>
              <a:t>Геометрические параметры конусов (ГОСТ 25548-82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0066"/>
                </a:solidFill>
                <a:latin typeface="Tahoma"/>
              </a:rPr>
              <a:t>Геометрические параметры конусов (ГОСТ 25548-82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95160" y="1857240"/>
            <a:ext cx="8296560" cy="5040360"/>
            <a:chOff x="695160" y="1857240"/>
            <a:chExt cx="8296560" cy="504036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rcRect l="1163" t="1541" r="1400" b="1151"/>
            <a:stretch/>
          </p:blipFill>
          <p:spPr>
            <a:xfrm>
              <a:off x="695160" y="2590920"/>
              <a:ext cx="7077240" cy="43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981080" y="5410080"/>
              <a:ext cx="198144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9900ff"/>
                  </a:solidFill>
                  <a:latin typeface="Tahoma"/>
                </a:rPr>
                <a:t>Малое основание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2101680"/>
              <a:ext cx="1828800" cy="118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9900ff"/>
                  </a:solidFill>
                  <a:latin typeface="Tahoma"/>
                </a:rPr>
                <a:t>Большое основание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48320" y="1857240"/>
              <a:ext cx="2361960" cy="118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9900ff"/>
                  </a:solidFill>
                  <a:latin typeface="Tahoma"/>
                </a:rPr>
                <a:t>Заданное поперечное сечение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0066"/>
                </a:solidFill>
                <a:latin typeface="Tahoma"/>
              </a:rPr>
              <a:t>Геометрические параметры конусов (ГОСТ 25548-82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ff"/>
                </a:solidFill>
                <a:latin typeface="Tahoma"/>
              </a:rPr>
              <a:t>Конусность С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– отношение разности диаметров двух поперечных сечений к расстоянию между ними; для усечённого конуса отношение разности диаметров большого и малого оснований к длине конус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Указывается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в виде отношения 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1: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– расстояние между поперечными сечениями конуса, разность диаметров которых равна 1 мм, </a:t>
            </a:r>
            <a:r>
              <a:rPr b="1" i="1" lang="ru-RU" sz="2600" spc="-1" strike="noStrike">
                <a:solidFill>
                  <a:srgbClr val="00b400"/>
                </a:solidFill>
                <a:latin typeface="Tahoma"/>
              </a:rPr>
              <a:t>например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С=1:20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ff"/>
                </a:solidFill>
                <a:latin typeface="Tahoma"/>
              </a:rPr>
              <a:t>Укло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971800" y="3200400"/>
                <a:ext cx="31240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905120" y="5791320"/>
                <a:ext cx="28954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0066"/>
                </a:solidFill>
                <a:latin typeface="Tahoma"/>
              </a:rPr>
              <a:t>Указание размеров конусов на чертежах (ГОСТ 2.320-82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719360"/>
            <a:ext cx="88390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Для наружных конусов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указывают размеры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l-GR" sz="26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Для внутренних конусов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указывают размеры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l-GR" sz="26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1206" t="0" r="6020" b="54732"/>
          <a:stretch/>
        </p:blipFill>
        <p:spPr>
          <a:xfrm>
            <a:off x="2286000" y="2668680"/>
            <a:ext cx="4724280" cy="2055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rcRect l="7226" t="52028" r="0" b="4732"/>
          <a:stretch/>
        </p:blipFill>
        <p:spPr>
          <a:xfrm>
            <a:off x="2438280" y="4754520"/>
            <a:ext cx="487692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4-21T09:31:53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