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199-F9BA-40B3-BE9A-453366C6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832-CD83-4A24-8695-B96B2A9E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F21-49D5-4C1E-BA07-E3D61554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7EC-4661-405D-8A68-3EEF7DEB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E41E-A72B-42DC-9D01-1574EE80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DB2C-7BBC-4853-9C89-7B73EECB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3640-4C65-4D2A-B91C-A09CBB4A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08AA-EB46-4708-885C-DE426380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3755-F9F3-4BCC-B232-D89A4AA3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8001-FF48-475D-AD66-2D64BD50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2E54-628F-4BC4-8AC3-88561371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DD6-694B-475E-BC9D-F735F25D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DD2D-8617-44BE-9E3F-BA04020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5767-EA51-43A2-85F9-F0E1F84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6906-0992-47B6-A72C-A2D914CD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AA42-4858-42A8-BD28-DCA7E6E9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9B1-49EE-4CBA-AEE8-FE0BA505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56EA-4E6B-4397-A9F4-5C471EE5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BA24-73DB-42E0-95EC-8FBF9B48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6775-2F6A-447B-AC95-65BF4D83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4DE4C-B4B9-4F88-9DA7-8486B19A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BFBA-9879-423F-8F18-295434D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50D-8EB7-4031-B364-AB4BE0B2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27C4-C9A7-45DB-B4C1-40B5A79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48A7-C373-4D86-8D4A-3B8544EE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CBD9-5C37-4FA9-8B1F-234E98E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C36E-5682-4296-9F1F-935FDE1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1BEC-E395-4464-B34C-697F525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8FF7-3587-41CD-B4AF-D35D8002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0705-AD28-43F1-921B-38DC776B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B60D-06C8-448D-B206-080639C9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5EA4-DE4B-44EA-A0EC-ABDEFB5A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0F05-5D52-41AA-9012-9EEBA1D7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F30-9EEA-4106-9AC0-66683633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2AE6-2C65-439C-957D-83241A88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6A5E-8208-47A2-8D4D-8F3914EA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E2FD-2034-406C-8700-736790D9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3D9A-EF34-468D-AB69-861364B0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471C4-7B53-4A2B-888D-F9E6C8C4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CC90-038D-44C1-9B94-C19C6FE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77A0-30FB-468A-8022-8BC4EED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44F6-D3E7-4185-8BF3-619885D3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DB34-004B-449E-8685-160AEA31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084-686D-4878-887B-F1809D7B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910-6DAD-41C0-9C81-E3F76370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5F8-ABF2-4668-8A44-06DEE37B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679-B683-4ABB-AC1A-A23B3C77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7E7-2833-4D7E-846C-6F1523F2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FB5A-5DFD-47AE-90EB-496AF51E91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07F9-B151-4AF2-9A10-B67AD30152F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588F-7E2C-49C5-A0CC-4571034CD7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5C89-4507-418F-8B6B-EEB17F37FF1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8960" y="102960"/>
            <a:ext cx="79246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a680c"/>
                </a:solidFill>
                <a:latin typeface="Tahoma"/>
              </a:rPr>
              <a:t>1 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посадок с натяго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еподвижность сопрягаемых детале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д действием нагрузок обеспечивается силами трения, возникающими при упругой деформации деталей, создаваемой натяг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яется, исходя из возможных наибольших сил, действующих на сопряж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max</a:t>
            </a:r>
            <a:r>
              <a:rPr b="1" lang="ru-RU" sz="2800" spc="-1" strike="noStrike" baseline="-25000">
                <a:solidFill>
                  <a:srgbClr val="99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рассчитывается из условий прочности детал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04920" y="198108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чёт наименьшего натяг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оцессе запрессовки неровности на поверхностях детали снимаются, и в соединении создаётся меньший натяг, поэтому следует расчётный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ить на значе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оправ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именьший натяг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304920" y="2478240"/>
                <a:ext cx="86104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,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,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1"/>
              <p:cNvSpPr txBox="1"/>
              <p:nvPr/>
            </p:nvSpPr>
            <p:spPr>
              <a:xfrm>
                <a:off x="1333440" y="5253120"/>
                <a:ext cx="6362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,8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,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к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4"/>
              <p:cNvSpPr txBox="1"/>
              <p:nvPr/>
            </p:nvSpPr>
            <p:spPr>
              <a:xfrm>
                <a:off x="3962520" y="6019920"/>
                <a:ext cx="4572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к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пределение допустимых значений давл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втулк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вала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76320" y="3276720"/>
                <a:ext cx="90676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5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1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5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П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8"/>
              <p:cNvSpPr txBox="1"/>
              <p:nvPr/>
            </p:nvSpPr>
            <p:spPr>
              <a:xfrm>
                <a:off x="76320" y="5353200"/>
                <a:ext cx="90676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5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1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0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П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ие максимально допустимого натяга для данного сопря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посад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ГОСТ 25347-82 выбираем посадку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8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0" y="2668680"/>
                <a:ext cx="9067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,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,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8"/>
              <p:cNvSpPr txBox="1"/>
              <p:nvPr/>
            </p:nvSpPr>
            <p:spPr>
              <a:xfrm>
                <a:off x="1828800" y="5705640"/>
                <a:ext cx="15238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Н</m:t>
                        </m:r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2</m:t>
                            </m:r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6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8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1"/>
              <p:cNvSpPr txBox="1"/>
              <p:nvPr/>
            </p:nvSpPr>
            <p:spPr>
              <a:xfrm>
                <a:off x="4165560" y="5699160"/>
                <a:ext cx="46735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км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км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км</m:t>
                        </m:r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к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102960"/>
            <a:ext cx="79246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ЕСДП установлен ряд рекомендуемых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едпочтительных полей допус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алов и отверстий для образования посадок с натяг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p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r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s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t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u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u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x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P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S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R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T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U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0" y="10332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Схема расположения полей допусков посадок с натягом в системе отверстия для размеров до 500 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1219320" y="103320"/>
            <a:ext cx="7924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Области применения некоторых рекомендуемых посадок с натяго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22860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H/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P/h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 «легкопрессовы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ме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инимальный гарантированный натя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блада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сокой степенью центрирова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именяют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ак правило, с дополнительным крепление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H7/p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опряжение тяжело нагруженных зубчатых колёс, втулок, установочных колец с валами, установка тонкостенных втулок и колец в корпус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1219320" y="103320"/>
            <a:ext cx="7924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Области применения некоторых рекомендуемых посадок с натяго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22860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H/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P/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 H/t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 R/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 S/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 T/h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 «прессовые средни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ме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меренный гарантированный натяг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еделах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(0,0002…0,0006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именяют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ак с дополнительным креплением, так и без него. При сопряжении возникают, как правило, упругие де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680c"/>
                </a:solidFill>
                <a:latin typeface="Tahoma"/>
              </a:rPr>
              <a:t>H7/r6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4a680c"/>
                </a:solidFill>
                <a:latin typeface="Tahoma"/>
              </a:rPr>
              <a:t>H7/s6</a:t>
            </a:r>
            <a:r>
              <a:rPr b="1" lang="ru-RU" sz="24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пряжение зубчатых и червячных колёс с валами в условиях тяжёлых ударных нагрузок с дополнительным крепление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1219320" y="103320"/>
            <a:ext cx="7924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Области применения некоторых рекомендуемых посадок с натяго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04920" y="1523880"/>
            <a:ext cx="8762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H/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P/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 H/z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 U/h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 «прессовые тяжёлы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меют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большой гарантированный натяг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пределах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=(0,001…0,002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Предназначены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для соединений, на которые воздействуют большие, в том числе и динамические нагрузки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Применяютс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как правило, без дополнительного крепления соединяемых деталей. В сопряжении возникают упругопластические деформации. Детали должны быть проверены на прочность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Расчёты переходных посадо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выполняются редко и в основном как проверочны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Расчёты могут включа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чёт вероятности получения зазоров и натягов в соединен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чёт наибольшего зазора по известному предельно допустимому эксцентриситету соединяемых детал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чёт прочности сопрягаемых деталей (только для тонкостенных втулок) и наибольшего усилия сборки при наибольшем натяге посад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a680c"/>
                </a:solidFill>
                <a:latin typeface="Tahoma"/>
              </a:rPr>
              <a:t>2 Расчёт и выбор переходных 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сновными расчёта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переходных посадках являются расчёты вероятности получения натягов и зазоров. В таких расчётах исходят из нормального закона распределения размеров деталей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роятности получения натягов и зазо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яют с помощью нормированной функции Лаплас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3366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(S</a:t>
            </a:r>
            <a:r>
              <a:rPr b="1" lang="en-US" sz="2800" spc="-1" strike="noStrike" baseline="-25000">
                <a:solidFill>
                  <a:srgbClr val="3366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реднее значение натяга (зазора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6600"/>
                </a:solidFill>
                <a:latin typeface="Tahoma"/>
              </a:rPr>
              <a:t>σ</a:t>
            </a:r>
            <a:r>
              <a:rPr b="1" lang="en-US" sz="2800" spc="-1" strike="noStrike" baseline="-25000">
                <a:solidFill>
                  <a:srgbClr val="336600"/>
                </a:solidFill>
                <a:latin typeface="Tahom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реднее квадратическое отклонение натяга или заз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4114800" y="3886200"/>
                <a:ext cx="28195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ереходных 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1442880" y="4884840"/>
                <a:ext cx="5983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227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f6228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запрессовке деталей происходит растяжение втулки на величину </a:t>
            </a:r>
            <a:r>
              <a:rPr b="1" lang="en-US" sz="2800" spc="-1" strike="noStrike">
                <a:solidFill>
                  <a:srgbClr val="4f6228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4f6228"/>
                </a:solidFill>
                <a:latin typeface="Tahoma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одновременно сжатие вала на величину </a:t>
            </a:r>
            <a:r>
              <a:rPr b="1" lang="en-US" sz="2800" spc="-1" strike="noStrike">
                <a:solidFill>
                  <a:srgbClr val="4f6228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4f6228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ри эт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4f6228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4f6228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4f6228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4f6228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4f6228"/>
                </a:solidFill>
                <a:latin typeface="Tahoma"/>
              </a:rPr>
              <a:t>N</a:t>
            </a:r>
            <a:r>
              <a:rPr b="1" lang="en-US" sz="2800" spc="-1" strike="noStrike" baseline="-25000">
                <a:solidFill>
                  <a:srgbClr val="4f6228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28600" y="560520"/>
            <a:ext cx="86104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ним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T</a:t>
            </a:r>
            <a:r>
              <a:rPr b="1" lang="en-US" sz="2800" spc="-1" strike="noStrike" baseline="-25000">
                <a:solidFill>
                  <a:srgbClr val="336600"/>
                </a:solidFill>
                <a:latin typeface="Tahoma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T</a:t>
            </a:r>
            <a:r>
              <a:rPr b="1" lang="en-US" sz="2800" spc="-1" strike="noStrike" baseline="-25000">
                <a:solidFill>
                  <a:srgbClr val="3366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опуски сопряжённых деталей посадк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яем величину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по таблицам функции Лапласа в зависимости от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Z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танавливают значение функции 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Ф(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Z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даваемое в долях единиц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ереходных 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2743200" y="1447920"/>
                <a:ext cx="373392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роятности натяг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P</a:t>
            </a:r>
            <a:r>
              <a:rPr b="1" lang="en-US" sz="2600" spc="-1" strike="noStrike" baseline="-25000">
                <a:solidFill>
                  <a:srgbClr val="336600"/>
                </a:solidFill>
                <a:latin typeface="Tahoma"/>
              </a:rPr>
              <a:t>N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’=0,5+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Ф(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Z) 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при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z&gt;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       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P</a:t>
            </a:r>
            <a:r>
              <a:rPr b="1" lang="en-US" sz="2600" spc="-1" strike="noStrike" baseline="-25000">
                <a:solidFill>
                  <a:srgbClr val="336600"/>
                </a:solidFill>
                <a:latin typeface="Tahoma"/>
              </a:rPr>
              <a:t>N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’=0,5-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Ф(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Z) 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при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z&lt;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     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  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P</a:t>
            </a:r>
            <a:r>
              <a:rPr b="1" lang="en-US" sz="2600" spc="-1" strike="noStrike" baseline="-25000">
                <a:solidFill>
                  <a:srgbClr val="336600"/>
                </a:solidFill>
                <a:latin typeface="Tahoma"/>
              </a:rPr>
              <a:t>N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=100 P</a:t>
            </a:r>
            <a:r>
              <a:rPr b="1" lang="en-US" sz="2600" spc="-1" strike="noStrike" baseline="-25000">
                <a:solidFill>
                  <a:srgbClr val="336600"/>
                </a:solidFill>
                <a:latin typeface="Tahoma"/>
              </a:rPr>
              <a:t>N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’ %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роятности зазо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P</a:t>
            </a:r>
            <a:r>
              <a:rPr b="1" lang="en-US" sz="2600" spc="-1" strike="noStrike" baseline="-25000">
                <a:solidFill>
                  <a:srgbClr val="336600"/>
                </a:solidFill>
                <a:latin typeface="Tahoma"/>
              </a:rPr>
              <a:t>S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’=0,5-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Ф(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Z) 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при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z&gt;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  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       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P</a:t>
            </a:r>
            <a:r>
              <a:rPr b="1" lang="en-US" sz="2600" spc="-1" strike="noStrike" baseline="-25000">
                <a:solidFill>
                  <a:srgbClr val="336600"/>
                </a:solidFill>
                <a:latin typeface="Tahoma"/>
              </a:rPr>
              <a:t>S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’=0,5+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Ф(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Z) </a:t>
            </a:r>
            <a:r>
              <a:rPr b="1" lang="ru-RU" sz="2600" spc="-1" strike="noStrike">
                <a:solidFill>
                  <a:srgbClr val="336600"/>
                </a:solidFill>
                <a:latin typeface="Tahoma"/>
              </a:rPr>
              <a:t>при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z&lt;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      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P</a:t>
            </a:r>
            <a:r>
              <a:rPr b="1" lang="en-US" sz="2600" spc="-1" strike="noStrike" baseline="-25000">
                <a:solidFill>
                  <a:srgbClr val="336600"/>
                </a:solidFill>
                <a:latin typeface="Tahoma"/>
              </a:rPr>
              <a:t>S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=100 P</a:t>
            </a:r>
            <a:r>
              <a:rPr b="1" lang="en-US" sz="2600" spc="-1" strike="noStrike" baseline="-25000">
                <a:solidFill>
                  <a:srgbClr val="336600"/>
                </a:solidFill>
                <a:latin typeface="Tahoma"/>
              </a:rPr>
              <a:t>S</a:t>
            </a:r>
            <a:r>
              <a:rPr b="1" lang="en-US" sz="2600" spc="-1" strike="noStrike">
                <a:solidFill>
                  <a:srgbClr val="336600"/>
                </a:solidFill>
                <a:latin typeface="Tahoma"/>
              </a:rPr>
              <a:t>’ %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-15228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ереходных 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1148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  <a:ea typeface="Tahoma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ссчитать ожидаемую при сборке долю соединений с натягом (вероятность натяга) и долю соединений с зазором (вероятность зазора) для посадк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6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es-EI=39-0=39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км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ei-ES=20-30=-10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к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=30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км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к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ереходных 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1447920" y="5562720"/>
                <a:ext cx="5211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км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7386480" y="2895480"/>
            <a:ext cx="1300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ереходных 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684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3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з таблицы по значению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z=2,4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яем Ф(2,46)=0493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1143000" y="1523880"/>
                <a:ext cx="7780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5,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к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1371600" y="3048120"/>
                <a:ext cx="38005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,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1143000" y="10332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ереходных 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.к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z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0, находим вероятности натяга и зазора по формула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=0,5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5+0,493=0,993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=0,5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5-0,493=0,007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ледовате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при сборке примерн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99,3 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всех соединений (993 из 1000) буду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 натяга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0,7 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соединений (7 из 1000)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 зазора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0" y="10332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Схема расположения полей допусков переходных посадок в системе отверстия для размеров до 500 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1219320" y="380880"/>
            <a:ext cx="79246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Области применения</a:t>
            </a:r>
            <a:br>
              <a:rPr sz="3600"/>
            </a:b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некоторых рекомендуемых переходных</a:t>
            </a: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" y="2325600"/>
            <a:ext cx="84582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H/j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Js/h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плотны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роят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луч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тяг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(N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≈0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5…5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в сопряжении образуются преимущественно зазоры. Обеспечивают лёгкую собираемос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H7/js6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яжение стаканов подшипников с корпусами, небольших шкивов и ручных маховичков с ва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1219320" y="380880"/>
            <a:ext cx="79246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Области применения</a:t>
            </a:r>
            <a:br>
              <a:rPr sz="3600"/>
            </a:b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некоторых рекомендуемых переходных</a:t>
            </a: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2325600"/>
            <a:ext cx="84582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H/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K/h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напряжённы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роят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луч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тяг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(N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4…68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беспечивают хорошее центрирование. Сборка и разборка производится без значительных усилий, например, при помощи ручных молотк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H7/k6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яжение зубчатых колёс, шкивов, маховиков, муфт с ва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1219320" y="380880"/>
            <a:ext cx="79246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Области применения</a:t>
            </a:r>
            <a:br>
              <a:rPr sz="3600"/>
            </a:b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некоторых рекомендуемых переходных</a:t>
            </a: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80880" y="2325600"/>
            <a:ext cx="86868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H/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M/h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туги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роят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луч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тяг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(N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60…99,8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бладают высокой степенью центрирования. Сборка и разборка осуществляется при значительных усилиях. Разбираются, как правило, только при ремон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H7/m6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становка тонкостенных втулок в корпуса, кулачков на распределительном вал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1219320" y="380880"/>
            <a:ext cx="79246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Области применения</a:t>
            </a:r>
            <a:br>
              <a:rPr sz="3600"/>
            </a:b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некоторых рекомендуемых переходных</a:t>
            </a: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4a680c"/>
                </a:solidFill>
                <a:latin typeface="Tahoma"/>
              </a:rPr>
              <a:t>посад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04920" y="1905120"/>
            <a:ext cx="8762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H/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N/h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глухи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роят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луч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тяг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(N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88…100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бладают высокой степенью центрирования. Сборка и разборка осуществляется при значительных усилиях: применяются прессы. Разбираются, как правило, только при капитальном ремон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ahoma"/>
              </a:rPr>
              <a:t>H7/n6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опряжение тяжелонагруженных зубчатых колёс, кривошипов с валами, установка постоянных кондукторных втулок в корпусах кондукторов и т.п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8960" y="102960"/>
            <a:ext cx="79246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вестны зависимост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р</a:t>
            </a:r>
            <a:r>
              <a:rPr b="1" lang="ru-RU" sz="28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давление на поверхности контакта сопрягаемых деталей, Н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номинальный диаметр, 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Е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, Е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модули упругости материала втулки и вала, Н\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С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, С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коэффициенты, определяемые по формула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2770200" y="2514600"/>
                <a:ext cx="346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102960"/>
            <a:ext cx="8001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d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аметры, 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80c"/>
                </a:solidFill>
                <a:latin typeface="Symbol"/>
                <a:ea typeface="Symbol"/>
              </a:rPr>
              <a:t>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4a680c"/>
                </a:solidFill>
                <a:latin typeface="Symbol"/>
                <a:ea typeface="Symbol"/>
              </a:rPr>
              <a:t>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коэффициенты Пуассона (для ста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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,3, для чугу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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,5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именьший натя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ссчитывается следующим образ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1905120" y="1482840"/>
            <a:ext cx="4190760" cy="11286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9"/>
          <p:cNvSpPr/>
          <p:nvPr/>
        </p:nvSpPr>
        <p:spPr>
          <a:xfrm rot="5400000">
            <a:off x="3962160" y="4114800"/>
            <a:ext cx="609840" cy="457200"/>
          </a:xfrm>
          <a:prstGeom prst="pi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666880" cy="946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" descr=""/>
          <p:cNvPicPr/>
          <p:nvPr/>
        </p:nvPicPr>
        <p:blipFill>
          <a:blip r:embed="rId3"/>
          <a:stretch/>
        </p:blipFill>
        <p:spPr>
          <a:xfrm>
            <a:off x="2590920" y="5943600"/>
            <a:ext cx="35035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2640" y="102960"/>
            <a:ext cx="8001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инимальное дав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поверхность контакта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яется из условия обеспечения неподвижности сопряжения при действии на нег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a680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аксимальной осевой силы 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f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 трения при продольном смещении детал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а сопряж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аксимального крутящего момен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102960"/>
            <a:ext cx="8001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a680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аксимального крутящего момен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М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к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f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 трения при относительном вращении детал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a680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крутящего момента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 М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кр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осевой силы 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157480" cy="914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3352680" y="5334120"/>
            <a:ext cx="3027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102960"/>
            <a:ext cx="8001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ибольший натя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аксимальное дав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яется из условия прочности сопрягаемых деталей. В качестве </a:t>
            </a:r>
            <a:r>
              <a:rPr b="1" lang="en-US" sz="2800" spc="-1" strike="noStrike">
                <a:solidFill>
                  <a:srgbClr val="4a680c"/>
                </a:solidFill>
                <a:latin typeface="Tahoma"/>
              </a:rPr>
              <a:t>p</a:t>
            </a:r>
            <a:r>
              <a:rPr b="1" lang="en-US" sz="2800" spc="-1" strike="noStrike" baseline="-25000">
                <a:solidFill>
                  <a:srgbClr val="4a680c"/>
                </a:solidFill>
                <a:latin typeface="Tahom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рё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еньшее из допустимых значений давл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4a680c"/>
                </a:solidFill>
                <a:latin typeface="Tahoma"/>
              </a:rPr>
              <a:t>р</a:t>
            </a:r>
            <a:r>
              <a:rPr b="1" lang="ru-RU" sz="2800" spc="-1" strike="noStrike" baseline="-25000">
                <a:solidFill>
                  <a:srgbClr val="4a680c"/>
                </a:solidFill>
                <a:latin typeface="Tahoma"/>
              </a:rPr>
              <a:t>до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ые рассчитываются по следующим формула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втулк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ва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       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еределы текучести материала при растяжении, н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4038480" cy="990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2438280" y="4545000"/>
            <a:ext cx="3048120" cy="7891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2343240" y="5410080"/>
            <a:ext cx="3143160" cy="8384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4"/>
          <a:stretch/>
        </p:blipFill>
        <p:spPr>
          <a:xfrm>
            <a:off x="1077840" y="6037200"/>
            <a:ext cx="14367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2640" y="102960"/>
            <a:ext cx="8001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обрать посадку с натягом для соединения при следующих данных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185 м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110 м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265 м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17 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единение нагружено осевой силой Р=392∙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. Детали изготовлены из стали 40,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Е2=206 ГПа,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313 МПа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,14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Z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8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к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102960"/>
            <a:ext cx="8001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a680c"/>
                </a:solidFill>
                <a:latin typeface="Tahoma"/>
              </a:rPr>
              <a:t>Расчёт и выбор посадки с натяг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пределение коэффициентов 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2057400" y="3505320"/>
                <a:ext cx="46483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5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5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0,3</m:t>
                    </m:r>
                    <m:r>
                      <m:t xml:space="preserve">≈</m:t>
                    </m:r>
                    <m:r>
                      <m:t xml:space="preserve">3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057400" y="5254560"/>
                <a:ext cx="464832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0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0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0,3</m:t>
                    </m:r>
                    <m:r>
                      <m:t xml:space="preserve">≈</m:t>
                    </m:r>
                    <m:r>
                      <m:t xml:space="preserve">1,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16T11:33:31Z</dcterms:modified>
  <cp:revision>1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