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333-0405-4AE9-B5B3-B6341E99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F73-5E71-4D81-AA04-A11EB276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5AD50-6BE7-426A-96D4-B3259E6C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9C234-D2FE-4D87-9C90-B7F427F6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7DC65-9C17-4714-9EF2-5D1F133D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797F8-8B50-4CC1-903B-63EB0644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8BC0C-D4D2-45A6-8968-B1EE2B8E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6DA1A-A5E1-44CA-B220-0E638630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D1154-CAFD-47E9-97E9-88CF9521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68189-81C7-423F-8604-EA3F70D3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F2FF6-4D74-4AAB-83CB-EC06E8A4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64F-C9A0-4E9D-A748-F275154D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A84-0973-49AB-8133-88F96D1F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63BF-7C01-4E72-AC31-06714C8D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5CA9-2DE0-4F5D-BAF1-19C1613D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FFB4-7FD3-40E2-B571-6B126E2B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C57B-FB0B-40B5-AE68-78C91F70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1EB1-994B-4DA7-900C-7C517349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EA65-6244-4945-94EF-66EFCE26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4B52-DAB8-4A78-9F1B-DEC1161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CE9-F2BE-4030-9C50-8CB7BDA8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D2BF-7B79-4463-B04E-06E62307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2A60-7247-4B00-A92A-193A8F45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764B-B2AA-4227-8380-81B2F43F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DE2F-11BF-47C1-BE5A-7C2F613E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EDDF-DC07-4B39-9007-07E33D03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BB814-2CBA-4D03-B7F8-2D954B09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599D5-8AC0-4E05-8FF3-67CE0F87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2C6AF-F61D-4A66-A6A4-EF685A54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B6EA2-C589-4A9B-9D03-2E0082B5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8DC3-E769-4747-A90C-1B251D24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E7F-DABA-462E-803C-08E9459F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3DA1-4484-4A9F-8A3E-BF9AE0AA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C67C1-9A64-44C3-BB1E-EBF9EA2A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197D4-D06E-45BB-B211-50898DD1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5BD7-A715-4281-A4DE-2061C682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C6586-74C5-48C1-BCD0-47568807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02EB5-5A68-4847-9FBF-2E0BBA88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CDD6-325A-4D5E-9494-F241BE1C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58B01-9DCC-4BB4-A06D-021EAF09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00655-CC91-4D33-9B39-EB717388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4DD79-E560-4E4B-8F15-258C3599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330-D205-4B2A-BFDE-A3E83CBC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ADBD7-363C-478C-BD2E-7E41946B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275FC-E4ED-4470-B0DE-D0182923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137B8-B2C0-4564-B455-0B57FC8D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57B3-8EA2-4D02-8146-5C129CF1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C22E5-EE19-4F8E-832C-16FEC38C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37B73-AF5C-4A9F-8B64-E39EA29F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A4B74-10E2-4135-9E92-5022E2CC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6231E-D31F-4075-9710-00A3D889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F7229-F1FD-4CD5-A39A-4B4FA84D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BD2ED-7267-42FC-9071-D280189B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09C-DCA6-4077-B995-547FC82C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8164A-1F5C-44CD-BF8E-6386E8BC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9E4B6-5BBC-41A2-BAB4-D4BDB308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2A4E8-F2B1-47A4-A74F-F4D9A72A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977A7-4B77-47E3-9732-1F237331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B5DF2-A2E1-4CAE-BF6D-0EAAA6F1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6354-9F86-48AB-A89B-BFA3C931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73D4-B694-45F4-9360-96FF1E86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DAF4C-F54A-46CE-97F2-CC4065D6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97C86-279B-48C4-86A3-DCB9DFD7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02F47-832E-4F24-875D-BD4AE3E0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815-52B9-401E-A776-95CA374B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98CF5-FBC3-450A-9C5D-1FFC4FFB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6825B-DC7F-40B4-BA30-FFAF46A6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19B19-08A3-4283-940C-0BB17708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5D0A4-F2C5-4D76-8B58-85FE0381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F0B1F-562D-4669-903D-F2DC0714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703DF-6BB8-47DA-B924-1B69EFC7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3D341-5F23-4AC8-A90E-D84F968F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E3426-A440-4B30-98D4-06D98DF0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2C9F2-B81A-4344-9BE0-E763FC94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E1946-49E3-4BAA-9F0C-4EADB782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676-CD61-4F8F-AD41-4E20DA88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15276-9896-4815-9112-E0745660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72F58-2F3A-4B5A-B5FD-77B0BF1A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04130-C6D9-47AF-8B14-41B733D2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0CBFD-2DE0-490D-BF27-115CE6C0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861CC-65D6-49B2-89B2-4FCBC8AB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2FE38-3F15-4A72-B345-75401DA1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A4605-6982-4BC3-83ED-33F977AE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40237-0B2E-4C89-B601-A4866B79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C8938-6750-4D60-95EF-0505A43B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699E1-507E-4275-B56A-FCBF119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89D-790A-4A0A-8D0D-D48D787D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0B873-BD81-411C-BA31-B96946A0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BB5D3-4DD8-439B-BE9F-91448D23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FB98D-B054-419B-A987-E36F6FA9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A6A63-5C3F-404D-A8AE-F6DDD5AF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2B492-415E-4CDF-827B-2C8A69C8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56450-084B-46F4-91D9-DC0BB13F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6134A-3632-475D-AEEE-D127254A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93EBF-5952-44E1-94B5-E0A7FC9B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938AD-A153-4CD6-8CF7-125DC2BB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C59E7-6BF8-45E5-9C1D-E73C7FDF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8B3-F7DB-4745-AF27-2DDE78B3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61FFA-FA6C-4B67-B46A-B142888F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A7C13-AD4A-43E5-A665-FF998B6D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8A7C1-830B-4729-ABC6-D8F432D2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A4951-FC7A-4399-A618-E67D0542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5ECD2-A2DE-4FCA-B37D-9232C24C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D037F-3B05-4DFB-B853-1AE5DA78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DA51A-D031-4EF5-8825-BE4AFA38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18EBB-E4AC-48D6-9BBE-49A5F9FC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C56CF-6B2D-495C-A757-13B0F259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ABE9A-EACB-4F23-A19D-741C64D7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5BA1-C6F1-4993-9A6B-842DD44795D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3411-B84D-48F6-B608-F6A0E267A29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8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CBBC-04D4-411D-AE27-8DC5CC06581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7" name="Нашивка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Нашивка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F0CD-0928-4CFA-91C9-A6AE82B1E5C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3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5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5EE2-05AC-4A6B-B94C-1B82F6BCDC6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7724-DA25-435A-8ABD-FD61306C243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0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1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73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0941-6A51-4808-A31A-E981A36F7EE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CAB2-3AC4-4E6F-A15C-A7FFF67D54C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8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59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61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2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F6DB-7887-4DEE-9B8E-F5DAC9577D9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Tahoma"/>
              </a:rPr>
              <a:t>1 Шероховатость поверхностей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38088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Шероховатость поверхности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овокупность неровностей, образующих рельеф реальных поверхностей с относительно малыми шаг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Причины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следы от резца или другого режущего инструмента, копия неровностей форм или штампов, вибрации, возникающие при резании, трение обрабатывающего инструмента о деталь и т.п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38088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Средний шаг местных выступов профиля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реднее значение шагов местных выступов профиля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, находящихся в пределах базовой длины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число шагов неровностей профиля по средней лин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6629400" y="3809880"/>
            <a:ext cx="2478240" cy="15415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Параметры шероховатости (</a:t>
            </a:r>
            <a:r>
              <a:rPr b="1" i="1" lang="ru-RU" sz="3600" spc="-1" strike="noStrike">
                <a:solidFill>
                  <a:srgbClr val="999900"/>
                </a:solidFill>
                <a:latin typeface="Tahoma"/>
              </a:rPr>
              <a:t>шаговые</a:t>
            </a: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)</a:t>
            </a:r>
            <a:br>
              <a:rPr sz="3600"/>
            </a:b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(ГОСТ 2789-73 ; ГОСТ 25142-82)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0" name="Picture 6" descr=""/>
          <p:cNvPicPr/>
          <p:nvPr/>
        </p:nvPicPr>
        <p:blipFill>
          <a:blip r:embed="rId2"/>
          <a:stretch/>
        </p:blipFill>
        <p:spPr>
          <a:xfrm>
            <a:off x="228600" y="3516480"/>
            <a:ext cx="59990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"/>
          <p:cNvSpPr/>
          <p:nvPr/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ahoma"/>
              </a:rPr>
              <a:t>Относительная опорная длина профиля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9900ff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отношение опорной длины профиля к базовой длин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i="1" lang="el-GR" sz="2400" spc="-1" strike="noStrike">
                <a:solidFill>
                  <a:srgbClr val="000000"/>
                </a:solidFill>
                <a:latin typeface="Tahoma"/>
              </a:rPr>
              <a:t>η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9900ff"/>
                </a:solidFill>
                <a:latin typeface="Tahoma"/>
              </a:rPr>
              <a:t>опорная длина профил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мма отрезков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тсекаемых на заданном уровне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материале профиля линией, эквидистантной средней линии в пределах базовой дли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д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сло отсекаемых отрезк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заданный уровень сечения профиля, выраженных в процентах от наибольшей высоты неровностей профиля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Параметры шероховатости (</a:t>
            </a:r>
            <a:r>
              <a:rPr b="1" i="1" lang="ru-RU" sz="3600" spc="-1" strike="noStrike">
                <a:solidFill>
                  <a:srgbClr val="999900"/>
                </a:solidFill>
                <a:latin typeface="Tahoma"/>
              </a:rPr>
              <a:t>формы</a:t>
            </a: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)</a:t>
            </a:r>
            <a:br>
              <a:rPr sz="3600"/>
            </a:b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(ГОСТ 2789-73 ; ГОСТ 25142-82)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1"/>
          <a:stretch/>
        </p:blipFill>
        <p:spPr>
          <a:xfrm>
            <a:off x="3719520" y="2274840"/>
            <a:ext cx="2224080" cy="7732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7" name="Picture 5" descr=""/>
          <p:cNvPicPr/>
          <p:nvPr/>
        </p:nvPicPr>
        <p:blipFill>
          <a:blip r:embed="rId2"/>
          <a:stretch/>
        </p:blipFill>
        <p:spPr>
          <a:xfrm>
            <a:off x="2895480" y="41911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7" descr=""/>
          <p:cNvPicPr/>
          <p:nvPr/>
        </p:nvPicPr>
        <p:blipFill>
          <a:blip r:embed="rId3"/>
          <a:stretch/>
        </p:blipFill>
        <p:spPr>
          <a:xfrm>
            <a:off x="5181480" y="4037040"/>
            <a:ext cx="3810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Параметры шероховатости (</a:t>
            </a:r>
            <a:r>
              <a:rPr b="1" i="1" lang="ru-RU" sz="3600" spc="-1" strike="noStrike">
                <a:solidFill>
                  <a:srgbClr val="999900"/>
                </a:solidFill>
                <a:latin typeface="Tahoma"/>
              </a:rPr>
              <a:t>формы</a:t>
            </a: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)</a:t>
            </a:r>
            <a:br>
              <a:rPr sz="3600"/>
            </a:b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(ГОСТ 2789-73 ; ГОСТ 25142-82)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380880" y="1752480"/>
            <a:ext cx="8763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  <a:ea typeface="Tahoma"/>
              </a:rPr>
              <a:t>Уровень сечения профил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отсчитывают по линии выступов и выбирают из следующих рядов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tp </a:t>
            </a:r>
            <a:r>
              <a:rPr b="1" i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, %</a:t>
            </a:r>
            <a:r>
              <a:rPr b="1" i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10; 15; 20; 25; 30; 40; 50; 60; 70; 80; 9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р, %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5; 10; 15; 20; 25; 30; 40; 50; 60; 70; 80; 9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оответствие числовых значений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800" spc="-1" strike="noStrike" baseline="-25000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z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max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числовым значениям базовой длины </a:t>
            </a:r>
            <a:r>
              <a:rPr b="1" i="1" lang="en-US" sz="2800" spc="-1" strike="noStrike">
                <a:solidFill>
                  <a:srgbClr val="9900ff"/>
                </a:solidFill>
                <a:latin typeface="Tahoma"/>
              </a:rPr>
              <a:t>l</a:t>
            </a:r>
            <a:r>
              <a:rPr b="1" lang="ru-RU" sz="2800" spc="-1" strike="noStrike">
                <a:solidFill>
                  <a:srgbClr val="9900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8534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Параметры шероховатости </a:t>
            </a:r>
            <a:br>
              <a:rPr sz="3600"/>
            </a:b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(ГОСТ 2789-73 ; ГОСТ 25142-82)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457200" y="16765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Шероховатость поверхносте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оценивают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одним или несколькими из перечисленных параметров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z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ahoma"/>
                <a:ea typeface="Tahoma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арамет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зменяе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т 100 до 0,008 мк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т 1600 до 0,025 мк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т 12,5 до 0,002 м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для поверхностей, работающих в условиях трения скольжения и качения и подверженных износу, —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или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z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и направление неровносте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для поверхностей, испытывающих контактные напряжения, —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или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z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и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при необходимости обеспечить относительную неподвижность соединенных деталей (прессовые соединения) —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или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для поверхностей деталей, испытывающих переменные нагрузки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или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и направление неровносте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380880" y="1447920"/>
            <a:ext cx="87631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  <a:ea typeface="Tahoma"/>
              </a:rPr>
              <a:t>Направление неровностей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- условный рисунок, образованный на поверхности режущими элементами инструмента в процессе обрабо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Типы направления шероховатости</a:t>
            </a:r>
            <a:br>
              <a:rPr sz="3600"/>
            </a:b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и их обозначения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57" name="Picture 5" descr=""/>
          <p:cNvPicPr/>
          <p:nvPr/>
        </p:nvPicPr>
        <p:blipFill>
          <a:blip r:embed="rId1"/>
          <a:stretch/>
        </p:blipFill>
        <p:spPr>
          <a:xfrm>
            <a:off x="1828800" y="3228840"/>
            <a:ext cx="60958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Обозначение шероховатости поверхностей на чертежах</a:t>
            </a:r>
            <a:br>
              <a:rPr sz="3600"/>
            </a:b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(ГОСТ 2.309-73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380880" y="16002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пособ обработки для получен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шероховатости конструктор н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устанавливает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шероховатость поверхности должн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быть получена удалением сло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материала (точением, фрезерованием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шлифованием, травлением и т.п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шероховатость поверхности должн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быть получена без снятия сло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материала (ковкой, литьём и т.п.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 rot="21367200">
            <a:off x="267840" y="1652760"/>
            <a:ext cx="1600200" cy="1123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"/>
          <p:cNvPicPr/>
          <p:nvPr/>
        </p:nvPicPr>
        <p:blipFill>
          <a:blip r:embed="rId2"/>
          <a:stretch/>
        </p:blipFill>
        <p:spPr>
          <a:xfrm rot="21444000">
            <a:off x="253800" y="3609720"/>
            <a:ext cx="1600200" cy="11556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"/>
          <p:cNvPicPr/>
          <p:nvPr/>
        </p:nvPicPr>
        <p:blipFill>
          <a:blip r:embed="rId3"/>
          <a:stretch/>
        </p:blipFill>
        <p:spPr>
          <a:xfrm rot="21285600">
            <a:off x="357120" y="5560920"/>
            <a:ext cx="167652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Структура обозначения</a:t>
            </a:r>
            <a:br>
              <a:rPr sz="3600"/>
            </a:b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шероховатости на чертежах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3808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800" spc="-1" strike="noStrike" baseline="-25000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max</a:t>
            </a:r>
            <a:r>
              <a:rPr b="1" lang="ru-RU" sz="2800" spc="-1" strike="noStrike" baseline="-25000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ставляются 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ahoma"/>
                <a:ea typeface="Tahoma"/>
              </a:rPr>
              <a:t>S</a:t>
            </a:r>
            <a:r>
              <a:rPr b="1" i="1" lang="en-US" sz="2800" spc="-1" strike="noStrike" baseline="-25000">
                <a:solidFill>
                  <a:srgbClr val="9900ff"/>
                </a:solidFill>
                <a:latin typeface="Tahoma"/>
                <a:ea typeface="Tahoma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i="1" lang="en-US" sz="2800" spc="-1" strike="noStrike">
                <a:solidFill>
                  <a:srgbClr val="9900ff"/>
                </a:solidFill>
                <a:latin typeface="Tahoma"/>
                <a:ea typeface="Tahoma"/>
              </a:rPr>
              <a:t>S</a:t>
            </a:r>
            <a:r>
              <a:rPr b="1" i="1" lang="ru-RU" sz="2800" spc="-1" strike="noStrike">
                <a:solidFill>
                  <a:srgbClr val="9900ff"/>
                </a:solidFill>
                <a:latin typeface="Tahoma"/>
                <a:ea typeface="Tahoma"/>
              </a:rPr>
              <a:t> </a:t>
            </a:r>
            <a:r>
              <a:rPr b="1" i="1" lang="ru-RU" sz="2800" spc="-1" strike="noStrike">
                <a:solidFill>
                  <a:srgbClr val="9900ff"/>
                </a:solidFill>
                <a:latin typeface="Tahoma"/>
                <a:ea typeface="Tahoma"/>
              </a:rPr>
              <a:t>	</a:t>
            </a:r>
            <a:r>
              <a:rPr b="1" i="1" lang="ru-RU" sz="2800" spc="-1" strike="noStrike">
                <a:solidFill>
                  <a:srgbClr val="9900ff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мк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ahoma"/>
                <a:ea typeface="Tahoma"/>
              </a:rPr>
              <a:t>t</a:t>
            </a:r>
            <a:r>
              <a:rPr b="1" i="1" lang="en-US" sz="2800" spc="-1" strike="noStrike" baseline="-25000">
                <a:solidFill>
                  <a:srgbClr val="9900ff"/>
                </a:solidFill>
                <a:latin typeface="Tahoma"/>
                <a:ea typeface="Tahoma"/>
              </a:rPr>
              <a:t>p</a:t>
            </a:r>
            <a:r>
              <a:rPr b="1" i="1" lang="ru-RU" sz="2800" spc="-1" strike="noStrike" baseline="-25000">
                <a:solidFill>
                  <a:srgbClr val="9900ff"/>
                </a:solidFill>
                <a:latin typeface="Tahoma"/>
                <a:ea typeface="Tahoma"/>
              </a:rPr>
              <a:t> </a:t>
            </a:r>
            <a:r>
              <a:rPr b="1" i="1" lang="ru-RU" sz="2800" spc="-1" strike="noStrike" baseline="-25000">
                <a:solidFill>
                  <a:srgbClr val="9900ff"/>
                </a:solidFill>
                <a:latin typeface="Tahoma"/>
                <a:ea typeface="Tahoma"/>
              </a:rPr>
              <a:t>	</a:t>
            </a:r>
            <a:r>
              <a:rPr b="1" i="1" lang="ru-RU" sz="2800" spc="-1" strike="noStrike" baseline="-25000">
                <a:solidFill>
                  <a:srgbClr val="9900ff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%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i="1" lang="ru-RU" sz="2800" spc="-1" strike="noStrike" baseline="-25000">
                <a:solidFill>
                  <a:srgbClr val="9900ff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rcRect l="2037" t="3395" r="3055" b="3796"/>
          <a:stretch/>
        </p:blipFill>
        <p:spPr>
          <a:xfrm>
            <a:off x="1295280" y="3405240"/>
            <a:ext cx="65534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Обозначение шероховатости поверхностей</a:t>
            </a:r>
            <a:r>
              <a:rPr b="0" i="1" lang="el-GR" sz="3600" spc="-1" strike="noStrike">
                <a:solidFill>
                  <a:srgbClr val="999900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на чертежах</a:t>
            </a:r>
            <a:br>
              <a:rPr sz="3600"/>
            </a:b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(ГОСТ 2.309-73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380880" y="1523880"/>
            <a:ext cx="8763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араметры шероховатости задан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наибольшим предельны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араметры шероховатости зада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иапазоном знач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1752840" cy="5936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"/>
          <p:cNvPicPr/>
          <p:nvPr/>
        </p:nvPicPr>
        <p:blipFill>
          <a:blip r:embed="rId2"/>
          <a:stretch/>
        </p:blipFill>
        <p:spPr>
          <a:xfrm>
            <a:off x="533520" y="2265480"/>
            <a:ext cx="1752480" cy="6364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"/>
          <p:cNvPicPr/>
          <p:nvPr/>
        </p:nvPicPr>
        <p:blipFill>
          <a:blip r:embed="rId3"/>
          <a:stretch/>
        </p:blipFill>
        <p:spPr>
          <a:xfrm>
            <a:off x="609480" y="3478320"/>
            <a:ext cx="1524240" cy="6364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"/>
          <p:cNvPicPr/>
          <p:nvPr/>
        </p:nvPicPr>
        <p:blipFill>
          <a:blip r:embed="rId4"/>
          <a:srcRect l="0" t="0" r="2500" b="0"/>
          <a:stretch/>
        </p:blipFill>
        <p:spPr>
          <a:xfrm>
            <a:off x="228600" y="4208400"/>
            <a:ext cx="2362320" cy="5922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1" descr=""/>
          <p:cNvPicPr/>
          <p:nvPr/>
        </p:nvPicPr>
        <p:blipFill>
          <a:blip r:embed="rId5"/>
          <a:stretch/>
        </p:blipFill>
        <p:spPr>
          <a:xfrm>
            <a:off x="457200" y="4991040"/>
            <a:ext cx="2133720" cy="647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"/>
          <p:cNvPicPr/>
          <p:nvPr/>
        </p:nvPicPr>
        <p:blipFill>
          <a:blip r:embed="rId6"/>
          <a:stretch/>
        </p:blipFill>
        <p:spPr>
          <a:xfrm>
            <a:off x="304920" y="6060960"/>
            <a:ext cx="1981080" cy="5605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"/>
          <p:cNvPicPr/>
          <p:nvPr/>
        </p:nvPicPr>
        <p:blipFill>
          <a:blip r:embed="rId7"/>
          <a:stretch/>
        </p:blipFill>
        <p:spPr>
          <a:xfrm>
            <a:off x="2514600" y="6060960"/>
            <a:ext cx="1676520" cy="4874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8"/>
          <a:stretch/>
        </p:blipFill>
        <p:spPr>
          <a:xfrm>
            <a:off x="5181480" y="6137280"/>
            <a:ext cx="1752840" cy="4921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9"/>
          <a:stretch/>
        </p:blipFill>
        <p:spPr>
          <a:xfrm>
            <a:off x="7086600" y="6103800"/>
            <a:ext cx="205740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Обозначение шероховатости поверхностей на чертежах</a:t>
            </a:r>
            <a:br>
              <a:rPr sz="3600"/>
            </a:b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(ГОСТ 2.309-73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228600" y="144792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  <a:ea typeface="Tahoma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Для поверхности установлено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правление неровностей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– перекрещивающееся (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знак Х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); параметр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не должен быть больше 0,8 мкм.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Базовая длина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 указана, так как числовое значение базовой длины соответствует числовому значению параметр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=0,8 мм (см. табл.). На базовой длине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=0,8 мм параметр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должен находиться в пределах 0,025…0,050 м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 базовой длине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=0,25 мм относительная опорная длина профиля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номинально равная 80 % при уровне сечения профиля р=50 % </a:t>
            </a:r>
            <a:r>
              <a:rPr b="0" lang="en-US" sz="2200" spc="-1" strike="noStrike">
                <a:solidFill>
                  <a:srgbClr val="9900ff"/>
                </a:solidFill>
                <a:latin typeface="Tahoma"/>
              </a:rPr>
              <a:t>R</a:t>
            </a:r>
            <a:r>
              <a:rPr b="0" lang="en-US" sz="2200" spc="-1" strike="noStrike" baseline="-25000">
                <a:solidFill>
                  <a:srgbClr val="9900ff"/>
                </a:solidFill>
                <a:latin typeface="Tahoma"/>
              </a:rPr>
              <a:t>max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имеет симметричные отклонения 20 %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0" name="Picture 6" descr=""/>
          <p:cNvPicPr/>
          <p:nvPr/>
        </p:nvPicPr>
        <p:blipFill>
          <a:blip r:embed="rId1"/>
          <a:stretch/>
        </p:blipFill>
        <p:spPr>
          <a:xfrm>
            <a:off x="2514600" y="1539720"/>
            <a:ext cx="41148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Обозначение шероховатости поверхностей на чертежах</a:t>
            </a:r>
            <a:br>
              <a:rPr sz="3600"/>
            </a:b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(ГОСТ 2.309-73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80880" y="16002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  <a:ea typeface="Tahoma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ля поверхности установлено,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направление неровносте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– произвольное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знак 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); параметр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олжен находиться в пределах 0,25…0,32 мк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 базовой длин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0,08 мм.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ид обработк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казывается, т.к. он является единственным для данной поверх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7" descr=""/>
          <p:cNvPicPr/>
          <p:nvPr/>
        </p:nvPicPr>
        <p:blipFill>
          <a:blip r:embed="rId1"/>
          <a:stretch/>
        </p:blipFill>
        <p:spPr>
          <a:xfrm>
            <a:off x="2532240" y="1752480"/>
            <a:ext cx="4249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Влияние шероховатости на работу машин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38088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ероховатость поверхности может нарушать характер сопряжения деталей за счёт смятия или интенсивного износа выступов профил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тыковых соединениях из-за значительной шероховатости снижается жёсткость стык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ероховатость поверхности валов разрушает контактирующие с ними различного рода уплотн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ровности, являясь концентраторами напряжений, снижают усталостную прочность детал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6" descr=""/>
          <p:cNvPicPr/>
          <p:nvPr/>
        </p:nvPicPr>
        <p:blipFill>
          <a:blip r:embed="rId1"/>
          <a:srcRect l="5970" t="0" r="3590" b="0"/>
          <a:stretch/>
        </p:blipFill>
        <p:spPr>
          <a:xfrm rot="21452400">
            <a:off x="338040" y="5052960"/>
            <a:ext cx="2826000" cy="17384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"/>
          <p:cNvPicPr/>
          <p:nvPr/>
        </p:nvPicPr>
        <p:blipFill>
          <a:blip r:embed="rId2"/>
          <a:srcRect l="13083" t="0" r="0" b="21102"/>
          <a:stretch/>
        </p:blipFill>
        <p:spPr>
          <a:xfrm rot="21438000">
            <a:off x="870120" y="1665360"/>
            <a:ext cx="1915920" cy="148896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Обозначение шероховатости поверхностей на чертежах</a:t>
            </a:r>
            <a:br>
              <a:rPr sz="3600"/>
            </a:b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(ГОСТ 2.309-73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380880" y="1752480"/>
            <a:ext cx="8763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Ко всем поверхностям детал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устанавливаются одинаковы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ребования к шероховат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оверхности детали п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шероховатости нормируютс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 разной степе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Часть поверхности н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брабатывается по данному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чертеж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8" name="Picture 5" descr=""/>
          <p:cNvPicPr/>
          <p:nvPr/>
        </p:nvPicPr>
        <p:blipFill>
          <a:blip r:embed="rId3"/>
          <a:srcRect l="12735" t="9688" r="0" b="22794"/>
          <a:stretch/>
        </p:blipFill>
        <p:spPr>
          <a:xfrm rot="21432600">
            <a:off x="719280" y="3471480"/>
            <a:ext cx="21445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9900"/>
                </a:solidFill>
                <a:latin typeface="Tahoma"/>
              </a:rPr>
              <a:t>2 Волнистость поверхностей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38088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Волнистость поверхности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овокупность периодически повторяющихся неровностей, у которых расстояния между смежными возвышенностями или впадинами превышают базовую длину </a:t>
            </a:r>
            <a:r>
              <a:rPr b="1" i="1" lang="en-US" sz="2800" spc="-1" strike="noStrike">
                <a:solidFill>
                  <a:srgbClr val="9900ff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ля имеющейся шероховатости поверх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Причины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динамические процессы, вызываемые потерей устойчивости системы станок – приспособление – инструмент - деталь и выражающимися в возникновении вибра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914400" y="228600"/>
            <a:ext cx="8229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Параметры волнисто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38088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Высота волнистости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z</a:t>
            </a: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реднее арифметическое значение пяти высот волн в пределах длины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L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276720" y="3048120"/>
                <a:ext cx="25905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я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95" name="" descr=""/>
          <p:cNvPicPr/>
          <p:nvPr/>
        </p:nvPicPr>
        <p:blipFill>
          <a:blip r:embed="rId1"/>
          <a:srcRect l="0" t="0" r="0" b="41749"/>
          <a:stretch/>
        </p:blipFill>
        <p:spPr>
          <a:xfrm>
            <a:off x="1447920" y="4467240"/>
            <a:ext cx="67816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914400" y="228600"/>
            <a:ext cx="8229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Параметры волнисто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088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Наибольшая высота волнистости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max</a:t>
            </a: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амая высокая волна из пяти рассматриваемых в пределах длины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L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rcRect l="0" t="0" r="0" b="41749"/>
          <a:stretch/>
        </p:blipFill>
        <p:spPr>
          <a:xfrm>
            <a:off x="1066680" y="3733920"/>
            <a:ext cx="79250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914400" y="228600"/>
            <a:ext cx="8229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Параметры волнисто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38088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Средний шаг волнистости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W</a:t>
            </a: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реднее арифметическое значение длин отрезков средней линии, отсекаемых однотипными точками пересечения профиля волнистости со средней линией в пределах длины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L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276720" y="3962520"/>
                <a:ext cx="22096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503" name="" descr=""/>
          <p:cNvPicPr/>
          <p:nvPr/>
        </p:nvPicPr>
        <p:blipFill>
          <a:blip r:embed="rId1"/>
          <a:srcRect l="0" t="60007" r="0" b="0"/>
          <a:stretch/>
        </p:blipFill>
        <p:spPr>
          <a:xfrm>
            <a:off x="1143000" y="5151600"/>
            <a:ext cx="693432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914400" y="228600"/>
            <a:ext cx="8229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9900"/>
                </a:solidFill>
                <a:latin typeface="Tahoma"/>
              </a:rPr>
              <a:t>Параметры волнисто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80880" y="1676520"/>
            <a:ext cx="87631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                  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шероховатость поверхност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                                      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олнистост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клонения форм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371600" y="1446120"/>
                <a:ext cx="175248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523880" y="3200400"/>
                <a:ext cx="320040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1523880" y="5105520"/>
                <a:ext cx="228600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Влияние шероховатости на работу машин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8088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ероховатость влияет на герметичность соединений, на качество гальванических и лакокрасочных покрыт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ероховатость влияет на точность измерения детал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ррозия металла возникает и распространяется быстрее на грубо обработанных поверхностях и т.п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Шероховатость поверхностей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8088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Базовая длина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ормируется в зависимости от параметров шероховатости в пределах ряда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0,01; 0,03; 0,08; 0,25; 0,8; 0,25; 0,8; 2,5; 8; 2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.е.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чем больше микронеровности, тем больше базовая длин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Базовая лин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линия заданной геометрической формы, проведённая определённым образом относительно профиля и служащая для оценки геометрических параметров поверхностных неровн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Шероховатость поверхностей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38088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Средняя линия профиля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базовая линия, имеющая форму номинального профиля и проведённая так, что в пределах базовой длины среднее квадратическое отклонение профиля от этой линии минималь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5" name="Picture 6" descr=""/>
          <p:cNvPicPr/>
          <p:nvPr/>
        </p:nvPicPr>
        <p:blipFill>
          <a:blip r:embed="rId1"/>
          <a:stretch/>
        </p:blipFill>
        <p:spPr>
          <a:xfrm>
            <a:off x="1150920" y="3886200"/>
            <a:ext cx="7155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Параметры шероховатости (</a:t>
            </a:r>
            <a:r>
              <a:rPr b="1" i="1" lang="ru-RU" sz="3600" spc="-1" strike="noStrike">
                <a:solidFill>
                  <a:srgbClr val="999900"/>
                </a:solidFill>
                <a:latin typeface="Tahoma"/>
              </a:rPr>
              <a:t>высотные</a:t>
            </a: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)</a:t>
            </a:r>
            <a:br>
              <a:rPr sz="3600"/>
            </a:b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(ГОСТ 2789-73 ; ГОСТ 25142-82)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38088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Среднее арифметическое отклонение профиля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реднее арифметическое абсолютных значений отклонений профиля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 средней линии в пределах базовой дл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число выбранных точек профиля на базовой дли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1"/>
          <a:stretch/>
        </p:blipFill>
        <p:spPr>
          <a:xfrm>
            <a:off x="6175440" y="3962520"/>
            <a:ext cx="2892240" cy="16761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2"/>
          <a:stretch/>
        </p:blipFill>
        <p:spPr>
          <a:xfrm>
            <a:off x="254160" y="3533760"/>
            <a:ext cx="57657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6" descr=""/>
          <p:cNvPicPr/>
          <p:nvPr/>
        </p:nvPicPr>
        <p:blipFill>
          <a:blip r:embed="rId1"/>
          <a:stretch/>
        </p:blipFill>
        <p:spPr>
          <a:xfrm>
            <a:off x="1905120" y="4668840"/>
            <a:ext cx="5410080" cy="21891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3"/>
          <p:cNvSpPr/>
          <p:nvPr/>
        </p:nvSpPr>
        <p:spPr>
          <a:xfrm>
            <a:off x="380880" y="1447920"/>
            <a:ext cx="85345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Высота нервностей профиля по десяти точкам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z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умма средних абсолютных значений высот пяти наибольших выступов профиля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pi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глубин пяти наибольших впадин профиля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v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еделах базовой дл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1" descr=""/>
          <p:cNvPicPr/>
          <p:nvPr/>
        </p:nvPicPr>
        <p:blipFill>
          <a:blip r:embed="rId2"/>
          <a:stretch/>
        </p:blipFill>
        <p:spPr>
          <a:xfrm>
            <a:off x="2209680" y="3733920"/>
            <a:ext cx="4419720" cy="10443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Параметры шероховатости (</a:t>
            </a:r>
            <a:r>
              <a:rPr b="1" i="1" lang="ru-RU" sz="3600" spc="-1" strike="noStrike">
                <a:solidFill>
                  <a:srgbClr val="999900"/>
                </a:solidFill>
                <a:latin typeface="Tahoma"/>
              </a:rPr>
              <a:t>высотные</a:t>
            </a: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)</a:t>
            </a:r>
            <a:br>
              <a:rPr sz="3600"/>
            </a:b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(ГОСТ 2789-73 ; ГОСТ 25142-82)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8088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Наибольшая высота профиля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max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расстояние между линией выступов и линией впадин профиля в пределах базовой длины или сумма высоты наибольшего выступа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глубины наибольшей впадины профил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3047760" cy="6573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Параметры шероховатости (</a:t>
            </a:r>
            <a:r>
              <a:rPr b="1" i="1" lang="ru-RU" sz="3600" spc="-1" strike="noStrike">
                <a:solidFill>
                  <a:srgbClr val="999900"/>
                </a:solidFill>
                <a:latin typeface="Tahoma"/>
              </a:rPr>
              <a:t>высотные</a:t>
            </a: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)</a:t>
            </a:r>
            <a:br>
              <a:rPr sz="3600"/>
            </a:b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(ГОСТ 2789-73 ; ГОСТ 25142-82)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30" name="Picture 6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5648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38088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Средний шаг неровностей профиля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реднее значение шагов неровностей профиля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m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пределах базовой дл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число шагов неровностей профиля по средней лин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6377040" y="3657600"/>
            <a:ext cx="2690640" cy="14922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Параметры шероховатости (</a:t>
            </a:r>
            <a:r>
              <a:rPr b="1" i="1" lang="ru-RU" sz="3600" spc="-1" strike="noStrike">
                <a:solidFill>
                  <a:srgbClr val="999900"/>
                </a:solidFill>
                <a:latin typeface="Tahoma"/>
              </a:rPr>
              <a:t>шаговые</a:t>
            </a: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)</a:t>
            </a:r>
            <a:br>
              <a:rPr sz="3600"/>
            </a:br>
            <a:r>
              <a:rPr b="0" i="1" lang="ru-RU" sz="3600" spc="-1" strike="noStrike">
                <a:solidFill>
                  <a:srgbClr val="999900"/>
                </a:solidFill>
                <a:latin typeface="Tahoma"/>
              </a:rPr>
              <a:t>(ГОСТ 2789-73 ; ГОСТ 25142-82)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35" name="Picture 6" descr=""/>
          <p:cNvPicPr/>
          <p:nvPr/>
        </p:nvPicPr>
        <p:blipFill>
          <a:blip r:embed="rId2"/>
          <a:stretch/>
        </p:blipFill>
        <p:spPr>
          <a:xfrm>
            <a:off x="228600" y="3305160"/>
            <a:ext cx="57913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4-09T12:23:52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