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463-FDBD-4678-AADC-2A50A632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3582-8A6C-4813-9C72-DFB47B0A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53239-4FA2-4A07-A8F3-B81215B7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C5C60-9E33-43F1-813E-74E06A57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64406-F03E-4371-9ED5-A3C15C8D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B5AD1-837D-4D08-A4D7-91828E6E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DAB1E-209D-40A6-B7F8-E9A10527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276CD-A445-46CF-9181-714996DD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CF96E-9FAC-4E12-A3FC-012D2CEB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547AF-FA46-400A-B514-9E21F18D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E6C15-DAE7-4679-9A07-DE722082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EAA8E-41AC-4623-BAAC-F98C16F7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533-71B3-4217-824B-39B1B3EE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94E71-CA79-4120-AFEC-F4D285A1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524DE-05B0-4244-A7E7-7CAC319B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D46EF-1400-425C-B113-900CE885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81A9C-0F59-44B9-9AD5-87739EE9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B184A-2A85-40B2-8ED3-69A9F60D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08AE2-073F-4ACC-BB7D-4CB7872A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64ED7-5796-495F-A6C5-3A4851CA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17E2D-C26C-4390-B3A2-059C5A38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87DEE-64D3-4B7F-8BE6-323D7037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3A50B-B8B0-4DE7-A19E-6ABDB1C5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7EB9-282F-4CD1-AC9F-CE6F61D3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90C79-598F-4CBE-B674-B65281C7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3A2DC-3547-4B2D-BF2E-914C1B5D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09603-AB43-484C-823B-0D58EC55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85C01-4382-4E20-A8E2-2F097282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A754F-3018-4246-ADAC-431CA8F9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AC5ED-2DF8-443D-B663-2FC9A28D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9C705-76F2-4A0B-8344-1E087593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33027-8DD4-4620-8529-F667BE5C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E151B-6F90-49D4-9892-B8C1C80C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B643F-EC5C-4A30-9E2C-94433F83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8220-4854-4CCC-A47C-E24B2502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BF408-4592-4468-BF9B-BC2CE5B2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DB59D-DE9B-4DB2-BD7F-C3F3AFC8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A86F2-4E00-41E8-AF91-ACBB65FC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E7581-61D8-4617-BFE1-9BDDD930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2885B-4BDC-47E5-84F1-FE97D65E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DD9FC-BAAB-437E-AB27-F2119CD6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D3C96-C779-4691-BAD7-BC887DDC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8FE29-BBF2-4BEC-B361-57EBFA59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E23A4-ADA9-42C9-9C79-9598080E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AF8D7-31CA-489A-A902-A624CD2B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3299-323A-47F7-B4B4-7726B07F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90A4A-4EA8-4C73-B510-3655D239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967F2-C762-4C31-808B-E7912918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B081A-83B7-45DC-96A1-DC37CFC9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1C859-246B-47F4-A3E0-B44806E4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FD2BB-8522-4F5F-9D27-9F949860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67E8-ECE2-41CF-A043-7602BB33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C8DC-43EB-4DC5-ACCD-10007ABB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EFE7-8220-49DB-927E-54CAF9E1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EF49-B238-4C82-9D16-237667D8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DB11-420F-4D5F-9978-A7352214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E581-5D5C-4CD8-817E-A0D19C21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E1CE-2829-4D20-A3B2-9C6540DE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EC26-F8E2-42FD-934F-DFFFC059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B2CA-B739-44FC-91F4-9DF40B68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B040-9423-41FF-BED3-4A4EB80B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DC13-5C5F-4648-8624-983D07AD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1CC27-2FA8-4664-8F63-69BFD230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DC6C3-0300-463A-9E3E-98645005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6B166-FC20-46D6-9910-4F796A3F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66530-7DD6-472A-B4C2-F13DBFD3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E1B37-D9B0-43A1-B54C-4E69CD99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598-0E29-4E0E-AC45-1582CBBA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A8BBA-4B13-4539-840E-D2CD5F7A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681DB-DA15-4BB0-B78B-4CF92D52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4C325-AF98-4DF3-AB39-1381CE24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89F35-1176-4748-B7AE-92982722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2D760-649E-4821-9A3E-14D69ADD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5AB07-585E-4E38-BD41-B99C0F58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4612D-BEB3-4472-952D-5A66A7A7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CAB9A-5962-49A5-9E9D-6F653A37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FB4D9-B8FA-47AF-B1F2-4B054D0D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B2749-3591-4BDF-ABB8-8EE84611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594-25C3-4D43-9FB2-0FFF1178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FDF00-D3DC-489C-B6DB-C682B5F6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21D1C-5BB4-44E9-A799-74E20FEA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C191D-4298-4376-9C35-5474663B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630E5-9576-4247-8B14-F9380C53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888F0-9F00-4062-BCAA-98FED227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7241C-68CC-4A6B-AAB8-62209207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D15D6-A08E-4FFA-A1BA-ECF98A0C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08D43-22AA-483B-81A5-573C0A0C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4B89E-36FA-4CB6-88A0-F8C33254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B1031-00B9-44E1-B37F-72A5CA09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0F3-7A99-4C19-992F-F3C181CB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61F19-CA2C-4FB1-AF07-06CCAE78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74CAE-62C9-4210-B14B-0E151037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7158A-A89D-4598-AB7E-855B9955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0D809-30C6-48BC-A153-9DC5F236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B56E7-0070-4EFB-BA04-2307BEE6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860B8-3776-4379-992C-1B910087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797D8-DB92-4C19-A2EE-AF9EE47B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B8FE3-E8F7-405E-A7ED-080DE9F7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B4E04-D338-4BD1-8454-AA3C3C97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90903-DC72-41CD-9F81-F52EFD97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52E-57D1-472C-8B19-039272E5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E782D-35FB-4E29-8E97-FAD062B6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3989E-0520-498B-9751-DA1B0C6D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B78B9-D8F9-4E26-9AA8-75ACAD3F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2771A-4B05-403E-B8A4-299E9602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19266-3C2B-4235-A24E-F0B98536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1A893-BB5B-4AC3-8C76-DCDD7514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4EB62-57B3-49EB-B2D4-6ED1F7CE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DE3AD-ED4D-472D-88DB-41935E0A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FE1C3-6A93-4587-845E-55F80F6C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7617A-2C4F-41D3-873E-A61D8C93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256-A8FC-4A11-A79F-FFD78AC6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55225-B516-4BC5-9293-21537C5D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C392E-356D-4450-87B8-2B12932F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ED75D-1412-4451-861D-CC1F95E5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7B843-E8D7-4015-B5E3-337A823F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91779-90CC-4D92-8DC3-0F910DA7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101AB-3311-4981-ABFB-F3CDBC14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A25DA-E7A4-4A15-A854-429C26FE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B6DC6-1B4C-4D49-8C77-B932E72D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C26A4-1BC5-4D6D-B4FF-F7491D66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29FD0-73DE-48D4-B28A-0C6C05FA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E70-52E8-4C1D-AC41-23E0BCB0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35CD6-2E92-4885-A28B-245FBA40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9D604-ECFA-4C0E-859A-B1E3329E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FC66D-512F-4331-86A8-895DF7D5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C83A2-5060-41A8-B7D9-103EC4E2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FB4AD-7AC7-4B1F-B5D8-9C213AB0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AACF3-7507-4CB5-A820-E7A45765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4CB8D-6499-4C60-BD0A-FAF71C05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4632C-F758-4A4D-96B2-494C62B1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26B22-5096-410A-876F-CBCFB912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278F9-9318-44D5-B1DF-EB91CE19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FB98-5A26-457D-93FA-B020BF46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A3A89-CDB1-403E-8921-3794816B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B581F-C473-47FE-A5B3-D9702021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B6364-F875-4D14-871F-07DA5656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AC105-05A7-4229-98FD-DF43BB89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9EDCD-0222-4FB4-A2C0-603D66F8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14871-53C5-4B93-A43D-EEAC8341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C61BA-2C44-476E-9099-CBAE68EB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059B2-BEC2-4DF8-BB4E-D1D2A50F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2A01C-CC67-46F7-84E8-8845D87B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38966-0AEE-4CCE-BB01-49DD37D9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DA6B-31CF-41F4-936C-6F02595FEA3B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10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AED1-37AF-41A0-ACEF-1C6E4A5BB95D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5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FC26-1C9D-4443-A987-06CAF000120F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0292-11D2-4923-9CC6-DEE2C14DB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0970-4943-40B8-BF10-D97D5BF1D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97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C96E-4026-4A75-817A-108858B188E8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4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C0DA-C23F-4E9C-86EA-B147594025B2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817A-996E-4A2F-8C8C-748FC1BC26D0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0179-2374-4391-B854-8C3309E134F2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B11B-F6CC-4F9D-9DAA-55819759B746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14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8321-8948-49F0-ADA6-2BD49F328313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AC94-0195-45BF-97D5-61147E1ADD8A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0" y="442872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чество, надёжность и долговечность работы подшипника зависят о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толщины масляного сло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на которую, при прочих равных условиях работы подшипника, будет влиять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зазор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разность между диаметром цапфы и диаметром отверстия вкладыша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00"/>
                </a:solidFill>
                <a:latin typeface="Tahoma"/>
              </a:rPr>
              <a:t>1 Расчёт и выбор посадки с зазор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1835280" y="604800"/>
            <a:ext cx="525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00"/>
                </a:solidFill>
                <a:latin typeface="Tahoma"/>
              </a:rPr>
              <a:t>Расчёт и выбор посадки с зазором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000080" y="1599840"/>
            <a:ext cx="816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Реш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пределение минимально допустимой величины масляного сло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≥k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+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Z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гд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Z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=3,2 мкм – высоты неровностей трущихся поверхностей, выбираются в соответствии с рекомендация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Д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– принимается равной 2…3 мкм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2(3,2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+3,2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+3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=18,8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-6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00"/>
                </a:solidFill>
                <a:latin typeface="Tahoma"/>
              </a:rPr>
              <a:t>Расчёт и выбор посадки с зазором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00080" y="1599840"/>
            <a:ext cx="8143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Расчёт значения 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2"/>
              <p:cNvSpPr txBox="1"/>
              <p:nvPr/>
            </p:nvSpPr>
            <p:spPr>
              <a:xfrm>
                <a:off x="1000080" y="2946240"/>
                <a:ext cx="807264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D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μω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,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7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7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00"/>
                </a:solidFill>
                <a:latin typeface="Tahoma"/>
              </a:rPr>
              <a:t>Расчёт и выбор посадки с зазором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00080" y="1571760"/>
            <a:ext cx="81439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Определение значений </a:t>
            </a:r>
            <a:r>
              <a:rPr b="0" lang="el-GR" sz="2600" spc="-1" strike="noStrike">
                <a:solidFill>
                  <a:srgbClr val="000000"/>
                </a:solidFill>
                <a:latin typeface="Tahoma"/>
              </a:rPr>
              <a:t>χ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min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l-GR" sz="2600" spc="-1" strike="noStrike">
                <a:solidFill>
                  <a:srgbClr val="000000"/>
                </a:solidFill>
                <a:latin typeface="Tahoma"/>
              </a:rPr>
              <a:t>χ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 таблице при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/D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=1 и А=0,352 находим: </a:t>
            </a:r>
            <a:r>
              <a:rPr b="0" lang="el-GR" sz="2600" spc="-1" strike="noStrike">
                <a:solidFill>
                  <a:srgbClr val="000000"/>
                </a:solidFill>
                <a:latin typeface="Tahoma"/>
              </a:rPr>
              <a:t>χ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min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– отсутствует; </a:t>
            </a:r>
            <a:r>
              <a:rPr b="0" lang="el-GR" sz="2600" spc="-1" strike="noStrike">
                <a:solidFill>
                  <a:srgbClr val="000000"/>
                </a:solidFill>
                <a:latin typeface="Tahoma"/>
              </a:rPr>
              <a:t>χ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=0,83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График изменения А от </a:t>
            </a:r>
            <a:r>
              <a:rPr b="0" lang="el-GR" sz="2600" spc="-1" strike="noStrike" u="sng">
                <a:solidFill>
                  <a:srgbClr val="000000"/>
                </a:solidFill>
                <a:uFillTx/>
                <a:latin typeface="Tahoma"/>
              </a:rPr>
              <a:t>χ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Заштрихованная зона –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зона надёжной работы подшипни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т.е. зона при </a:t>
            </a:r>
            <a:r>
              <a:rPr b="0" lang="el-GR" sz="2600" spc="-1" strike="noStrike">
                <a:solidFill>
                  <a:srgbClr val="000000"/>
                </a:solidFill>
                <a:latin typeface="Tahoma"/>
              </a:rPr>
              <a:t>χ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≥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0,3. Поэтому в таблице приведены значения только для А при </a:t>
            </a:r>
            <a:r>
              <a:rPr b="0" lang="el-GR" sz="2600" spc="-1" strike="noStrike">
                <a:solidFill>
                  <a:srgbClr val="000000"/>
                </a:solidFill>
                <a:latin typeface="Tahoma"/>
              </a:rPr>
              <a:t>χ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≥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0,3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3243240" y="3527280"/>
            <a:ext cx="32734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00"/>
                </a:solidFill>
                <a:latin typeface="Tahoma"/>
              </a:rPr>
              <a:t>Расчёт и выбор посадки с зазором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000080" y="1599840"/>
            <a:ext cx="8143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ашем случае мы должны принять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χ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е менее 0,3. Принимаем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χ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0,3 и соответствующее ему 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0,3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0,438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ени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[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 формулы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0,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-e=0.5S(1-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χ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пределяем зазор               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ксимальный зазор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2"/>
              <p:cNvSpPr txBox="1"/>
              <p:nvPr/>
            </p:nvSpPr>
            <p:spPr>
              <a:xfrm>
                <a:off x="2428920" y="4952880"/>
                <a:ext cx="137160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χ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3"/>
              <p:cNvSpPr txBox="1"/>
              <p:nvPr/>
            </p:nvSpPr>
            <p:spPr>
              <a:xfrm>
                <a:off x="4786200" y="5786280"/>
                <a:ext cx="42865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,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21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00"/>
                </a:solidFill>
                <a:latin typeface="Tahoma"/>
              </a:rPr>
              <a:t>Расчёт и выбор посадки с зазором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00080" y="1599840"/>
            <a:ext cx="8143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нимальный зазор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ак как был принят больший относительный эксцентриситет, значени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данном случае не равно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4756320" y="1544760"/>
                <a:ext cx="174456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3"/>
              <p:cNvSpPr txBox="1"/>
              <p:nvPr/>
            </p:nvSpPr>
            <p:spPr>
              <a:xfrm>
                <a:off x="3657600" y="3471840"/>
                <a:ext cx="228600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μω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rad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,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-6480" y="4890960"/>
                <a:ext cx="9150480" cy="139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μω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rad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,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57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,3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,857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8,8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6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36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2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00"/>
                </a:solidFill>
                <a:latin typeface="Tahoma"/>
              </a:rPr>
              <a:t>Расчёт и выбор посадки с зазором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00080" y="1599840"/>
            <a:ext cx="8143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ор посадк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Smin]=67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км находим, что наиболее близкий вид посадки в системе отверстия Н/е с минимальным зазором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6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км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пуск посадки с учётом коэффициента запаса точности на износ подшипника скольжения К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2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2"/>
              <p:cNvSpPr txBox="1"/>
              <p:nvPr/>
            </p:nvSpPr>
            <p:spPr>
              <a:xfrm>
                <a:off x="1609560" y="5643720"/>
                <a:ext cx="73915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S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з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мк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00"/>
                </a:solidFill>
                <a:latin typeface="Tahoma"/>
              </a:rPr>
              <a:t>Расчёт и выбор посадки с зазором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00080" y="1599840"/>
            <a:ext cx="8143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ение квалитет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вестно, что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=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Подберём квалитеты так, чтобы сумма допусков была близка к 80 мкм. Наиболее близко соответствует этим условиям предпочтительная посадка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2"/>
              <p:cNvSpPr txBox="1"/>
              <p:nvPr/>
            </p:nvSpPr>
            <p:spPr>
              <a:xfrm>
                <a:off x="4714920" y="4572000"/>
                <a:ext cx="16765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Н</m:t>
                        </m:r>
                        <m:r>
                          <m:t xml:space="preserve">7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0</m:t>
                            </m:r>
                          </m:e>
                        </m:d>
                      </m:num>
                      <m:den>
                        <m:r>
                          <m:t xml:space="preserve">е</m:t>
                        </m:r>
                        <m:r>
                          <m:t xml:space="preserve">8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6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60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2240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00"/>
                </a:solidFill>
                <a:latin typeface="Tahoma"/>
              </a:rPr>
              <a:t>Расчёт и выбор посадки с зазором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28440" y="1599840"/>
            <a:ext cx="8062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СТом 25347-82 установлен ряд рекомендуемых посадок в системе отверстия и вала, которые образованы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редпочтительными полями допуск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g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f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e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d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F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E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4"/>
          <p:cNvSpPr/>
          <p:nvPr/>
        </p:nvSpPr>
        <p:spPr>
          <a:xfrm>
            <a:off x="0" y="66600"/>
            <a:ext cx="91440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00"/>
                </a:solidFill>
                <a:latin typeface="Tahoma"/>
              </a:rPr>
              <a:t>Схема расположения полей допусков посадок с зазором в системе отверстия для размеров до 500 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rcRect l="329" t="508" r="491" b="0"/>
          <a:stretch/>
        </p:blipFill>
        <p:spPr>
          <a:xfrm>
            <a:off x="684360" y="1816200"/>
            <a:ext cx="763272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4"/>
          <p:cNvSpPr/>
          <p:nvPr/>
        </p:nvSpPr>
        <p:spPr>
          <a:xfrm>
            <a:off x="985680" y="274680"/>
            <a:ext cx="815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00"/>
                </a:solidFill>
                <a:latin typeface="Tahoma"/>
              </a:rPr>
              <a:t>Области применения некоторых рекомендуемых посадок с зазо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1071720" y="1771560"/>
            <a:ext cx="789300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53880" indent="-273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адки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6600"/>
                </a:solidFill>
                <a:latin typeface="Tahoma"/>
              </a:rPr>
              <a:t>H/h</a:t>
            </a:r>
            <a:r>
              <a:rPr b="1" lang="ru-RU" sz="28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ru-RU" sz="2800" spc="-1" strike="noStrike">
                <a:solidFill>
                  <a:srgbClr val="996600"/>
                </a:solidFill>
                <a:latin typeface="Tahoma"/>
              </a:rPr>
              <a:t>«скользящие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0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; 4…12-й квалите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точных квалитетах он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рименяютс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ак центрирующие посадки, т.е. обеспечивают высокую степень совпадения центра вала с центром сопрягаемого с ним отверстия.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Допускаю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едленное вращение и продольное перемещение, чаще всего используемое при настройках и регулиров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93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00"/>
                </a:solidFill>
                <a:latin typeface="Tahoma"/>
              </a:rPr>
              <a:t>Расчёт и выбор посадки с зазором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928800" y="1599840"/>
            <a:ext cx="82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удет очень небольшим, то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кже будет маленькой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Следовательн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работа подшипника в таких условиях будет неустойчиво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удет достаточно большим, то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удет маленькой из-за малой подъёмной силы гидродинамического клин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00"/>
                </a:solidFill>
                <a:latin typeface="Tahoma"/>
              </a:rPr>
              <a:t>Вывод:</a:t>
            </a:r>
            <a:r>
              <a:rPr b="1" i="1" lang="ru-RU" sz="2800" spc="-1" strike="noStrike">
                <a:solidFill>
                  <a:srgbClr val="4b3e21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определённых условий работы имеется некоторый интервал, внутри которого будет существовать надёжное всплыти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00"/>
                </a:solidFill>
                <a:latin typeface="Tahoma"/>
              </a:rPr>
              <a:t>Области применения некоторых рекомендуемых посадок с зазором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80722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ahoma"/>
              </a:rPr>
              <a:t>H7/h6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неподвижные соединения при высоких требованиях к точности часто разбираемых деталей: сменные зубчатые колёса на валах, фрезы на оправках, центрирующие корпуса под подшипники качения, сменные кондукторные втулки и т.д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361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ahoma"/>
              </a:rPr>
              <a:t>H</a:t>
            </a:r>
            <a:r>
              <a:rPr b="1" lang="ru-RU" sz="2800" spc="-1" strike="noStrike">
                <a:solidFill>
                  <a:srgbClr val="996600"/>
                </a:solidFill>
                <a:latin typeface="Tahoma"/>
              </a:rPr>
              <a:t>8</a:t>
            </a:r>
            <a:r>
              <a:rPr b="1" lang="en-US" sz="2800" spc="-1" strike="noStrike">
                <a:solidFill>
                  <a:srgbClr val="996600"/>
                </a:solidFill>
                <a:latin typeface="Tahoma"/>
              </a:rPr>
              <a:t>/h</a:t>
            </a:r>
            <a:r>
              <a:rPr b="1" lang="ru-RU" sz="2800" spc="-1" strike="noStrike">
                <a:solidFill>
                  <a:srgbClr val="996600"/>
                </a:solidFill>
                <a:latin typeface="Tahoma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996600"/>
                </a:solidFill>
                <a:latin typeface="Tahoma"/>
              </a:rPr>
              <a:t>H</a:t>
            </a:r>
            <a:r>
              <a:rPr b="1" lang="ru-RU" sz="2800" spc="-1" strike="noStrike">
                <a:solidFill>
                  <a:srgbClr val="996600"/>
                </a:solidFill>
                <a:latin typeface="Tahoma"/>
              </a:rPr>
              <a:t>8</a:t>
            </a:r>
            <a:r>
              <a:rPr b="1" lang="en-US" sz="2800" spc="-1" strike="noStrike">
                <a:solidFill>
                  <a:srgbClr val="996600"/>
                </a:solidFill>
                <a:latin typeface="Tahoma"/>
              </a:rPr>
              <a:t>/h</a:t>
            </a:r>
            <a:r>
              <a:rPr b="1" lang="ru-RU" sz="2800" spc="-1" strike="noStrike">
                <a:solidFill>
                  <a:srgbClr val="996600"/>
                </a:solidFill>
                <a:latin typeface="Tahoma"/>
              </a:rPr>
              <a:t>8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имеют примерно то же назначение, что и посадка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7/h6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но характеризуются более широкими допусками, облегчающими изготовление детал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4"/>
          <p:cNvSpPr/>
          <p:nvPr/>
        </p:nvSpPr>
        <p:spPr>
          <a:xfrm>
            <a:off x="985680" y="274680"/>
            <a:ext cx="815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00"/>
                </a:solidFill>
                <a:latin typeface="Tahoma"/>
              </a:rPr>
              <a:t>Области применения некоторых рекомендуемых посадок с зазо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"/>
          <p:cNvSpPr/>
          <p:nvPr/>
        </p:nvSpPr>
        <p:spPr>
          <a:xfrm>
            <a:off x="1114560" y="1755720"/>
            <a:ext cx="785016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57480" indent="-27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адки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6600"/>
                </a:solidFill>
                <a:latin typeface="Tahoma"/>
              </a:rPr>
              <a:t>H/g</a:t>
            </a:r>
            <a:r>
              <a:rPr b="1" lang="ru-RU" sz="28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ru-RU" sz="2800" spc="-1" strike="noStrike">
                <a:solidFill>
                  <a:srgbClr val="996600"/>
                </a:solidFill>
                <a:latin typeface="Tahoma"/>
              </a:rPr>
              <a:t>«движения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480" indent="-27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7480" indent="-27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4…7-й квалите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Обладают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инимальны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 сравнению с другими посадкам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зоро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480" indent="-27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7480" indent="-27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рименяютс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ля плавных, чаще всего возвратно-поступательных перемещений, допускают медленное вращение при малых нагруз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480" indent="-27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76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ahoma"/>
              </a:rPr>
              <a:t>H7/g6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плунжерные и золотниковые пары, шпиндель делительной головки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4"/>
          <p:cNvSpPr/>
          <p:nvPr/>
        </p:nvSpPr>
        <p:spPr>
          <a:xfrm>
            <a:off x="985680" y="274680"/>
            <a:ext cx="815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00"/>
                </a:solidFill>
                <a:latin typeface="Tahoma"/>
              </a:rPr>
              <a:t>Области применения некоторых рекомендуемых посадок с зазо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971640" y="1773360"/>
            <a:ext cx="8101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57480" indent="-27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адки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6600"/>
                </a:solidFill>
                <a:latin typeface="Tahoma"/>
              </a:rPr>
              <a:t>H/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996600"/>
                </a:solidFill>
                <a:latin typeface="Tahoma"/>
              </a:rPr>
              <a:t> F/h</a:t>
            </a:r>
            <a:r>
              <a:rPr b="1" lang="ru-RU" sz="28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ru-RU" sz="2800" spc="-1" strike="noStrike">
                <a:solidFill>
                  <a:srgbClr val="996600"/>
                </a:solidFill>
                <a:latin typeface="Tahoma"/>
              </a:rPr>
              <a:t>«ходовые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480" indent="-27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7480" indent="-27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Характеризуются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 умеренным гарантированным зазором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480" indent="-27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7480" indent="-27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Применяются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для обеспечения свободного вращения в подшипниках скольжения общего назначения при лёгких и средних режимах работы со скоростями не более 150 рад/с и в опорах поступательного перемещ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480" indent="-27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76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H</a:t>
            </a: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7</a:t>
            </a: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/f</a:t>
            </a: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7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подшипники скольжения коробок передач различных станков, в сопряжениях поршня с цилиндром в компрессорах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4"/>
          <p:cNvSpPr/>
          <p:nvPr/>
        </p:nvSpPr>
        <p:spPr>
          <a:xfrm>
            <a:off x="985680" y="274680"/>
            <a:ext cx="815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00"/>
                </a:solidFill>
                <a:latin typeface="Tahoma"/>
              </a:rPr>
              <a:t>Области применения некоторых рекомендуемых посадок с зазо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971640" y="1628640"/>
            <a:ext cx="817236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57480" indent="-27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адки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6600"/>
                </a:solidFill>
                <a:latin typeface="Tahoma"/>
              </a:rPr>
              <a:t>H/</a:t>
            </a:r>
            <a:r>
              <a:rPr b="1" lang="ru-RU" sz="2800" spc="-1" strike="noStrike">
                <a:solidFill>
                  <a:srgbClr val="996600"/>
                </a:solidFill>
                <a:latin typeface="Tahom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996600"/>
                </a:solidFill>
                <a:latin typeface="Tahoma"/>
              </a:rPr>
              <a:t>Е</a:t>
            </a:r>
            <a:r>
              <a:rPr b="1" lang="en-US" sz="2800" spc="-1" strike="noStrike">
                <a:solidFill>
                  <a:srgbClr val="996600"/>
                </a:solidFill>
                <a:latin typeface="Tahoma"/>
              </a:rPr>
              <a:t>/h</a:t>
            </a:r>
            <a:r>
              <a:rPr b="1" lang="ru-RU" sz="28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ru-RU" sz="2800" spc="-1" strike="noStrike">
                <a:solidFill>
                  <a:srgbClr val="996600"/>
                </a:solidFill>
                <a:latin typeface="Tahoma"/>
              </a:rPr>
              <a:t>«легкоходовые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480" indent="-27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7480" indent="-27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Обладают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 значительным гарантированным зазором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вдвое большим, чем у ходовых посадо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480" indent="-27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7480" indent="-27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Применяются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для свободного вращательного движения при повышенных режимах работы со скоростями более 150 рад/с, а также для компенсации погрешностей монтажа и деформаций, возникающих во время рабо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480" indent="-27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7480" indent="-276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H</a:t>
            </a: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7</a:t>
            </a: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/f</a:t>
            </a: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H</a:t>
            </a: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8</a:t>
            </a: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/</a:t>
            </a: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е8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подшипники жидкостного трения турбогенераторов, больших электромашин, коренных шеек коленчатых в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4"/>
          <p:cNvSpPr/>
          <p:nvPr/>
        </p:nvSpPr>
        <p:spPr>
          <a:xfrm>
            <a:off x="985680" y="274680"/>
            <a:ext cx="815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00"/>
                </a:solidFill>
                <a:latin typeface="Tahoma"/>
              </a:rPr>
              <a:t>Области применения некоторых рекомендуемых посадок с зазо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971640" y="1628640"/>
            <a:ext cx="817236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61080" indent="-2797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адки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6600"/>
                </a:solidFill>
                <a:latin typeface="Tahoma"/>
              </a:rPr>
              <a:t>H/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996600"/>
                </a:solidFill>
                <a:latin typeface="Tahoma"/>
              </a:rPr>
              <a:t> D/h</a:t>
            </a:r>
            <a:r>
              <a:rPr b="1" lang="ru-RU" sz="28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ru-RU" sz="2800" spc="-1" strike="noStrike">
                <a:solidFill>
                  <a:srgbClr val="996600"/>
                </a:solidFill>
                <a:latin typeface="Tahoma"/>
              </a:rPr>
              <a:t>«широкоходовые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080" indent="-2797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1080" indent="-2797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Характеризуются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 большим гарантированным зазором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позволяющим компенсировать значительные отклонения расположения сопрягаемых поверхностей и температурные деформации и обеспечить свободное перемещение деталей или их регулировку и сбор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080" indent="-2797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1080" indent="-2797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H</a:t>
            </a: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8</a:t>
            </a: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/d</a:t>
            </a: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H</a:t>
            </a: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9</a:t>
            </a: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/d</a:t>
            </a: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9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соединения при невысоких требованиях к точности, поршни в цилиндрах компресс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2797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H</a:t>
            </a: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11</a:t>
            </a: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/d</a:t>
            </a: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11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крышки подшипников и распорных втулок в корпусах, шарниры и ролики на ос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604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00"/>
                </a:solidFill>
                <a:latin typeface="Tahoma"/>
              </a:rPr>
              <a:t>Расчёт и выбор посадки с зазор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Сущность расчёта посадк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заключается в том, чтобы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пределить интервал зазор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[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…[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при котором величина всплытия будет не меньше предварительно выбранной допустимо минимальной толщины масляного слоя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[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403280" y="623880"/>
            <a:ext cx="59770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00"/>
                </a:solidFill>
                <a:latin typeface="Tahoma"/>
              </a:rPr>
              <a:t>Расчёт и выбор посадки с зазором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928800" y="1218960"/>
            <a:ext cx="8215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Для обеспечения жидкостного трения необходимо, чтобы микронеровности цапфы и вкладыша не касались при работе подшипника. Это возможно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при условии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00"/>
                </a:solidFill>
                <a:latin typeface="Tahoma"/>
              </a:rPr>
              <a:t>[h</a:t>
            </a:r>
            <a:r>
              <a:rPr b="1" lang="en-US" sz="2600" spc="-1" strike="noStrike" baseline="-25000">
                <a:solidFill>
                  <a:srgbClr val="996600"/>
                </a:solidFill>
                <a:latin typeface="Tahoma"/>
              </a:rPr>
              <a:t>min</a:t>
            </a:r>
            <a:r>
              <a:rPr b="1" lang="en-US" sz="2600" spc="-1" strike="noStrike">
                <a:solidFill>
                  <a:srgbClr val="996600"/>
                </a:solidFill>
                <a:latin typeface="Tahoma"/>
              </a:rPr>
              <a:t>]</a:t>
            </a:r>
            <a:r>
              <a:rPr b="1" lang="en-US" sz="2600" spc="-1" strike="noStrike">
                <a:solidFill>
                  <a:srgbClr val="996600"/>
                </a:solidFill>
                <a:latin typeface="Tahoma"/>
                <a:ea typeface="Tahoma"/>
              </a:rPr>
              <a:t>≥R</a:t>
            </a:r>
            <a:r>
              <a:rPr b="1" lang="en-US" sz="2600" spc="-1" strike="noStrike" baseline="-25000">
                <a:solidFill>
                  <a:srgbClr val="996600"/>
                </a:solidFill>
                <a:latin typeface="Tahoma"/>
                <a:ea typeface="Tahoma"/>
              </a:rPr>
              <a:t>Z1</a:t>
            </a:r>
            <a:r>
              <a:rPr b="1" lang="en-US" sz="2600" spc="-1" strike="noStrike">
                <a:solidFill>
                  <a:srgbClr val="996600"/>
                </a:solidFill>
                <a:latin typeface="Tahoma"/>
                <a:ea typeface="Tahoma"/>
              </a:rPr>
              <a:t>+R</a:t>
            </a:r>
            <a:r>
              <a:rPr b="1" lang="en-US" sz="2600" spc="-1" strike="noStrike" baseline="-25000">
                <a:solidFill>
                  <a:srgbClr val="996600"/>
                </a:solidFill>
                <a:latin typeface="Tahoma"/>
                <a:ea typeface="Tahoma"/>
              </a:rPr>
              <a:t>Z2</a:t>
            </a:r>
            <a:r>
              <a:rPr b="1" lang="en-US" sz="2600" spc="-1" strike="noStrike">
                <a:solidFill>
                  <a:srgbClr val="996600"/>
                </a:solidFill>
                <a:latin typeface="Tahoma"/>
                <a:ea typeface="Tahoma"/>
              </a:rPr>
              <a:t>+</a:t>
            </a:r>
            <a:r>
              <a:rPr b="1" lang="el-GR" sz="2600" spc="-1" strike="noStrike">
                <a:solidFill>
                  <a:srgbClr val="996600"/>
                </a:solidFill>
                <a:latin typeface="Tahoma"/>
                <a:ea typeface="Tahoma"/>
              </a:rPr>
              <a:t>Δ</a:t>
            </a:r>
            <a:r>
              <a:rPr b="1" lang="ru-RU" sz="2600" spc="-1" strike="noStrike" baseline="-25000">
                <a:solidFill>
                  <a:srgbClr val="996600"/>
                </a:solidFill>
                <a:latin typeface="Tahoma"/>
                <a:ea typeface="Tahoma"/>
              </a:rPr>
              <a:t>ф</a:t>
            </a:r>
            <a:r>
              <a:rPr b="1" lang="ru-RU" sz="2600" spc="-1" strike="noStrike">
                <a:solidFill>
                  <a:srgbClr val="996600"/>
                </a:solidFill>
                <a:latin typeface="Tahoma"/>
                <a:ea typeface="Tahoma"/>
              </a:rPr>
              <a:t>+</a:t>
            </a:r>
            <a:r>
              <a:rPr b="1" lang="el-GR" sz="2600" spc="-1" strike="noStrike">
                <a:solidFill>
                  <a:srgbClr val="996600"/>
                </a:solidFill>
                <a:latin typeface="Tahoma"/>
                <a:ea typeface="Tahoma"/>
              </a:rPr>
              <a:t>Δ</a:t>
            </a:r>
            <a:r>
              <a:rPr b="1" lang="ru-RU" sz="2600" spc="-1" strike="noStrike" baseline="-25000">
                <a:solidFill>
                  <a:srgbClr val="996600"/>
                </a:solidFill>
                <a:latin typeface="Tahoma"/>
                <a:ea typeface="Tahoma"/>
              </a:rPr>
              <a:t>р</a:t>
            </a:r>
            <a:r>
              <a:rPr b="1" lang="ru-RU" sz="2600" spc="-1" strike="noStrike">
                <a:solidFill>
                  <a:srgbClr val="996600"/>
                </a:solidFill>
                <a:latin typeface="Tahoma"/>
                <a:ea typeface="Tahoma"/>
              </a:rPr>
              <a:t>+</a:t>
            </a:r>
            <a:r>
              <a:rPr b="1" lang="el-GR" sz="2600" spc="-1" strike="noStrike">
                <a:solidFill>
                  <a:srgbClr val="996600"/>
                </a:solidFill>
                <a:latin typeface="Tahoma"/>
                <a:ea typeface="Tahoma"/>
              </a:rPr>
              <a:t>Δ</a:t>
            </a:r>
            <a:r>
              <a:rPr b="1" lang="ru-RU" sz="2600" spc="-1" strike="noStrike" baseline="-25000">
                <a:solidFill>
                  <a:srgbClr val="996600"/>
                </a:solidFill>
                <a:latin typeface="Tahoma"/>
                <a:ea typeface="Tahoma"/>
              </a:rPr>
              <a:t>изг</a:t>
            </a:r>
            <a:r>
              <a:rPr b="1" lang="ru-RU" sz="2600" spc="-1" strike="noStrike">
                <a:solidFill>
                  <a:srgbClr val="996600"/>
                </a:solidFill>
                <a:latin typeface="Tahoma"/>
                <a:ea typeface="Tahoma"/>
              </a:rPr>
              <a:t>+</a:t>
            </a:r>
            <a:r>
              <a:rPr b="1" lang="el-GR" sz="2600" spc="-1" strike="noStrike">
                <a:solidFill>
                  <a:srgbClr val="996600"/>
                </a:solidFill>
                <a:latin typeface="Tahoma"/>
                <a:ea typeface="Tahoma"/>
              </a:rPr>
              <a:t>Δ</a:t>
            </a:r>
            <a:r>
              <a:rPr b="1" lang="ru-RU" sz="2600" spc="-1" strike="noStrike" baseline="-25000">
                <a:solidFill>
                  <a:srgbClr val="996600"/>
                </a:solidFill>
                <a:latin typeface="Tahoma"/>
                <a:ea typeface="Tahoma"/>
              </a:rPr>
              <a:t>Д</a:t>
            </a:r>
            <a:r>
              <a:rPr b="1" lang="ru-RU" sz="2600" spc="-1" strike="noStrike" baseline="-25000">
                <a:solidFill>
                  <a:srgbClr val="6600cc"/>
                </a:solidFill>
                <a:latin typeface="Tahoma"/>
                <a:ea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где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2600" spc="-1" strike="noStrike">
                <a:solidFill>
                  <a:srgbClr val="996600"/>
                </a:solidFill>
                <a:latin typeface="Tahoma"/>
                <a:ea typeface="Tahoma"/>
              </a:rPr>
              <a:t>R</a:t>
            </a:r>
            <a:r>
              <a:rPr b="1" lang="en-US" sz="2600" spc="-1" strike="noStrike" baseline="-25000">
                <a:solidFill>
                  <a:srgbClr val="996600"/>
                </a:solidFill>
                <a:latin typeface="Tahoma"/>
                <a:ea typeface="Tahoma"/>
              </a:rPr>
              <a:t>Z1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lang="en-US" sz="2600" spc="-1" strike="noStrike">
                <a:solidFill>
                  <a:srgbClr val="996600"/>
                </a:solidFill>
                <a:latin typeface="Tahoma"/>
                <a:ea typeface="Tahoma"/>
              </a:rPr>
              <a:t>R</a:t>
            </a:r>
            <a:r>
              <a:rPr b="1" lang="en-US" sz="2600" spc="-1" strike="noStrike" baseline="-25000">
                <a:solidFill>
                  <a:srgbClr val="996600"/>
                </a:solidFill>
                <a:latin typeface="Tahoma"/>
                <a:ea typeface="Tahoma"/>
              </a:rPr>
              <a:t>Z2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высота неровностей вкладыша подшипника и цапфы вала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996600"/>
                </a:solidFill>
                <a:latin typeface="Tahoma"/>
                <a:ea typeface="Tahoma"/>
              </a:rPr>
              <a:t>Δ</a:t>
            </a:r>
            <a:r>
              <a:rPr b="1" lang="ru-RU" sz="2600" spc="-1" strike="noStrike" baseline="-25000">
                <a:solidFill>
                  <a:srgbClr val="996600"/>
                </a:solidFill>
                <a:latin typeface="Tahoma"/>
                <a:ea typeface="Tahoma"/>
              </a:rPr>
              <a:t>ф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lang="el-GR" sz="2600" spc="-1" strike="noStrike">
                <a:solidFill>
                  <a:srgbClr val="996600"/>
                </a:solidFill>
                <a:latin typeface="Tahoma"/>
                <a:ea typeface="Tahoma"/>
              </a:rPr>
              <a:t>Δ</a:t>
            </a:r>
            <a:r>
              <a:rPr b="1" lang="ru-RU" sz="2600" spc="-1" strike="noStrike" baseline="-25000">
                <a:solidFill>
                  <a:srgbClr val="996600"/>
                </a:solidFill>
                <a:latin typeface="Tahoma"/>
                <a:ea typeface="Tahoma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 – поправки, учитывающие влияние погрешностей формы и расположения цапфы и вкладыша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996600"/>
                </a:solidFill>
                <a:latin typeface="Tahoma"/>
                <a:ea typeface="Tahoma"/>
              </a:rPr>
              <a:t>Δ</a:t>
            </a:r>
            <a:r>
              <a:rPr b="1" lang="ru-RU" sz="2600" spc="-1" strike="noStrike" baseline="-25000">
                <a:solidFill>
                  <a:srgbClr val="996600"/>
                </a:solidFill>
                <a:latin typeface="Tahoma"/>
                <a:ea typeface="Tahoma"/>
              </a:rPr>
              <a:t>изг</a:t>
            </a:r>
            <a:r>
              <a:rPr b="0" lang="ru-RU" sz="2600" spc="-1" strike="noStrike">
                <a:solidFill>
                  <a:srgbClr val="996600"/>
                </a:solidFill>
                <a:latin typeface="Tahoma"/>
                <a:ea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– поправка, учитывающая влияние изгиба вала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996600"/>
                </a:solidFill>
                <a:latin typeface="Tahoma"/>
                <a:ea typeface="Tahoma"/>
              </a:rPr>
              <a:t>Δ</a:t>
            </a:r>
            <a:r>
              <a:rPr b="1" lang="ru-RU" sz="2600" spc="-1" strike="noStrike" baseline="-25000">
                <a:solidFill>
                  <a:srgbClr val="996600"/>
                </a:solidFill>
                <a:latin typeface="Tahoma"/>
                <a:ea typeface="Tahoma"/>
              </a:rPr>
              <a:t>Д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 – добавка, учитывающая разного рода отклонения от принятого режима работы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00"/>
                </a:solidFill>
                <a:latin typeface="Tahoma"/>
              </a:rPr>
              <a:t>Расчёт и выбор посадки с зазором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Для упрощённого расчё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ahoma"/>
              </a:rPr>
              <a:t>[h</a:t>
            </a:r>
            <a:r>
              <a:rPr b="1" lang="en-US" sz="2800" spc="-1" strike="noStrike" baseline="-25000">
                <a:solidFill>
                  <a:srgbClr val="996600"/>
                </a:solidFill>
                <a:latin typeface="Tahoma"/>
              </a:rPr>
              <a:t>min</a:t>
            </a:r>
            <a:r>
              <a:rPr b="1" lang="en-US" sz="2800" spc="-1" strike="noStrike">
                <a:solidFill>
                  <a:srgbClr val="996600"/>
                </a:solidFill>
                <a:latin typeface="Tahoma"/>
              </a:rPr>
              <a:t>]</a:t>
            </a:r>
            <a:r>
              <a:rPr b="1" lang="en-US" sz="2800" spc="-1" strike="noStrike">
                <a:solidFill>
                  <a:srgbClr val="996600"/>
                </a:solidFill>
                <a:latin typeface="Tahoma"/>
                <a:ea typeface="Tahoma"/>
              </a:rPr>
              <a:t>≥k(R</a:t>
            </a:r>
            <a:r>
              <a:rPr b="1" lang="en-US" sz="2800" spc="-1" strike="noStrike" baseline="-25000">
                <a:solidFill>
                  <a:srgbClr val="996600"/>
                </a:solidFill>
                <a:latin typeface="Tahoma"/>
                <a:ea typeface="Tahoma"/>
              </a:rPr>
              <a:t>Z1</a:t>
            </a:r>
            <a:r>
              <a:rPr b="1" lang="en-US" sz="2800" spc="-1" strike="noStrike">
                <a:solidFill>
                  <a:srgbClr val="996600"/>
                </a:solidFill>
                <a:latin typeface="Tahoma"/>
                <a:ea typeface="Tahoma"/>
              </a:rPr>
              <a:t>+R</a:t>
            </a:r>
            <a:r>
              <a:rPr b="1" lang="en-US" sz="2800" spc="-1" strike="noStrike" baseline="-25000">
                <a:solidFill>
                  <a:srgbClr val="996600"/>
                </a:solidFill>
                <a:latin typeface="Tahoma"/>
                <a:ea typeface="Tahoma"/>
              </a:rPr>
              <a:t>Z2</a:t>
            </a:r>
            <a:r>
              <a:rPr b="1" lang="en-US" sz="2800" spc="-1" strike="noStrike">
                <a:solidFill>
                  <a:srgbClr val="996600"/>
                </a:solidFill>
                <a:latin typeface="Tahoma"/>
                <a:ea typeface="Tahoma"/>
              </a:rPr>
              <a:t>+</a:t>
            </a:r>
            <a:r>
              <a:rPr b="1" lang="el-GR" sz="2800" spc="-1" strike="noStrike">
                <a:solidFill>
                  <a:srgbClr val="996600"/>
                </a:solidFill>
                <a:latin typeface="Tahoma"/>
                <a:ea typeface="Tahoma"/>
              </a:rPr>
              <a:t>Δ</a:t>
            </a:r>
            <a:r>
              <a:rPr b="1" lang="ru-RU" sz="2800" spc="-1" strike="noStrike" baseline="-25000">
                <a:solidFill>
                  <a:srgbClr val="996600"/>
                </a:solidFill>
                <a:latin typeface="Tahoma"/>
                <a:ea typeface="Tahoma"/>
              </a:rPr>
              <a:t>Д</a:t>
            </a:r>
            <a:r>
              <a:rPr b="1" lang="en-US" sz="2800" spc="-1" strike="noStrike">
                <a:solidFill>
                  <a:srgbClr val="996600"/>
                </a:solidFill>
                <a:latin typeface="Tahoma"/>
                <a:ea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где </a:t>
            </a:r>
            <a:r>
              <a:rPr b="1" lang="en-US" sz="2800" spc="-1" strike="noStrike">
                <a:solidFill>
                  <a:srgbClr val="996600"/>
                </a:solidFill>
                <a:latin typeface="Tahoma"/>
                <a:ea typeface="Tahoma"/>
              </a:rPr>
              <a:t>k</a:t>
            </a:r>
            <a:r>
              <a:rPr b="0" lang="ru-RU" sz="2800" spc="-1" strike="noStrike">
                <a:solidFill>
                  <a:srgbClr val="6600cc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– коэффициент запаса надёжности по толщине масляного сло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2800" spc="-1" strike="noStrike">
                <a:solidFill>
                  <a:srgbClr val="996600"/>
                </a:solidFill>
                <a:latin typeface="Tahoma"/>
                <a:ea typeface="Tahoma"/>
              </a:rPr>
              <a:t>k≥</a:t>
            </a:r>
            <a:r>
              <a:rPr b="1" lang="ru-RU" sz="2800" spc="-1" strike="noStrike">
                <a:solidFill>
                  <a:srgbClr val="996600"/>
                </a:solidFill>
                <a:latin typeface="Tahoma"/>
                <a:ea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00"/>
                </a:solidFill>
                <a:latin typeface="Tahoma"/>
              </a:rPr>
              <a:t>Расчёт и выбор посадки с зазором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00080" y="1295280"/>
            <a:ext cx="8143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Зависимость дл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среднего удельного давления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у гидродинамического подшипника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1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1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1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el-GR" sz="2600" spc="-1" strike="noStrike">
                <a:solidFill>
                  <a:srgbClr val="996600"/>
                </a:solidFill>
                <a:latin typeface="Tahoma"/>
              </a:rPr>
              <a:t>μ</a:t>
            </a:r>
            <a:r>
              <a:rPr b="1" lang="el-GR" sz="26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динамическая вязкость масла при рабочей температуре подшипника, Н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с/м</a:t>
            </a:r>
            <a:r>
              <a:rPr b="0" lang="ru-RU" sz="2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1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996600"/>
                </a:solidFill>
                <a:latin typeface="Tahoma"/>
              </a:rPr>
              <a:t>ω</a:t>
            </a:r>
            <a:r>
              <a:rPr b="1" lang="el-GR" sz="26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угловая скорость цапфы, рад/с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1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00"/>
                </a:solidFill>
                <a:latin typeface="Tahoma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диаметральный зазор, м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1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00"/>
                </a:solidFill>
                <a:latin typeface="Tahoma"/>
              </a:rPr>
              <a:t>D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оминальный диаметр сопряжения, м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1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6600"/>
                </a:solidFill>
                <a:latin typeface="Tahoma"/>
              </a:rPr>
              <a:t>С</a:t>
            </a:r>
            <a:r>
              <a:rPr b="1" lang="en-US" sz="2600" spc="-1" strike="noStrike" baseline="-25000">
                <a:solidFill>
                  <a:srgbClr val="996600"/>
                </a:solidFill>
                <a:latin typeface="Tahoma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безразмерный коэффициент нагруженности подшипника, зависящий от </a:t>
            </a:r>
            <a:r>
              <a:rPr b="1" lang="en-US" sz="2600" spc="-1" strike="noStrike">
                <a:solidFill>
                  <a:srgbClr val="996600"/>
                </a:solidFill>
                <a:latin typeface="Tahoma"/>
              </a:rPr>
              <a:t>l/D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el-GR" sz="2600" spc="-1" strike="noStrike">
                <a:solidFill>
                  <a:srgbClr val="996600"/>
                </a:solidFill>
                <a:latin typeface="Tahoma"/>
              </a:rPr>
              <a:t>χ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1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00"/>
                </a:solidFill>
                <a:latin typeface="Tahoma"/>
              </a:rPr>
              <a:t>l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длина подшипника, м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1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996600"/>
                </a:solidFill>
                <a:latin typeface="Tahoma"/>
              </a:rPr>
              <a:t>χ</a:t>
            </a:r>
            <a:r>
              <a:rPr b="1" lang="ru-RU" sz="26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– относительный эксцентриситет, который связан зависимостью с </a:t>
            </a:r>
            <a:r>
              <a:rPr b="1" lang="en-US" sz="2600" spc="-1" strike="noStrike">
                <a:solidFill>
                  <a:srgbClr val="996600"/>
                </a:solidFill>
                <a:latin typeface="Tahoma"/>
              </a:rPr>
              <a:t>h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1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00"/>
                </a:solidFill>
                <a:latin typeface="Tahoma"/>
              </a:rPr>
              <a:t>h</a:t>
            </a:r>
            <a:r>
              <a:rPr b="1" lang="ru-RU" sz="2600" spc="-1" strike="noStrike">
                <a:solidFill>
                  <a:srgbClr val="996600"/>
                </a:solidFill>
                <a:latin typeface="Tahoma"/>
              </a:rPr>
              <a:t>=0,5</a:t>
            </a:r>
            <a:r>
              <a:rPr b="1" lang="en-US" sz="2600" spc="-1" strike="noStrike">
                <a:solidFill>
                  <a:srgbClr val="996600"/>
                </a:solidFill>
                <a:latin typeface="Tahoma"/>
              </a:rPr>
              <a:t>S-e=0.5S(1- </a:t>
            </a:r>
            <a:r>
              <a:rPr b="1" lang="el-GR" sz="2600" spc="-1" strike="noStrike">
                <a:solidFill>
                  <a:srgbClr val="996600"/>
                </a:solidFill>
                <a:latin typeface="Tahoma"/>
              </a:rPr>
              <a:t>χ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2"/>
              <p:cNvSpPr txBox="1"/>
              <p:nvPr/>
            </p:nvSpPr>
            <p:spPr>
              <a:xfrm>
                <a:off x="4095720" y="1920960"/>
                <a:ext cx="19051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μω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8"/>
          <p:cNvSpPr/>
          <p:nvPr/>
        </p:nvSpPr>
        <p:spPr>
          <a:xfrm>
            <a:off x="1000080" y="1447920"/>
            <a:ext cx="81439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начение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диаметрального зазор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00"/>
                </a:solidFill>
                <a:latin typeface="Tahoma"/>
              </a:rPr>
              <a:t>Расчёт и выбор посадки с зазором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2"/>
              <p:cNvSpPr txBox="1"/>
              <p:nvPr/>
            </p:nvSpPr>
            <p:spPr>
              <a:xfrm>
                <a:off x="2744640" y="1981080"/>
                <a:ext cx="3273480" cy="14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D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μω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3"/>
              <p:cNvSpPr txBox="1"/>
              <p:nvPr/>
            </p:nvSpPr>
            <p:spPr>
              <a:xfrm>
                <a:off x="2057400" y="4799160"/>
                <a:ext cx="419112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μω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3" name="AutoShape 9"/>
          <p:cNvSpPr/>
          <p:nvPr/>
        </p:nvSpPr>
        <p:spPr>
          <a:xfrm rot="5400000">
            <a:off x="3848040" y="3848040"/>
            <a:ext cx="914400" cy="533520"/>
          </a:xfrm>
          <a:prstGeom prst="pi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00"/>
                </a:solidFill>
                <a:latin typeface="Tahoma"/>
              </a:rPr>
              <a:t>Значения                           в зависимости</a:t>
            </a:r>
            <a:br>
              <a:rPr sz="3600"/>
            </a:br>
            <a:r>
              <a:rPr b="0" i="1" lang="ru-RU" sz="3600" spc="-1" strike="noStrike">
                <a:solidFill>
                  <a:srgbClr val="996600"/>
                </a:solidFill>
                <a:latin typeface="Tahoma"/>
              </a:rPr>
              <a:t>от </a:t>
            </a:r>
            <a:r>
              <a:rPr b="1" i="1" lang="el-GR" sz="3600" spc="-1" strike="noStrike">
                <a:solidFill>
                  <a:srgbClr val="996600"/>
                </a:solidFill>
                <a:latin typeface="Tahoma"/>
              </a:rPr>
              <a:t>χ</a:t>
            </a:r>
            <a:r>
              <a:rPr b="0" i="1" lang="el-GR" sz="36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996600"/>
                </a:solidFill>
                <a:latin typeface="Tahoma"/>
              </a:rPr>
              <a:t>и </a:t>
            </a:r>
            <a:r>
              <a:rPr b="1" i="1" lang="en-US" sz="3600" spc="-1" strike="noStrike">
                <a:solidFill>
                  <a:srgbClr val="996600"/>
                </a:solidFill>
                <a:latin typeface="Tahoma"/>
              </a:rPr>
              <a:t>l/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2"/>
              <p:cNvSpPr txBox="1"/>
              <p:nvPr/>
            </p:nvSpPr>
            <p:spPr>
              <a:xfrm>
                <a:off x="2604960" y="0"/>
                <a:ext cx="28958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χ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0" y="1612800"/>
            <a:ext cx="914400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00"/>
                </a:solidFill>
                <a:latin typeface="Tahoma"/>
              </a:rPr>
              <a:t>Расчёт и выбор посадки с зазором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000080" y="2022120"/>
            <a:ext cx="8143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ahoma"/>
              </a:rPr>
              <a:t>Пример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обрать посадку для подшипника скольжения, работающего в условиях жидкостного трения при следующих данных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=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75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=0,075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=1,47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/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ω=157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д/с, масло с динамической вязкостью пр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=50 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°C</a:t>
            </a:r>
            <a:r>
              <a:rPr b="0" lang="ru-RU" sz="2800" spc="-1" strike="noStrike">
                <a:solidFill>
                  <a:srgbClr val="000000"/>
                </a:solidFill>
                <a:latin typeface="Albertus Medium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Albertus Medium"/>
              </a:rPr>
              <a:t>μ=19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/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Подшипник половинный (имеются масляные канавки в плоскости разъёма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9:06:08Z</dcterms:created>
  <dc:creator>XTreme</dc:creator>
  <dc:description/>
  <dc:language>en-US</dc:language>
  <cp:lastModifiedBy>1</cp:lastModifiedBy>
  <dcterms:modified xsi:type="dcterms:W3CDTF">2009-04-07T13:01:18Z</dcterms:modified>
  <cp:revision>25</cp:revision>
  <dc:subject/>
  <dc:title>1 Расчёт и выбор посадки с зазором</dc:title>
</cp:coreProperties>
</file>