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18D0-082C-42E3-9C1B-74F9CF66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4B62-284D-4E78-A26B-7F3BAAF7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416-139D-4BC4-86B5-0D2E965B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92CB-BC20-4D24-9958-30423B3C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9DCC-871B-4262-997B-36AE43C1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3989-4904-4FEA-9726-2C635FCF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F97D-1251-42C2-8E1F-98A57F54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8660-0B2C-499F-A04C-C8E74E3E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9E98-64CE-4D4D-BE54-7CAF21F7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98E1-3AD6-4F05-91B2-7D1E6E19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C4C0-DF98-48B5-BFB9-E70426D0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1E15-FD62-46C8-B378-AA1ED0DF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1AFE-4CB1-457D-A68A-55B8B229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32EC-7EF8-46B7-AA40-9EDF5482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4E23-17DB-477B-B319-1F7FB4F1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758B-F8A9-4B2E-924D-B14BE150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A088-F61C-4E25-8296-26343107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7CD8B-10BF-4973-B756-02E07AC6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226F3-6BC4-43A2-927B-193A53E3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EDBC7-4F28-424F-981A-15C69647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C5372-E931-4870-8DC4-DF1CF132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4D3F8-44C8-4A1F-B702-15303B6A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7E66-6D42-42F1-A383-A44A8BF4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7BD0B-C8B8-4E20-9E48-54B375A3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52D91-D36B-46EA-AFDC-2474791F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EFE42-F4AF-4F87-BBAE-02657726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D3671-66F3-410F-B437-53B37BED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47F81-D30A-43BF-B4B2-A02F90BA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CA9AC-F7B3-4AE3-B421-AAE5CA66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5A636-25D4-4D87-9CEC-96A71720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9CF2-DE80-4B19-9015-6B32F52B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060A-3A44-4326-92B8-C20AF2C7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DE8E-1F14-48D4-9E6C-C08D04D6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6BA1-90AE-4E1A-A32C-EDE52644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823D-AA2A-4528-91B5-C19BDE82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E87-A567-429D-ACE5-75D619C5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0EB2-9845-421C-8045-53047EF5245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91A5-B7BC-4CED-8C9C-8A8165C97D8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2FD0-F0C1-4831-A39A-33BD3A796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Tahoma"/>
              </a:rPr>
              <a:t>1 Графическое изображение сопрягаемых детал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752560"/>
            <a:ext cx="79250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кольку изображение посадки в масштабе в большинстве случаев не представляется возможным (например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  ) приняты следующие прави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019920" y="3581280"/>
                <a:ext cx="8445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f>
                      <m:num>
                        <m:sSup>
                          <m:e/>
                          <m:sup>
                            <m:r>
                              <m:t xml:space="preserve">+</m:t>
                            </m:r>
                            <m:r>
                              <m:t xml:space="preserve">0,3</m:t>
                            </m:r>
                          </m:sup>
                        </m:sSup>
                      </m:num>
                      <m:den>
                        <m:sSubSup>
                          <m:e/>
                          <m:sub>
                            <m:r>
                              <m:t xml:space="preserve">−</m:t>
                            </m:r>
                            <m:r>
                              <m:t xml:space="preserve">0,5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0,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Обозначение допусков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на чертежа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37720" y="22096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же количество значащих цифр у верхнего и нижнего отклонений разное, то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3245" t="57939" r="54874" b="34593"/>
          <a:stretch/>
        </p:blipFill>
        <p:spPr>
          <a:xfrm>
            <a:off x="2895480" y="3124080"/>
            <a:ext cx="3733920" cy="7527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838080" y="3809880"/>
            <a:ext cx="8001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На сборочных чертежа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едельные отклонения размеров деталей указывают в виде дроби: в числителе – отклонения отверстия, в знаменателе – ва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715000" y="5213520"/>
            <a:ext cx="2425320" cy="1644480"/>
            <a:chOff x="5715000" y="5213520"/>
            <a:chExt cx="2425320" cy="1644480"/>
          </a:xfrm>
        </p:grpSpPr>
        <p:pic>
          <p:nvPicPr>
            <p:cNvPr id="207" name="" descr=""/>
            <p:cNvPicPr/>
            <p:nvPr/>
          </p:nvPicPr>
          <p:blipFill>
            <a:blip r:embed="rId2"/>
            <a:srcRect l="69532" t="10346" r="17575" b="84003"/>
            <a:stretch/>
          </p:blipFill>
          <p:spPr>
            <a:xfrm>
              <a:off x="6562800" y="5956920"/>
              <a:ext cx="810720" cy="40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"/>
            <p:cNvGrpSpPr/>
            <p:nvPr/>
          </p:nvGrpSpPr>
          <p:grpSpPr>
            <a:xfrm>
              <a:off x="5715000" y="5213520"/>
              <a:ext cx="2425320" cy="1644480"/>
              <a:chOff x="5715000" y="5213520"/>
              <a:chExt cx="2425320" cy="1644480"/>
            </a:xfrm>
          </p:grpSpPr>
          <p:sp>
            <p:nvSpPr>
              <p:cNvPr id="209" name=""/>
              <p:cNvSpPr/>
              <p:nvPr/>
            </p:nvSpPr>
            <p:spPr>
              <a:xfrm>
                <a:off x="5721120" y="6681960"/>
                <a:ext cx="241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7550280" y="6578640"/>
                <a:ext cx="12672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6184800" y="6571800"/>
                <a:ext cx="133200" cy="10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184800" y="6578640"/>
                <a:ext cx="147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715000" y="5850360"/>
                <a:ext cx="241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5715000" y="5848560"/>
                <a:ext cx="475920" cy="834120"/>
                <a:chOff x="5715000" y="5848560"/>
                <a:chExt cx="475920" cy="8341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184800" y="5848560"/>
                  <a:ext cx="0" cy="83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715000" y="5848560"/>
                  <a:ext cx="142560" cy="831600"/>
                </a:xfrm>
                <a:custGeom>
                  <a:avLst/>
                  <a:gdLst/>
                  <a:ahLst/>
                  <a:rect l="l" t="t" r="r" b="b"/>
                  <a:pathLst>
                    <a:path w="225" h="1280">
                      <a:moveTo>
                        <a:pt x="0" y="0"/>
                      </a:moveTo>
                      <a:cubicBezTo>
                        <a:pt x="52" y="54"/>
                        <a:pt x="105" y="108"/>
                        <a:pt x="140" y="150"/>
                      </a:cubicBezTo>
                      <a:cubicBezTo>
                        <a:pt x="175" y="192"/>
                        <a:pt x="198" y="222"/>
                        <a:pt x="210" y="250"/>
                      </a:cubicBezTo>
                      <a:cubicBezTo>
                        <a:pt x="222" y="278"/>
                        <a:pt x="225" y="297"/>
                        <a:pt x="210" y="320"/>
                      </a:cubicBezTo>
                      <a:cubicBezTo>
                        <a:pt x="195" y="343"/>
                        <a:pt x="138" y="363"/>
                        <a:pt x="120" y="390"/>
                      </a:cubicBezTo>
                      <a:cubicBezTo>
                        <a:pt x="102" y="417"/>
                        <a:pt x="108" y="445"/>
                        <a:pt x="100" y="480"/>
                      </a:cubicBezTo>
                      <a:cubicBezTo>
                        <a:pt x="92" y="515"/>
                        <a:pt x="85" y="552"/>
                        <a:pt x="70" y="600"/>
                      </a:cubicBezTo>
                      <a:cubicBezTo>
                        <a:pt x="55" y="648"/>
                        <a:pt x="15" y="723"/>
                        <a:pt x="10" y="770"/>
                      </a:cubicBezTo>
                      <a:cubicBezTo>
                        <a:pt x="5" y="817"/>
                        <a:pt x="30" y="845"/>
                        <a:pt x="40" y="880"/>
                      </a:cubicBezTo>
                      <a:cubicBezTo>
                        <a:pt x="50" y="915"/>
                        <a:pt x="68" y="953"/>
                        <a:pt x="70" y="980"/>
                      </a:cubicBezTo>
                      <a:cubicBezTo>
                        <a:pt x="72" y="1007"/>
                        <a:pt x="55" y="1002"/>
                        <a:pt x="50" y="1040"/>
                      </a:cubicBezTo>
                      <a:cubicBezTo>
                        <a:pt x="45" y="1078"/>
                        <a:pt x="45" y="1170"/>
                        <a:pt x="40" y="1210"/>
                      </a:cubicBezTo>
                      <a:cubicBezTo>
                        <a:pt x="35" y="1250"/>
                        <a:pt x="25" y="1263"/>
                        <a:pt x="20" y="128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810040" y="5950080"/>
                  <a:ext cx="374400" cy="203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867280" y="5848560"/>
                  <a:ext cx="323640" cy="17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810040" y="6083280"/>
                  <a:ext cx="374400" cy="203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771880" y="6191280"/>
                  <a:ext cx="41256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095880" y="5854680"/>
                  <a:ext cx="95040" cy="50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740200" y="6292800"/>
                  <a:ext cx="444240" cy="25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740200" y="6292800"/>
                  <a:ext cx="444240" cy="25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40200" y="6426000"/>
                  <a:ext cx="444240" cy="25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740200" y="6572160"/>
                  <a:ext cx="222120" cy="10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7664400" y="5848200"/>
                <a:ext cx="475920" cy="834120"/>
                <a:chOff x="7664400" y="5848200"/>
                <a:chExt cx="475920" cy="834120"/>
              </a:xfrm>
            </p:grpSpPr>
            <p:sp>
              <p:nvSpPr>
                <p:cNvPr id="227" name=""/>
                <p:cNvSpPr/>
                <p:nvPr/>
              </p:nvSpPr>
              <p:spPr>
                <a:xfrm flipV="1">
                  <a:off x="7670880" y="5848200"/>
                  <a:ext cx="0" cy="83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 flipV="1">
                  <a:off x="7997760" y="5850720"/>
                  <a:ext cx="142560" cy="831600"/>
                </a:xfrm>
                <a:custGeom>
                  <a:avLst/>
                  <a:gdLst/>
                  <a:ahLst/>
                  <a:rect l="l" t="t" r="r" b="b"/>
                  <a:pathLst>
                    <a:path w="225" h="1280">
                      <a:moveTo>
                        <a:pt x="0" y="0"/>
                      </a:moveTo>
                      <a:cubicBezTo>
                        <a:pt x="52" y="54"/>
                        <a:pt x="105" y="108"/>
                        <a:pt x="140" y="150"/>
                      </a:cubicBezTo>
                      <a:cubicBezTo>
                        <a:pt x="175" y="192"/>
                        <a:pt x="198" y="222"/>
                        <a:pt x="210" y="250"/>
                      </a:cubicBezTo>
                      <a:cubicBezTo>
                        <a:pt x="222" y="278"/>
                        <a:pt x="225" y="297"/>
                        <a:pt x="210" y="320"/>
                      </a:cubicBezTo>
                      <a:cubicBezTo>
                        <a:pt x="195" y="343"/>
                        <a:pt x="138" y="363"/>
                        <a:pt x="120" y="390"/>
                      </a:cubicBezTo>
                      <a:cubicBezTo>
                        <a:pt x="102" y="417"/>
                        <a:pt x="108" y="445"/>
                        <a:pt x="100" y="480"/>
                      </a:cubicBezTo>
                      <a:cubicBezTo>
                        <a:pt x="92" y="515"/>
                        <a:pt x="85" y="552"/>
                        <a:pt x="70" y="600"/>
                      </a:cubicBezTo>
                      <a:cubicBezTo>
                        <a:pt x="55" y="648"/>
                        <a:pt x="15" y="723"/>
                        <a:pt x="10" y="770"/>
                      </a:cubicBezTo>
                      <a:cubicBezTo>
                        <a:pt x="5" y="817"/>
                        <a:pt x="30" y="845"/>
                        <a:pt x="40" y="880"/>
                      </a:cubicBezTo>
                      <a:cubicBezTo>
                        <a:pt x="50" y="915"/>
                        <a:pt x="68" y="953"/>
                        <a:pt x="70" y="980"/>
                      </a:cubicBezTo>
                      <a:cubicBezTo>
                        <a:pt x="72" y="1007"/>
                        <a:pt x="55" y="1002"/>
                        <a:pt x="50" y="1040"/>
                      </a:cubicBezTo>
                      <a:cubicBezTo>
                        <a:pt x="45" y="1078"/>
                        <a:pt x="45" y="1170"/>
                        <a:pt x="40" y="1210"/>
                      </a:cubicBezTo>
                      <a:cubicBezTo>
                        <a:pt x="35" y="1250"/>
                        <a:pt x="25" y="1263"/>
                        <a:pt x="20" y="128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>
                  <a:off x="7671240" y="6377760"/>
                  <a:ext cx="374040" cy="203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 flipV="1">
                  <a:off x="7664400" y="6504840"/>
                  <a:ext cx="323640" cy="17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H="1" flipV="1">
                  <a:off x="7671240" y="6244560"/>
                  <a:ext cx="374040" cy="203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 flipV="1">
                  <a:off x="7671240" y="6111360"/>
                  <a:ext cx="412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flipV="1">
                  <a:off x="7664760" y="6625800"/>
                  <a:ext cx="95040" cy="50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flipV="1">
                  <a:off x="7671240" y="5984280"/>
                  <a:ext cx="443880" cy="25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 flipV="1">
                  <a:off x="7671240" y="5984280"/>
                  <a:ext cx="443880" cy="25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flipV="1">
                  <a:off x="7671240" y="5851080"/>
                  <a:ext cx="443880" cy="25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flipV="1">
                  <a:off x="7893360" y="5851080"/>
                  <a:ext cx="221760" cy="10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 flipV="1">
                <a:off x="5975280" y="5613480"/>
                <a:ext cx="0" cy="23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7880400" y="5607000"/>
                <a:ext cx="0" cy="23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975280" y="5607000"/>
                <a:ext cx="1911600" cy="86760"/>
              </a:xfrm>
              <a:custGeom>
                <a:avLst/>
                <a:gdLst/>
                <a:ahLst/>
                <a:rect l="l" t="t" r="r" b="b"/>
                <a:pathLst>
                  <a:path w="2950" h="137">
                    <a:moveTo>
                      <a:pt x="0" y="10"/>
                    </a:moveTo>
                    <a:cubicBezTo>
                      <a:pt x="62" y="41"/>
                      <a:pt x="125" y="72"/>
                      <a:pt x="190" y="80"/>
                    </a:cubicBezTo>
                    <a:cubicBezTo>
                      <a:pt x="255" y="88"/>
                      <a:pt x="333" y="68"/>
                      <a:pt x="390" y="60"/>
                    </a:cubicBezTo>
                    <a:cubicBezTo>
                      <a:pt x="447" y="52"/>
                      <a:pt x="485" y="32"/>
                      <a:pt x="530" y="30"/>
                    </a:cubicBezTo>
                    <a:cubicBezTo>
                      <a:pt x="575" y="28"/>
                      <a:pt x="603" y="50"/>
                      <a:pt x="660" y="50"/>
                    </a:cubicBezTo>
                    <a:cubicBezTo>
                      <a:pt x="717" y="50"/>
                      <a:pt x="780" y="38"/>
                      <a:pt x="870" y="30"/>
                    </a:cubicBezTo>
                    <a:cubicBezTo>
                      <a:pt x="960" y="22"/>
                      <a:pt x="1118" y="0"/>
                      <a:pt x="1200" y="0"/>
                    </a:cubicBezTo>
                    <a:cubicBezTo>
                      <a:pt x="1282" y="0"/>
                      <a:pt x="1312" y="15"/>
                      <a:pt x="1360" y="30"/>
                    </a:cubicBezTo>
                    <a:cubicBezTo>
                      <a:pt x="1408" y="45"/>
                      <a:pt x="1437" y="80"/>
                      <a:pt x="1490" y="90"/>
                    </a:cubicBezTo>
                    <a:cubicBezTo>
                      <a:pt x="1543" y="100"/>
                      <a:pt x="1627" y="92"/>
                      <a:pt x="1680" y="90"/>
                    </a:cubicBezTo>
                    <a:cubicBezTo>
                      <a:pt x="1733" y="88"/>
                      <a:pt x="1758" y="77"/>
                      <a:pt x="1810" y="80"/>
                    </a:cubicBezTo>
                    <a:cubicBezTo>
                      <a:pt x="1862" y="83"/>
                      <a:pt x="1947" y="102"/>
                      <a:pt x="1990" y="110"/>
                    </a:cubicBezTo>
                    <a:cubicBezTo>
                      <a:pt x="2033" y="118"/>
                      <a:pt x="2007" y="137"/>
                      <a:pt x="2070" y="130"/>
                    </a:cubicBezTo>
                    <a:cubicBezTo>
                      <a:pt x="2133" y="123"/>
                      <a:pt x="2303" y="83"/>
                      <a:pt x="2370" y="70"/>
                    </a:cubicBezTo>
                    <a:cubicBezTo>
                      <a:pt x="2437" y="57"/>
                      <a:pt x="2442" y="52"/>
                      <a:pt x="2470" y="50"/>
                    </a:cubicBezTo>
                    <a:cubicBezTo>
                      <a:pt x="2498" y="48"/>
                      <a:pt x="2500" y="67"/>
                      <a:pt x="2540" y="60"/>
                    </a:cubicBezTo>
                    <a:cubicBezTo>
                      <a:pt x="2580" y="53"/>
                      <a:pt x="2667" y="17"/>
                      <a:pt x="2710" y="10"/>
                    </a:cubicBezTo>
                    <a:cubicBezTo>
                      <a:pt x="2753" y="3"/>
                      <a:pt x="2760" y="22"/>
                      <a:pt x="2800" y="20"/>
                    </a:cubicBezTo>
                    <a:cubicBezTo>
                      <a:pt x="2840" y="18"/>
                      <a:pt x="2917" y="3"/>
                      <a:pt x="295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921360" y="5213520"/>
                <a:ext cx="0" cy="164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184800" y="633276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"/>
          <p:cNvGrpSpPr/>
          <p:nvPr/>
        </p:nvGrpSpPr>
        <p:grpSpPr>
          <a:xfrm>
            <a:off x="1676520" y="5213520"/>
            <a:ext cx="2425320" cy="1644480"/>
            <a:chOff x="1676520" y="5213520"/>
            <a:chExt cx="2425320" cy="1644480"/>
          </a:xfrm>
        </p:grpSpPr>
        <p:pic>
          <p:nvPicPr>
            <p:cNvPr id="244" name="" descr=""/>
            <p:cNvPicPr/>
            <p:nvPr/>
          </p:nvPicPr>
          <p:blipFill>
            <a:blip r:embed="rId3"/>
            <a:srcRect l="74285" t="54251" r="13377" b="40058"/>
            <a:stretch/>
          </p:blipFill>
          <p:spPr>
            <a:xfrm>
              <a:off x="2502000" y="5929200"/>
              <a:ext cx="822960" cy="42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5" name=""/>
            <p:cNvGrpSpPr/>
            <p:nvPr/>
          </p:nvGrpSpPr>
          <p:grpSpPr>
            <a:xfrm>
              <a:off x="1676520" y="5213520"/>
              <a:ext cx="2425320" cy="1644480"/>
              <a:chOff x="1676520" y="5213520"/>
              <a:chExt cx="2425320" cy="1644480"/>
            </a:xfrm>
          </p:grpSpPr>
          <p:sp>
            <p:nvSpPr>
              <p:cNvPr id="246" name=""/>
              <p:cNvSpPr/>
              <p:nvPr/>
            </p:nvSpPr>
            <p:spPr>
              <a:xfrm>
                <a:off x="1682640" y="6681960"/>
                <a:ext cx="241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3511800" y="6578640"/>
                <a:ext cx="12672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flipV="1">
                <a:off x="2146320" y="6571800"/>
                <a:ext cx="133200" cy="10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146320" y="6578640"/>
                <a:ext cx="147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676520" y="5850360"/>
                <a:ext cx="241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1676520" y="5848560"/>
                <a:ext cx="475920" cy="834120"/>
                <a:chOff x="1676520" y="5848560"/>
                <a:chExt cx="475920" cy="83412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146320" y="5848560"/>
                  <a:ext cx="0" cy="83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676520" y="5848560"/>
                  <a:ext cx="142560" cy="831600"/>
                </a:xfrm>
                <a:custGeom>
                  <a:avLst/>
                  <a:gdLst/>
                  <a:ahLst/>
                  <a:rect l="l" t="t" r="r" b="b"/>
                  <a:pathLst>
                    <a:path w="225" h="1280">
                      <a:moveTo>
                        <a:pt x="0" y="0"/>
                      </a:moveTo>
                      <a:cubicBezTo>
                        <a:pt x="52" y="54"/>
                        <a:pt x="105" y="108"/>
                        <a:pt x="140" y="150"/>
                      </a:cubicBezTo>
                      <a:cubicBezTo>
                        <a:pt x="175" y="192"/>
                        <a:pt x="198" y="222"/>
                        <a:pt x="210" y="250"/>
                      </a:cubicBezTo>
                      <a:cubicBezTo>
                        <a:pt x="222" y="278"/>
                        <a:pt x="225" y="297"/>
                        <a:pt x="210" y="320"/>
                      </a:cubicBezTo>
                      <a:cubicBezTo>
                        <a:pt x="195" y="343"/>
                        <a:pt x="138" y="363"/>
                        <a:pt x="120" y="390"/>
                      </a:cubicBezTo>
                      <a:cubicBezTo>
                        <a:pt x="102" y="417"/>
                        <a:pt x="108" y="445"/>
                        <a:pt x="100" y="480"/>
                      </a:cubicBezTo>
                      <a:cubicBezTo>
                        <a:pt x="92" y="515"/>
                        <a:pt x="85" y="552"/>
                        <a:pt x="70" y="600"/>
                      </a:cubicBezTo>
                      <a:cubicBezTo>
                        <a:pt x="55" y="648"/>
                        <a:pt x="15" y="723"/>
                        <a:pt x="10" y="770"/>
                      </a:cubicBezTo>
                      <a:cubicBezTo>
                        <a:pt x="5" y="817"/>
                        <a:pt x="30" y="845"/>
                        <a:pt x="40" y="880"/>
                      </a:cubicBezTo>
                      <a:cubicBezTo>
                        <a:pt x="50" y="915"/>
                        <a:pt x="68" y="953"/>
                        <a:pt x="70" y="980"/>
                      </a:cubicBezTo>
                      <a:cubicBezTo>
                        <a:pt x="72" y="1007"/>
                        <a:pt x="55" y="1002"/>
                        <a:pt x="50" y="1040"/>
                      </a:cubicBezTo>
                      <a:cubicBezTo>
                        <a:pt x="45" y="1078"/>
                        <a:pt x="45" y="1170"/>
                        <a:pt x="40" y="1210"/>
                      </a:cubicBezTo>
                      <a:cubicBezTo>
                        <a:pt x="35" y="1250"/>
                        <a:pt x="25" y="1263"/>
                        <a:pt x="20" y="128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771560" y="5950080"/>
                  <a:ext cx="374400" cy="203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828800" y="5848560"/>
                  <a:ext cx="323640" cy="17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771560" y="6083280"/>
                  <a:ext cx="374400" cy="203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733400" y="6191280"/>
                  <a:ext cx="41256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057400" y="5854680"/>
                  <a:ext cx="95040" cy="50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701720" y="6292800"/>
                  <a:ext cx="444240" cy="25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701720" y="6292800"/>
                  <a:ext cx="444240" cy="25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701720" y="6426000"/>
                  <a:ext cx="444240" cy="25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701720" y="6572160"/>
                  <a:ext cx="222120" cy="10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3625920" y="5848200"/>
                <a:ext cx="475920" cy="834120"/>
                <a:chOff x="3625920" y="5848200"/>
                <a:chExt cx="475920" cy="83412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3632400" y="5848200"/>
                  <a:ext cx="0" cy="83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3959280" y="5850720"/>
                  <a:ext cx="142560" cy="831600"/>
                </a:xfrm>
                <a:custGeom>
                  <a:avLst/>
                  <a:gdLst/>
                  <a:ahLst/>
                  <a:rect l="l" t="t" r="r" b="b"/>
                  <a:pathLst>
                    <a:path w="225" h="1280">
                      <a:moveTo>
                        <a:pt x="0" y="0"/>
                      </a:moveTo>
                      <a:cubicBezTo>
                        <a:pt x="52" y="54"/>
                        <a:pt x="105" y="108"/>
                        <a:pt x="140" y="150"/>
                      </a:cubicBezTo>
                      <a:cubicBezTo>
                        <a:pt x="175" y="192"/>
                        <a:pt x="198" y="222"/>
                        <a:pt x="210" y="250"/>
                      </a:cubicBezTo>
                      <a:cubicBezTo>
                        <a:pt x="222" y="278"/>
                        <a:pt x="225" y="297"/>
                        <a:pt x="210" y="320"/>
                      </a:cubicBezTo>
                      <a:cubicBezTo>
                        <a:pt x="195" y="343"/>
                        <a:pt x="138" y="363"/>
                        <a:pt x="120" y="390"/>
                      </a:cubicBezTo>
                      <a:cubicBezTo>
                        <a:pt x="102" y="417"/>
                        <a:pt x="108" y="445"/>
                        <a:pt x="100" y="480"/>
                      </a:cubicBezTo>
                      <a:cubicBezTo>
                        <a:pt x="92" y="515"/>
                        <a:pt x="85" y="552"/>
                        <a:pt x="70" y="600"/>
                      </a:cubicBezTo>
                      <a:cubicBezTo>
                        <a:pt x="55" y="648"/>
                        <a:pt x="15" y="723"/>
                        <a:pt x="10" y="770"/>
                      </a:cubicBezTo>
                      <a:cubicBezTo>
                        <a:pt x="5" y="817"/>
                        <a:pt x="30" y="845"/>
                        <a:pt x="40" y="880"/>
                      </a:cubicBezTo>
                      <a:cubicBezTo>
                        <a:pt x="50" y="915"/>
                        <a:pt x="68" y="953"/>
                        <a:pt x="70" y="980"/>
                      </a:cubicBezTo>
                      <a:cubicBezTo>
                        <a:pt x="72" y="1007"/>
                        <a:pt x="55" y="1002"/>
                        <a:pt x="50" y="1040"/>
                      </a:cubicBezTo>
                      <a:cubicBezTo>
                        <a:pt x="45" y="1078"/>
                        <a:pt x="45" y="1170"/>
                        <a:pt x="40" y="1210"/>
                      </a:cubicBezTo>
                      <a:cubicBezTo>
                        <a:pt x="35" y="1250"/>
                        <a:pt x="25" y="1263"/>
                        <a:pt x="20" y="128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 flipV="1">
                  <a:off x="3632760" y="6377760"/>
                  <a:ext cx="374040" cy="203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 flipV="1">
                  <a:off x="3625920" y="6504840"/>
                  <a:ext cx="323640" cy="17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 flipV="1">
                  <a:off x="3632760" y="6244560"/>
                  <a:ext cx="374040" cy="203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3632760" y="6111360"/>
                  <a:ext cx="412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 flipV="1">
                  <a:off x="3626280" y="6625800"/>
                  <a:ext cx="95040" cy="50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3632760" y="5984280"/>
                  <a:ext cx="443880" cy="25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flipV="1">
                  <a:off x="3632760" y="5984280"/>
                  <a:ext cx="443880" cy="25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flipV="1">
                  <a:off x="3632760" y="5851080"/>
                  <a:ext cx="443880" cy="25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 flipV="1">
                  <a:off x="3854880" y="5851080"/>
                  <a:ext cx="221760" cy="10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5" name=""/>
              <p:cNvSpPr/>
              <p:nvPr/>
            </p:nvSpPr>
            <p:spPr>
              <a:xfrm flipV="1">
                <a:off x="1936800" y="5613480"/>
                <a:ext cx="0" cy="23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3841920" y="5607000"/>
                <a:ext cx="0" cy="23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36800" y="5607000"/>
                <a:ext cx="1911600" cy="86760"/>
              </a:xfrm>
              <a:custGeom>
                <a:avLst/>
                <a:gdLst/>
                <a:ahLst/>
                <a:rect l="l" t="t" r="r" b="b"/>
                <a:pathLst>
                  <a:path w="2950" h="137">
                    <a:moveTo>
                      <a:pt x="0" y="10"/>
                    </a:moveTo>
                    <a:cubicBezTo>
                      <a:pt x="62" y="41"/>
                      <a:pt x="125" y="72"/>
                      <a:pt x="190" y="80"/>
                    </a:cubicBezTo>
                    <a:cubicBezTo>
                      <a:pt x="255" y="88"/>
                      <a:pt x="333" y="68"/>
                      <a:pt x="390" y="60"/>
                    </a:cubicBezTo>
                    <a:cubicBezTo>
                      <a:pt x="447" y="52"/>
                      <a:pt x="485" y="32"/>
                      <a:pt x="530" y="30"/>
                    </a:cubicBezTo>
                    <a:cubicBezTo>
                      <a:pt x="575" y="28"/>
                      <a:pt x="603" y="50"/>
                      <a:pt x="660" y="50"/>
                    </a:cubicBezTo>
                    <a:cubicBezTo>
                      <a:pt x="717" y="50"/>
                      <a:pt x="780" y="38"/>
                      <a:pt x="870" y="30"/>
                    </a:cubicBezTo>
                    <a:cubicBezTo>
                      <a:pt x="960" y="22"/>
                      <a:pt x="1118" y="0"/>
                      <a:pt x="1200" y="0"/>
                    </a:cubicBezTo>
                    <a:cubicBezTo>
                      <a:pt x="1282" y="0"/>
                      <a:pt x="1312" y="15"/>
                      <a:pt x="1360" y="30"/>
                    </a:cubicBezTo>
                    <a:cubicBezTo>
                      <a:pt x="1408" y="45"/>
                      <a:pt x="1437" y="80"/>
                      <a:pt x="1490" y="90"/>
                    </a:cubicBezTo>
                    <a:cubicBezTo>
                      <a:pt x="1543" y="100"/>
                      <a:pt x="1627" y="92"/>
                      <a:pt x="1680" y="90"/>
                    </a:cubicBezTo>
                    <a:cubicBezTo>
                      <a:pt x="1733" y="88"/>
                      <a:pt x="1758" y="77"/>
                      <a:pt x="1810" y="80"/>
                    </a:cubicBezTo>
                    <a:cubicBezTo>
                      <a:pt x="1862" y="83"/>
                      <a:pt x="1947" y="102"/>
                      <a:pt x="1990" y="110"/>
                    </a:cubicBezTo>
                    <a:cubicBezTo>
                      <a:pt x="2033" y="118"/>
                      <a:pt x="2007" y="137"/>
                      <a:pt x="2070" y="130"/>
                    </a:cubicBezTo>
                    <a:cubicBezTo>
                      <a:pt x="2133" y="123"/>
                      <a:pt x="2303" y="83"/>
                      <a:pt x="2370" y="70"/>
                    </a:cubicBezTo>
                    <a:cubicBezTo>
                      <a:pt x="2437" y="57"/>
                      <a:pt x="2442" y="52"/>
                      <a:pt x="2470" y="50"/>
                    </a:cubicBezTo>
                    <a:cubicBezTo>
                      <a:pt x="2498" y="48"/>
                      <a:pt x="2500" y="67"/>
                      <a:pt x="2540" y="60"/>
                    </a:cubicBezTo>
                    <a:cubicBezTo>
                      <a:pt x="2580" y="53"/>
                      <a:pt x="2667" y="17"/>
                      <a:pt x="2710" y="10"/>
                    </a:cubicBezTo>
                    <a:cubicBezTo>
                      <a:pt x="2753" y="3"/>
                      <a:pt x="2760" y="22"/>
                      <a:pt x="2800" y="20"/>
                    </a:cubicBezTo>
                    <a:cubicBezTo>
                      <a:pt x="2840" y="18"/>
                      <a:pt x="2917" y="3"/>
                      <a:pt x="295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882880" y="5213520"/>
                <a:ext cx="0" cy="164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46320" y="633276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066320" y="2895480"/>
            <a:ext cx="71629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ahoma"/>
              </a:rPr>
              <a:t>Точност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это степень соответствия действительных значений параметров готовой детали, параметрам, заданным чертежом или техническим условиям на изготовление детали (расчётным параметрам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Tahoma"/>
              </a:rPr>
              <a:t>3 Основные понятия</a:t>
            </a:r>
            <a:br>
              <a:rPr sz="3600"/>
            </a:br>
            <a:r>
              <a:rPr b="1" i="1" lang="en-US" sz="3600" spc="-1" strike="noStrike">
                <a:solidFill>
                  <a:srgbClr val="006666"/>
                </a:solidFill>
                <a:latin typeface="Tahoma"/>
              </a:rPr>
              <a:t>о точ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Точность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геометрических параметр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Точность геометрических параметров является комплексным понятием, включающим в себя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точность размеров элементов деталей;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ff"/>
                </a:solidFill>
                <a:latin typeface="Tahoma"/>
              </a:rPr>
              <a:t>Пример:</a:t>
            </a:r>
            <a:r>
              <a:rPr b="0" i="1" lang="ru-RU" sz="25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диаметр цилиндрической поверхности, глубина отверстия, ширина паза, угол конуса и т.д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точность геометрических форм поверхностей элементов деталей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ff"/>
                </a:solidFill>
                <a:latin typeface="Tahoma"/>
              </a:rPr>
              <a:t>Пример:</a:t>
            </a:r>
            <a:r>
              <a:rPr b="0" i="1" lang="ru-RU" sz="25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цилиндрическая поверхность может иметь конусность, бочкообразность в продольном сечении или овальность в поперечном сечении; плоскость может быть вогнутой или выпуклой и т.п.)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Точность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геометрических параметр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837720" y="25146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точность взаимного расположения элементов деталей;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ff"/>
                </a:solidFill>
                <a:latin typeface="Tahoma"/>
              </a:rPr>
              <a:t>Пример:</a:t>
            </a:r>
            <a:r>
              <a:rPr b="0" i="1" lang="ru-RU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непараллельность, неперпендикулярность, радиальное или торцовое биение поверхностей и т.д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шероховатость поверхностей деталей (микрогеометрия);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волнистость поверхностей деталей (макрогеометрия)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8080" y="23713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ahoma"/>
              </a:rPr>
              <a:t>Погрешност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является мерой точ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зависимости от причины возникновения различают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истематические погрешност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лучайные погрешност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рубые погрешности (промахи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Погрешность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геометрических параметр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Погрешность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геометрических параметр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37720" y="2295360"/>
            <a:ext cx="800100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ahoma"/>
              </a:rPr>
              <a:t>Систематические погрешности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погрешности, постоянные по величине или закономерно изменяющиеся в зависимости от одного или нескольких случайных фактор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Пример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грешность за счёт износа резца – систематическая закономерно меняющаяся; погрешность показаний часового механизма– постоянная по величине (часы спешат или отстают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Погрешность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геометрических параметр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837720" y="2523960"/>
            <a:ext cx="8001000" cy="28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целях исключения систематической погрешности вводится </a:t>
            </a:r>
            <a:r>
              <a:rPr b="1" i="1" lang="en-US" sz="2800" spc="-1" strike="noStrike">
                <a:solidFill>
                  <a:srgbClr val="cc3300"/>
                </a:solidFill>
                <a:latin typeface="Tahoma"/>
              </a:rPr>
              <a:t>поправк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значение величины, одноимённой с измеряемой, прибавляемое к полученному при измерениях значени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838080" y="23713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ahoma"/>
              </a:rPr>
              <a:t>Случайные погрешности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погрешности, определяющиеся факторами, носящими случайный характер; имеющие различные числовые знач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Пример: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зоры в подвижных соединениях, размеры деталей при обработке, результаты повторных измерений одной и той же величин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Погрешность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геометрических параметр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Погрешность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геометрических параметр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837720" y="2295000"/>
            <a:ext cx="800100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ahoma"/>
              </a:rPr>
              <a:t>Грубые погрешности (промахи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погрешности, существенно превышающие ожидаемую погрешность при данных условиях.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Эти погрешности могут быть обнаружены при повторных измерениях, они не принимаются во внимание. Результаты измерений, содержащие грубые погрешности, исключают как недостоверные (критерии «трёх сигм», Романовского, Шарлье, вариационный критерий Диксона и др.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837720" y="2295000"/>
            <a:ext cx="800100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ля оценки погрешностей геометрических параметров пользуются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методами теории вероятностей и математической статистик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ависимость между числовыми значениями случайной величины и вероятностью их появления устанавливается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законом распределени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вероятностей случайных величи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58240" y="629640"/>
            <a:ext cx="7350840" cy="13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Tahoma"/>
              </a:rPr>
              <a:t>3 Анализ случайных погрешностей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849240" y="3659040"/>
                <a:ext cx="391644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ероятност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5996160" y="3624120"/>
                <a:ext cx="28317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частот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763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Схема расположения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полей допусков вала и отверст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9280" y="2171880"/>
          <a:ext cx="8840880" cy="39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171880"/>
                    <a:ext cx="8840880" cy="39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наиболее обобщённой форме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закон распределения описываетс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с помощью интегральной функции распределения или дифференциальной функцией распредел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853560" y="701280"/>
            <a:ext cx="7360200" cy="12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Анализ случайных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погрешностей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761760" y="236232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ahoma"/>
              </a:rPr>
              <a:t>Интегральная функция распределения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(функция распределения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это функция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яющая вероятность того, что случайная величина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мет значение меньше данного значения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F(x)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=Р(Х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&lt;x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F(x)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чём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=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роятность того, что значение случайной функции попадёт в интервал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(а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равна разности значений интегральной функции на концах интервал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Р(а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F(b)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853560" y="701280"/>
            <a:ext cx="7360200" cy="12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Анализ случайных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погрешностей</a:t>
            </a: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5400000">
            <a:off x="4647960" y="4038480"/>
            <a:ext cx="533160" cy="381240"/>
          </a:xfrm>
          <a:custGeom>
            <a:avLst/>
            <a:gdLst>
              <a:gd name="textAreaLeft" fmla="*/ 83160 w 533160"/>
              <a:gd name="textAreaRight" fmla="*/ 466560 w 53316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761760" y="23623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ahoma"/>
              </a:rPr>
              <a:t>Дифференциальная функция распределения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(плотность вероятности)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f(x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о первая производная от функции распредел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ahoma"/>
              </a:rPr>
              <a:t>Кривая распределени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график функции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роятность попадания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заданный интервал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(а,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вна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853560" y="701280"/>
            <a:ext cx="7360200" cy="12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Анализ случайных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погрешностей</a:t>
            </a: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905120" y="5638680"/>
                <a:ext cx="647676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еометрически эта вероятность равна площади, заключённой под кривой распределения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ежду абсциссами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Площадь под всей кривой рав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единиц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53560" y="701280"/>
            <a:ext cx="7360200" cy="12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Анализ случайных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погрешностей</a:t>
            </a: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133720" y="4038480"/>
            <a:ext cx="5486400" cy="2819160"/>
            <a:chOff x="2133720" y="4038480"/>
            <a:chExt cx="5486400" cy="2819160"/>
          </a:xfrm>
        </p:grpSpPr>
        <p:grpSp>
          <p:nvGrpSpPr>
            <p:cNvPr id="313" name=""/>
            <p:cNvGrpSpPr/>
            <p:nvPr/>
          </p:nvGrpSpPr>
          <p:grpSpPr>
            <a:xfrm>
              <a:off x="2133720" y="4038480"/>
              <a:ext cx="5257440" cy="2819160"/>
              <a:chOff x="2133720" y="4038480"/>
              <a:chExt cx="5257440" cy="2819160"/>
            </a:xfrm>
          </p:grpSpPr>
          <p:sp>
            <p:nvSpPr>
              <p:cNvPr id="314" name=""/>
              <p:cNvSpPr/>
              <p:nvPr/>
            </p:nvSpPr>
            <p:spPr>
              <a:xfrm flipH="1">
                <a:off x="4605120" y="4655160"/>
                <a:ext cx="1966320" cy="1695960"/>
              </a:xfrm>
              <a:custGeom>
                <a:avLst/>
                <a:gdLst/>
                <a:ahLst/>
                <a:rect l="l" t="t" r="r" b="b"/>
                <a:pathLst>
                  <a:path w="1440" h="1200">
                    <a:moveTo>
                      <a:pt x="0" y="1200"/>
                    </a:moveTo>
                    <a:cubicBezTo>
                      <a:pt x="146" y="1156"/>
                      <a:pt x="293" y="1112"/>
                      <a:pt x="420" y="1020"/>
                    </a:cubicBezTo>
                    <a:cubicBezTo>
                      <a:pt x="547" y="928"/>
                      <a:pt x="650" y="792"/>
                      <a:pt x="765" y="645"/>
                    </a:cubicBezTo>
                    <a:cubicBezTo>
                      <a:pt x="880" y="498"/>
                      <a:pt x="997" y="243"/>
                      <a:pt x="1110" y="135"/>
                    </a:cubicBezTo>
                    <a:cubicBezTo>
                      <a:pt x="1223" y="27"/>
                      <a:pt x="1375" y="20"/>
                      <a:pt x="144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18280" y="4655160"/>
                <a:ext cx="1966320" cy="1695960"/>
              </a:xfrm>
              <a:custGeom>
                <a:avLst/>
                <a:gdLst/>
                <a:ahLst/>
                <a:rect l="l" t="t" r="r" b="b"/>
                <a:pathLst>
                  <a:path w="1440" h="1200">
                    <a:moveTo>
                      <a:pt x="0" y="1200"/>
                    </a:moveTo>
                    <a:cubicBezTo>
                      <a:pt x="146" y="1156"/>
                      <a:pt x="293" y="1112"/>
                      <a:pt x="420" y="1020"/>
                    </a:cubicBezTo>
                    <a:cubicBezTo>
                      <a:pt x="547" y="928"/>
                      <a:pt x="650" y="792"/>
                      <a:pt x="765" y="645"/>
                    </a:cubicBezTo>
                    <a:cubicBezTo>
                      <a:pt x="880" y="498"/>
                      <a:pt x="997" y="243"/>
                      <a:pt x="1110" y="135"/>
                    </a:cubicBezTo>
                    <a:cubicBezTo>
                      <a:pt x="1223" y="27"/>
                      <a:pt x="1375" y="20"/>
                      <a:pt x="144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33720" y="6355440"/>
                <a:ext cx="49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4594320" y="4184640"/>
                <a:ext cx="0" cy="2297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376080" y="5558040"/>
                <a:ext cx="0" cy="9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301720" y="5007240"/>
                <a:ext cx="0" cy="147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198600" y="6431760"/>
                <a:ext cx="327960" cy="38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51600" y="6431760"/>
                <a:ext cx="327600" cy="42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031640" y="4038480"/>
                <a:ext cx="518760" cy="42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f(x)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063560" y="6343560"/>
                <a:ext cx="327600" cy="42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4100040" y="4699080"/>
                <a:ext cx="668880" cy="17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3949920" y="4816440"/>
                <a:ext cx="1078560" cy="29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3799440" y="4992840"/>
                <a:ext cx="1352160" cy="38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3567240" y="5183640"/>
                <a:ext cx="1706760" cy="48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3390120" y="5403960"/>
                <a:ext cx="1911600" cy="55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3375720" y="5653800"/>
                <a:ext cx="1925640" cy="55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3731400" y="5903280"/>
                <a:ext cx="1570320" cy="45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4482360" y="6123600"/>
                <a:ext cx="819360" cy="23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5562720" y="5029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[f(x)]=1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562720" y="5638680"/>
              <a:ext cx="4572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аксимально приближённым к истинному значению является </a:t>
            </a:r>
            <a:r>
              <a:rPr b="1" i="1" lang="en-US" sz="2800" spc="-1" strike="noStrike">
                <a:solidFill>
                  <a:srgbClr val="cc3300"/>
                </a:solidFill>
                <a:latin typeface="Tahoma"/>
              </a:rPr>
              <a:t>среднее арифметическое значени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результатов измерений (центр группирования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657600" y="4430880"/>
                <a:ext cx="243828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 txBox="1"/>
          <p:nvPr/>
        </p:nvSpPr>
        <p:spPr>
          <a:xfrm>
            <a:off x="853560" y="701280"/>
            <a:ext cx="7360200" cy="12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Анализ случайных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погрешностей</a:t>
            </a: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отклонение случайной величины от её среднего значени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грешность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ahoma"/>
              </a:rPr>
              <a:t>Дисперси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характеризует рассеяние значения измеряемой физической величины (при погрешности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носительно её среднего значения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990720" y="2362320"/>
                <a:ext cx="16761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208320" y="5257800"/>
                <a:ext cx="371808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 txBox="1"/>
          <p:nvPr/>
        </p:nvSpPr>
        <p:spPr>
          <a:xfrm>
            <a:off x="853560" y="701280"/>
            <a:ext cx="7360200" cy="12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Анализ случайных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погрешностей</a:t>
            </a: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201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ahoma"/>
              </a:rPr>
              <a:t>Среднее квадратическое отклонение  (СКО)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(средняя квадратическая погрешность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характеристика рассеяния результатов измерений одной и той же величины вследствие влияния случайных погрешностей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933560" y="5030640"/>
                <a:ext cx="527688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 txBox="1"/>
          <p:nvPr/>
        </p:nvSpPr>
        <p:spPr>
          <a:xfrm>
            <a:off x="853560" y="701280"/>
            <a:ext cx="7360200" cy="12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Анализ случайных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погрешностей</a:t>
            </a: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914400" y="29714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ид кривой распределения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закон распределени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случайной величины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зависи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от природы и условий образования этой величин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853560" y="701280"/>
            <a:ext cx="7360200" cy="12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Анализ случайных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погрешностей</a:t>
            </a: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966960"/>
            <a:ext cx="7924680" cy="5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Поле допус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c3300"/>
                </a:solidFill>
                <a:latin typeface="Tahoma"/>
              </a:rPr>
              <a:t>Поле допуска </a:t>
            </a:r>
            <a:r>
              <a:rPr b="0" lang="ru-RU" sz="2500" spc="-1" strike="noStrike">
                <a:solidFill>
                  <a:srgbClr val="003366"/>
                </a:solidFill>
                <a:latin typeface="Tahoma"/>
              </a:rPr>
              <a:t>– 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интервал размеров, ограниченный предельными размерами, или поле, заключённое между верхним и нижним отклонениями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c3300"/>
                </a:solidFill>
                <a:latin typeface="Tahoma"/>
              </a:rPr>
              <a:t>Нулевая линия </a:t>
            </a:r>
            <a:r>
              <a:rPr b="0" lang="ru-RU" sz="2500" spc="-1" strike="noStrike">
                <a:solidFill>
                  <a:srgbClr val="003366"/>
                </a:solidFill>
                <a:latin typeface="Tahoma"/>
              </a:rPr>
              <a:t>– 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линия, соответствующая номинальному размеру, от которой откладываются предельные отклонения размеров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Tahoma"/>
              </a:rPr>
              <a:t>Положительные отклонения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от номинального размера откладываются вверх, а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ahoma"/>
              </a:rPr>
              <a:t>отрицательные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– вниз, а их величина проставляется в микрометрах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Посадка с зазором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96080" y="2057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5105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S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in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=D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in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-d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ax</a:t>
            </a:r>
            <a:r>
              <a:rPr b="1" lang="ru-RU" sz="2400" spc="-1" strike="noStrike">
                <a:solidFill>
                  <a:srgbClr val="006666"/>
                </a:solidFill>
                <a:latin typeface="Tahoma"/>
              </a:rPr>
              <a:t>=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EI-es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S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ax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=D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ax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-d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in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=ES-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S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=</a:t>
            </a:r>
            <a:r>
              <a:rPr b="1" lang="ru-RU" sz="2400" spc="-1" strike="noStrike">
                <a:solidFill>
                  <a:srgbClr val="006666"/>
                </a:solidFill>
                <a:latin typeface="Tahoma"/>
              </a:rPr>
              <a:t>(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S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ax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+S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in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)/2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S</a:t>
            </a:r>
            <a:r>
              <a:rPr b="1" lang="ru-RU" sz="2400" spc="-1" strike="noStrike" baseline="-25000">
                <a:solidFill>
                  <a:srgbClr val="006666"/>
                </a:solidFill>
                <a:latin typeface="Tahoma"/>
              </a:rPr>
              <a:t>д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=D</a:t>
            </a:r>
            <a:r>
              <a:rPr b="1" lang="ru-RU" sz="2400" spc="-1" strike="noStrike" baseline="-25000">
                <a:solidFill>
                  <a:srgbClr val="006666"/>
                </a:solidFill>
                <a:latin typeface="Tahoma"/>
              </a:rPr>
              <a:t>д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-d</a:t>
            </a:r>
            <a:r>
              <a:rPr b="1" lang="ru-RU" sz="2400" spc="-1" strike="noStrike" baseline="-25000">
                <a:solidFill>
                  <a:srgbClr val="006666"/>
                </a:solidFill>
                <a:latin typeface="Tahoma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S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=S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ax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-S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in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=T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D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+T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0" y="609480"/>
            <a:ext cx="9144000" cy="3996000"/>
            <a:chOff x="0" y="609480"/>
            <a:chExt cx="9144000" cy="3996000"/>
          </a:xfrm>
        </p:grpSpPr>
        <p:grpSp>
          <p:nvGrpSpPr>
            <p:cNvPr id="150" name=""/>
            <p:cNvGrpSpPr/>
            <p:nvPr/>
          </p:nvGrpSpPr>
          <p:grpSpPr>
            <a:xfrm>
              <a:off x="0" y="609480"/>
              <a:ext cx="9144000" cy="3996000"/>
              <a:chOff x="0" y="609480"/>
              <a:chExt cx="9144000" cy="399600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0" y="609480"/>
                <a:ext cx="9144000" cy="3996000"/>
                <a:chOff x="0" y="609480"/>
                <a:chExt cx="9144000" cy="3996000"/>
              </a:xfrm>
            </p:grpSpPr>
            <p:grpSp>
              <p:nvGrpSpPr>
                <p:cNvPr id="152" name=""/>
                <p:cNvGrpSpPr/>
                <p:nvPr/>
              </p:nvGrpSpPr>
              <p:grpSpPr>
                <a:xfrm>
                  <a:off x="0" y="609480"/>
                  <a:ext cx="9144000" cy="3996000"/>
                  <a:chOff x="0" y="609480"/>
                  <a:chExt cx="9144000" cy="3996000"/>
                </a:xfrm>
              </p:grpSpPr>
              <p:graphicFrame>
                <p:nvGraphicFramePr>
                  <p:cNvPr id="153" name=""/>
                  <p:cNvGraphicFramePr/>
                  <p:nvPr/>
                </p:nvGraphicFramePr>
                <p:xfrm>
                  <a:off x="0" y="609480"/>
                  <a:ext cx="9144000" cy="39960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154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609480"/>
                            <a:ext cx="9144000" cy="39960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155" name=""/>
                  <p:cNvSpPr/>
                  <p:nvPr/>
                </p:nvSpPr>
                <p:spPr>
                  <a:xfrm>
                    <a:off x="3733920" y="3733920"/>
                    <a:ext cx="609480" cy="45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"/>
                <p:cNvSpPr/>
                <p:nvPr/>
              </p:nvSpPr>
              <p:spPr>
                <a:xfrm>
                  <a:off x="8077320" y="4191120"/>
                  <a:ext cx="380880" cy="38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7391520" y="2209680"/>
                <a:ext cx="53316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915400" y="2057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96080" y="29718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8534520" y="2209680"/>
              <a:ext cx="304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3366"/>
                  </a:solidFill>
                  <a:latin typeface="Arial"/>
                </a:rPr>
                <a:t>min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915400" y="2819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Посадка с натягом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9528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N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ax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=d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ax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-D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in</a:t>
            </a:r>
            <a:r>
              <a:rPr b="1" lang="ru-RU" sz="2400" spc="-1" strike="noStrike">
                <a:solidFill>
                  <a:srgbClr val="006666"/>
                </a:solidFill>
                <a:latin typeface="Tahoma"/>
              </a:rPr>
              <a:t>=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es-EI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N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in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=d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in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-D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ax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=ei-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N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=</a:t>
            </a:r>
            <a:r>
              <a:rPr b="1" lang="ru-RU" sz="2400" spc="-1" strike="noStrike">
                <a:solidFill>
                  <a:srgbClr val="006666"/>
                </a:solidFill>
                <a:latin typeface="Tahoma"/>
              </a:rPr>
              <a:t>(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N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ax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+N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in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)/2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N</a:t>
            </a:r>
            <a:r>
              <a:rPr b="1" lang="ru-RU" sz="2400" spc="-1" strike="noStrike" baseline="-25000">
                <a:solidFill>
                  <a:srgbClr val="006666"/>
                </a:solidFill>
                <a:latin typeface="Tahoma"/>
              </a:rPr>
              <a:t>д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=d</a:t>
            </a:r>
            <a:r>
              <a:rPr b="1" lang="ru-RU" sz="2400" spc="-1" strike="noStrike" baseline="-25000">
                <a:solidFill>
                  <a:srgbClr val="006666"/>
                </a:solidFill>
                <a:latin typeface="Tahoma"/>
              </a:rPr>
              <a:t>д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-D</a:t>
            </a:r>
            <a:r>
              <a:rPr b="1" lang="ru-RU" sz="2400" spc="-1" strike="noStrike" baseline="-25000">
                <a:solidFill>
                  <a:srgbClr val="006666"/>
                </a:solidFill>
                <a:latin typeface="Tahoma"/>
              </a:rPr>
              <a:t>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=N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ax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-N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in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=T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d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+T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453960"/>
            <a:ext cx="9144000" cy="4346280"/>
            <a:chOff x="0" y="453960"/>
            <a:chExt cx="9144000" cy="4346280"/>
          </a:xfrm>
        </p:grpSpPr>
        <p:grpSp>
          <p:nvGrpSpPr>
            <p:cNvPr id="167" name=""/>
            <p:cNvGrpSpPr/>
            <p:nvPr/>
          </p:nvGrpSpPr>
          <p:grpSpPr>
            <a:xfrm>
              <a:off x="0" y="453960"/>
              <a:ext cx="9144000" cy="4346280"/>
              <a:chOff x="0" y="453960"/>
              <a:chExt cx="9144000" cy="4346280"/>
            </a:xfrm>
          </p:grpSpPr>
          <p:graphicFrame>
            <p:nvGraphicFramePr>
              <p:cNvPr id="168" name=""/>
              <p:cNvGraphicFramePr/>
              <p:nvPr/>
            </p:nvGraphicFramePr>
            <p:xfrm>
              <a:off x="0" y="453960"/>
              <a:ext cx="9144000" cy="4346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6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0" y="453960"/>
                        <a:ext cx="9144000" cy="4346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0" name=""/>
              <p:cNvSpPr/>
              <p:nvPr/>
            </p:nvSpPr>
            <p:spPr>
              <a:xfrm>
                <a:off x="2286000" y="4267080"/>
                <a:ext cx="45720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5867280" y="4343040"/>
              <a:ext cx="38124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Переходная посадк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457200"/>
            <a:ext cx="9067680" cy="4343400"/>
            <a:chOff x="0" y="457200"/>
            <a:chExt cx="9067680" cy="4343400"/>
          </a:xfrm>
        </p:grpSpPr>
        <p:grpSp>
          <p:nvGrpSpPr>
            <p:cNvPr id="176" name=""/>
            <p:cNvGrpSpPr/>
            <p:nvPr/>
          </p:nvGrpSpPr>
          <p:grpSpPr>
            <a:xfrm>
              <a:off x="0" y="457200"/>
              <a:ext cx="9067680" cy="4343400"/>
              <a:chOff x="0" y="457200"/>
              <a:chExt cx="9067680" cy="434340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0" y="457200"/>
                <a:ext cx="9067680" cy="4343400"/>
                <a:chOff x="0" y="457200"/>
                <a:chExt cx="9067680" cy="4343400"/>
              </a:xfrm>
            </p:grpSpPr>
            <p:pic>
              <p:nvPicPr>
                <p:cNvPr id="17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457200"/>
                  <a:ext cx="9067680" cy="433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9" name=""/>
                <p:cNvSpPr/>
                <p:nvPr/>
              </p:nvSpPr>
              <p:spPr>
                <a:xfrm>
                  <a:off x="2819520" y="4419720"/>
                  <a:ext cx="457200" cy="38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6705720" y="434340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7238880" y="2133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62120" y="44197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N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ax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=d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ax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-D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in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=-S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in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S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ax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=D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ax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-d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in</a:t>
            </a:r>
            <a:r>
              <a:rPr b="1" lang="ru-RU" sz="2400" spc="-1" strike="noStrike">
                <a:solidFill>
                  <a:srgbClr val="006666"/>
                </a:solidFill>
                <a:latin typeface="Tahoma"/>
              </a:rPr>
              <a:t>=-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N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N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=</a:t>
            </a:r>
            <a:r>
              <a:rPr b="1" lang="ru-RU" sz="2400" spc="-1" strike="noStrike">
                <a:solidFill>
                  <a:srgbClr val="006666"/>
                </a:solidFill>
                <a:latin typeface="Tahoma"/>
              </a:rPr>
              <a:t>(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N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ax</a:t>
            </a:r>
            <a:r>
              <a:rPr b="1" lang="ru-RU" sz="2400" spc="-1" strike="noStrike">
                <a:solidFill>
                  <a:srgbClr val="006666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S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ax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)/2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S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=</a:t>
            </a:r>
            <a:r>
              <a:rPr b="1" lang="ru-RU" sz="2400" spc="-1" strike="noStrike">
                <a:solidFill>
                  <a:srgbClr val="006666"/>
                </a:solidFill>
                <a:latin typeface="Tahoma"/>
              </a:rPr>
              <a:t>(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S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ax</a:t>
            </a:r>
            <a:r>
              <a:rPr b="1" lang="ru-RU" sz="2400" spc="-1" strike="noStrike">
                <a:solidFill>
                  <a:srgbClr val="006666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N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ax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)/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N</a:t>
            </a:r>
            <a:r>
              <a:rPr b="1" lang="ru-RU" sz="2400" spc="-1" strike="noStrike" baseline="-25000">
                <a:solidFill>
                  <a:srgbClr val="006666"/>
                </a:solidFill>
                <a:latin typeface="Tahoma"/>
              </a:rPr>
              <a:t>д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=d</a:t>
            </a:r>
            <a:r>
              <a:rPr b="1" lang="ru-RU" sz="2400" spc="-1" strike="noStrike" baseline="-25000">
                <a:solidFill>
                  <a:srgbClr val="006666"/>
                </a:solidFill>
                <a:latin typeface="Tahoma"/>
              </a:rPr>
              <a:t>д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-D</a:t>
            </a:r>
            <a:r>
              <a:rPr b="1" lang="ru-RU" sz="2400" spc="-1" strike="noStrike" baseline="-25000">
                <a:solidFill>
                  <a:srgbClr val="006666"/>
                </a:solidFill>
                <a:latin typeface="Tahoma"/>
              </a:rPr>
              <a:t>д</a:t>
            </a:r>
            <a:r>
              <a:rPr b="1" lang="ru-RU" sz="2400" spc="-1" strike="noStrike" baseline="-25000">
                <a:solidFill>
                  <a:srgbClr val="006666"/>
                </a:solidFill>
                <a:latin typeface="Tahoma"/>
              </a:rPr>
              <a:t>	</a:t>
            </a:r>
            <a:r>
              <a:rPr b="1" lang="ru-RU" sz="2400" spc="-1" strike="noStrike" baseline="-25000">
                <a:solidFill>
                  <a:srgbClr val="006666"/>
                </a:solidFill>
                <a:latin typeface="Tahoma"/>
              </a:rPr>
              <a:t>	</a:t>
            </a:r>
            <a:r>
              <a:rPr b="1" lang="ru-RU" sz="2400" spc="-1" strike="noStrike" baseline="-25000">
                <a:solidFill>
                  <a:srgbClr val="006666"/>
                </a:solidFill>
                <a:latin typeface="Tahoma"/>
              </a:rPr>
              <a:t>	</a:t>
            </a:r>
            <a:r>
              <a:rPr b="1" lang="ru-RU" sz="2400" spc="-1" strike="noStrike" baseline="-25000">
                <a:solidFill>
                  <a:srgbClr val="0066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S</a:t>
            </a:r>
            <a:r>
              <a:rPr b="1" lang="ru-RU" sz="2400" spc="-1" strike="noStrike" baseline="-25000">
                <a:solidFill>
                  <a:srgbClr val="006666"/>
                </a:solidFill>
                <a:latin typeface="Tahoma"/>
              </a:rPr>
              <a:t>д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=D</a:t>
            </a:r>
            <a:r>
              <a:rPr b="1" lang="ru-RU" sz="2400" spc="-1" strike="noStrike" baseline="-25000">
                <a:solidFill>
                  <a:srgbClr val="006666"/>
                </a:solidFill>
                <a:latin typeface="Tahoma"/>
              </a:rPr>
              <a:t>д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-d</a:t>
            </a:r>
            <a:r>
              <a:rPr b="1" lang="ru-RU" sz="2400" spc="-1" strike="noStrike" baseline="-25000">
                <a:solidFill>
                  <a:srgbClr val="006666"/>
                </a:solidFill>
                <a:latin typeface="Tahoma"/>
              </a:rPr>
              <a:t>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=N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ax</a:t>
            </a:r>
            <a:r>
              <a:rPr b="1" lang="ru-RU" sz="2400" spc="-1" strike="noStrike">
                <a:solidFill>
                  <a:srgbClr val="006666"/>
                </a:solidFill>
                <a:latin typeface="Tahoma"/>
              </a:rPr>
              <a:t>+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S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max</a:t>
            </a:r>
            <a:r>
              <a:rPr b="1" lang="ru-RU" sz="2400" spc="-1" strike="noStrike">
                <a:solidFill>
                  <a:srgbClr val="006666"/>
                </a:solidFill>
                <a:latin typeface="Tahoma"/>
              </a:rPr>
              <a:t>=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d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+T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6666"/>
                </a:solidFill>
                <a:latin typeface="Tahoma"/>
              </a:rPr>
              <a:t>Схемы расположения полей допусков</a:t>
            </a:r>
            <a:br>
              <a:rPr sz="4000"/>
            </a:br>
            <a:r>
              <a:rPr b="0" i="1" lang="en-US" sz="4000" spc="-1" strike="noStrike">
                <a:solidFill>
                  <a:srgbClr val="006666"/>
                </a:solidFill>
                <a:latin typeface="Tahoma"/>
              </a:rPr>
              <a:t>вала и отверстия посад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0" r="0" b="17971"/>
          <a:stretch/>
        </p:blipFill>
        <p:spPr>
          <a:xfrm>
            <a:off x="0" y="2514600"/>
            <a:ext cx="9144000" cy="25146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09480" y="53341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с зазором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52880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с натягом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528804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переходны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7720" y="22860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Номинальный размер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предельные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отклонения указывают на чертежах в миллиметрах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Размер цифр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обозначающих отклонения, меньше размера цифр, обозначающих номинальный размер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Отклонения записывают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с правой стороны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со своим знаком (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±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), при этом верхнее отклонение располагают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выше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, а нижнее –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ниже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3245" t="57939" r="54874" b="34593"/>
          <a:stretch/>
        </p:blipFill>
        <p:spPr>
          <a:xfrm>
            <a:off x="2590920" y="5638680"/>
            <a:ext cx="4610160" cy="9302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838080" y="609480"/>
            <a:ext cx="8382240" cy="14479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Tahoma"/>
              </a:rPr>
              <a:t>2 Обозначение допусков</a:t>
            </a:r>
            <a:br>
              <a:rPr sz="3600"/>
            </a:br>
            <a:r>
              <a:rPr b="1" i="1" lang="en-US" sz="3600" spc="-1" strike="noStrike">
                <a:solidFill>
                  <a:srgbClr val="006666"/>
                </a:solidFill>
                <a:latin typeface="Tahoma"/>
              </a:rPr>
              <a:t>на чертежах (ГОСТ 2.109-73 и ГОСТ 2.307-68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Обозначение допусков</a:t>
            </a:r>
            <a:br>
              <a:rPr sz="3600"/>
            </a:br>
            <a:r>
              <a:rPr b="0" i="1" lang="en-US" sz="3600" spc="-1" strike="noStrike">
                <a:solidFill>
                  <a:srgbClr val="006666"/>
                </a:solidFill>
                <a:latin typeface="Tahoma"/>
              </a:rPr>
              <a:t>на чертежа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отклонени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равно нул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то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0" t="17297" r="54547" b="75806"/>
          <a:stretch/>
        </p:blipFill>
        <p:spPr>
          <a:xfrm>
            <a:off x="4267080" y="3129120"/>
            <a:ext cx="4419720" cy="757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rcRect l="5522" t="87120" r="60396" b="8357"/>
          <a:stretch/>
        </p:blipFill>
        <p:spPr>
          <a:xfrm>
            <a:off x="838080" y="3357720"/>
            <a:ext cx="3505320" cy="523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838080" y="37339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абсолютная величина верхнего и нижнего отклонений равна, то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971800" y="5369040"/>
            <a:ext cx="3581280" cy="726840"/>
            <a:chOff x="2971800" y="5369040"/>
            <a:chExt cx="3581280" cy="726840"/>
          </a:xfrm>
        </p:grpSpPr>
        <p:sp>
          <p:nvSpPr>
            <p:cNvPr id="198" name=""/>
            <p:cNvSpPr/>
            <p:nvPr/>
          </p:nvSpPr>
          <p:spPr>
            <a:xfrm>
              <a:off x="2971800" y="5369040"/>
              <a:ext cx="1440" cy="72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51640" y="5369040"/>
              <a:ext cx="1440" cy="72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71800" y="5816520"/>
              <a:ext cx="357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97240" y="5410080"/>
              <a:ext cx="1060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Ø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0±0,1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TR</cp:lastModifiedBy>
  <dcterms:modified xsi:type="dcterms:W3CDTF">2009-07-13T06:50:43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