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11C-FA2A-4C0D-A0C5-BD18E1FB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2AF-AC71-4942-95C8-E8617B78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77F0-92D2-456C-BB63-0DC10CC1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935E-5BF9-4AE1-B7EE-53295439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6D16-7018-4D93-BD22-9A7017BC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0DEC-5AB6-4EFD-A517-AE117DFA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1589-02C3-4C66-933B-11EF9973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43D4-6E77-4046-8F79-487B3001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876D-16ED-4FCA-90EA-9638D6D2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7BBF-E306-4BE5-8364-6E859CC4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6533-4D0F-47B2-94AC-D4F60F5A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105A-025D-449F-B1C2-3388D467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3AC6-442D-4788-958B-CB2271AB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9861-E4C1-413D-A773-6AB4CD63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9B0F-8D70-4DAF-B556-5C6080AC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95AF-1D4B-4F5E-98C1-EE7925C1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BC53-EB81-44B5-BCD9-0985CC55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31B3-ADEF-49A0-B3B5-98BE7781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D9A-EE5C-459A-9D82-F821DC16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2B9F-5A68-46BF-B6D4-C7FDD799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CEC-E8FE-4815-81E2-8CFD9FDE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6DD6-3AED-4AED-8C3C-5F7861DA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7FA-2D54-4FC0-B2DF-5CD8BBB8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9E60-78E6-4C3C-AF45-754A6356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D959-71E0-4EEE-B67A-7A17E660B2D6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DC7B-176F-445C-AE99-68C74E198332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EB5C-00C9-4FFD-B101-E100433D616B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Система допусков и посадок для подшипников кач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958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ГОСТ 25256-82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rcRect l="1837" t="2112" r="55053" b="11746"/>
          <a:stretch/>
        </p:blipFill>
        <p:spPr>
          <a:xfrm>
            <a:off x="838080" y="2538360"/>
            <a:ext cx="4953240" cy="431964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6"/>
          <p:cNvSpPr/>
          <p:nvPr/>
        </p:nvSpPr>
        <p:spPr>
          <a:xfrm>
            <a:off x="39956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5"/>
              <p:cNvSpPr txBox="1"/>
              <p:nvPr/>
            </p:nvSpPr>
            <p:spPr>
              <a:xfrm>
                <a:off x="6172200" y="2895480"/>
                <a:ext cx="27432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6" name="Rectangle 8"/>
          <p:cNvSpPr/>
          <p:nvPr/>
        </p:nvSpPr>
        <p:spPr>
          <a:xfrm>
            <a:off x="39956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40384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9"/>
              <p:cNvSpPr txBox="1"/>
              <p:nvPr/>
            </p:nvSpPr>
            <p:spPr>
              <a:xfrm>
                <a:off x="6172200" y="4495680"/>
                <a:ext cx="266688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Номер слайда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D21D-8A19-4E38-8D7B-C862597DE9A4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Система допусков и посадок для подшипников кач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24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иркуляционно нагруженные кольца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лжны иметь неподвижную посадку, которая назначается в зависимости от величины и интенсивности нагрузки Р</a:t>
            </a:r>
            <a:r>
              <a:rPr b="0" lang="ru-RU" sz="32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г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на посадочной поверхности кольца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41101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4"/>
              <p:cNvSpPr txBox="1"/>
              <p:nvPr/>
            </p:nvSpPr>
            <p:spPr>
              <a:xfrm>
                <a:off x="2438280" y="4572000"/>
                <a:ext cx="3962520" cy="17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омер слайда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B1C3-A765-4375-88AB-8317CCD91726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Система допусков и посадок для подшипников кач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30000">
                <a:solidFill>
                  <a:srgbClr val="006600"/>
                </a:solidFill>
                <a:latin typeface="Times New Roman"/>
                <a:ea typeface="Times New Roman"/>
              </a:rPr>
              <a:t>r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— радиальная нагрузка на подшипник, кН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— рабочая ширина посадочного места, м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k</a:t>
            </a:r>
            <a:r>
              <a:rPr b="1" lang="ru-RU" sz="2800" spc="-1" strike="noStrike" baseline="-30000">
                <a:solidFill>
                  <a:srgbClr val="0066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— динамический коэффициент посадки (при нагрузке с умеренными толчками и вибрациями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</a:t>
            </a:r>
            <a:r>
              <a:rPr b="0" lang="ru-RU" sz="28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 1,0; при сильных ударах и вибрациях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</a:t>
            </a:r>
            <a:r>
              <a:rPr b="0" lang="ru-RU" sz="28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 1,8);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k</a:t>
            </a:r>
            <a:r>
              <a:rPr b="1" lang="ru-RU" sz="2800" spc="-1" strike="noStrike" baseline="-30000">
                <a:solidFill>
                  <a:srgbClr val="0066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— коэффициент, учитывающий снижение посадочного натяга (при полом вале или тонкостенном корпусе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</a:t>
            </a:r>
            <a:r>
              <a:rPr b="0" lang="ru-RU" sz="28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&gt; 1, при сплошном вале и толстостенном корпусе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</a:t>
            </a:r>
            <a:r>
              <a:rPr b="0" lang="ru-RU" sz="28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 1)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2DB5-3699-4915-A35F-45D254476D22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Система допусков и посадок для подшипников кач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k</a:t>
            </a:r>
            <a:r>
              <a:rPr b="0" lang="ru-RU" sz="2800" spc="-1" strike="noStrike" baseline="-30000">
                <a:solidFill>
                  <a:srgbClr val="0066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— коэффициент неравномерности распределения радиальной нагрузки (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r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 между рядами роликов в двухрядных конических роликоподшипниках или между сдвоенными шарикоподшипниками при наличии осевой силы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на опору. Для радиальных и радиально-упорных подшипников при расположении тел качения в один ряд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</a:t>
            </a:r>
            <a:r>
              <a:rPr b="0" lang="ru-RU" sz="28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 1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96A4-5800-449B-9B76-589B294B0F30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Система допусков и посадок для подшипников кач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лебательно нагруженные кольца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шипников устанавливаются в корпус с основными отклонениями К и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s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а на вал — с отклонениями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s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Номер слайда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D022-96B8-4154-9B16-F9D18E0F2AA5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Система допусков и посадок для подшипников кач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ОСТ 3189-89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324324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rcRect l="0" t="0" r="0" b="8120"/>
          <a:stretch/>
        </p:blipFill>
        <p:spPr>
          <a:xfrm>
            <a:off x="914400" y="2590920"/>
            <a:ext cx="784872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Номер слайда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DDDF-C02F-47F6-BF28-5F6827C309F5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Система допусков и посадок для подшипников кач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шипник 3182120 ГОСТ 7634-7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шипник роликов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ый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двухрядн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ый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с короткими цилиндрическими роликами типа 182000 (с коническим отверстием внутреннего кольца с бортами на внутреннем кольце), серии диаметров 1, серии ширин 3 с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20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мм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 150 мм, В = 37 мм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Номер слайда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05F1-F75D-4519-BE13-1C7B5317613F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Система допусков и посадок для подшипников кач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770580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Номер слайда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9FCD-2692-4D00-8F0C-370A74D5082E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Система допусков и посадок для подшипников кач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9930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Номер слайда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F5D7-A0CF-47DD-B058-A0FB65FFB27D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"/>
          <a:srcRect l="1958" t="3020" r="3403" b="0"/>
          <a:stretch/>
        </p:blipFill>
        <p:spPr>
          <a:xfrm>
            <a:off x="5076720" y="2276640"/>
            <a:ext cx="3527640" cy="458136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Система допусков и посадок для подшипников кач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3" name="Picture 4" descr=""/>
          <p:cNvPicPr/>
          <p:nvPr/>
        </p:nvPicPr>
        <p:blipFill>
          <a:blip r:embed="rId2"/>
          <a:srcRect l="4266" t="0" r="2249" b="2520"/>
          <a:stretch/>
        </p:blipFill>
        <p:spPr>
          <a:xfrm>
            <a:off x="971640" y="2249640"/>
            <a:ext cx="316872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Номер слайда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AF23-0AEB-465B-BFE4-DDF29D63C812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Система допусков и посадок для подшипников кач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2843280" y="2133720"/>
            <a:ext cx="3103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4641-2B76-46BC-A425-BE954057CC21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Система допусков и посадок для подшипников кач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95816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ОСТ 520-89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820872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Номер слайда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38D6-C74B-4054-B142-9BAA6CC12EEB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Система допусков и посадок для подшипников кач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2819520"/>
            <a:ext cx="79581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тегория 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включает классы точности 5, 4, 2, Т и дополнительно регламентирует: момент трения, угол контакта, осевое и радиальное биение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Номер слайда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31D9-1BDC-42E6-BD1B-576DD86030FE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Система допусков и посадок для подшипников кач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2742840"/>
            <a:ext cx="7958160" cy="31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тегория В</a:t>
            </a:r>
            <a:r>
              <a:rPr b="0" i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ключает классы точности 0, 6Х, 6, 5 с дополнительными требованиями по моменту трения; углу контакта; осевому и радиальному биению, соответствующему следующему более точному классу точности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Номер слайда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27C7-86F0-4F45-9C38-9792E645D84F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Система допусков и посадок для подшипников кач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958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тегория С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включает классы точности 8, 7, 0, 6, к которым не предъявляются требования по уровню вибрации, моменту трения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ласс точности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подшипника указывают перед обозначением типа (номера) подшипника, например, 4 – 205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Номер слайда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8335-7BAA-4A2B-9A57-B5F8898A386D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Система допусков и посадок для подшипников кач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762120" y="1905120"/>
            <a:ext cx="44193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 </a:t>
            </a:r>
            <a:r>
              <a:rPr b="1" i="1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стном нагружении</a:t>
            </a: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кольцо воспринимает постоянную по направлению результирующую радиальную нагрузку 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r</a:t>
            </a: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лишь ограниченным участком окружности дорожки качения и передает ее соответствующему ограниченному участку посадочной поверхности вала или корпуса. 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12408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Picture 6" descr=""/>
          <p:cNvPicPr/>
          <p:nvPr/>
        </p:nvPicPr>
        <p:blipFill>
          <a:blip r:embed="rId1"/>
          <a:srcRect l="5713" t="16535" r="66094" b="17750"/>
          <a:stretch/>
        </p:blipFill>
        <p:spPr>
          <a:xfrm>
            <a:off x="5181480" y="2362320"/>
            <a:ext cx="3786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Номер слайда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0F0A-41BF-47C1-9303-6203AEB56D18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Система допусков и посадок для подшипников кач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95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иркуляционном нагружении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кольцо воспринимает результирующую радиальную нагрузку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r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последовательно всей окружностью дорожки качения и передает ее всей посадочной поверхности вала или корпуса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312408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rcRect l="34155" t="11080" r="36594" b="19785"/>
          <a:stretch/>
        </p:blipFill>
        <p:spPr>
          <a:xfrm>
            <a:off x="4800600" y="2133720"/>
            <a:ext cx="42433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Номер слайда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7024-DA64-4AC6-90C6-62DAED2013A6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Система допусков и посадок для подшипников кач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5033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 </a:t>
            </a:r>
            <a:r>
              <a:rPr b="1" i="1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лебательном нагружении</a:t>
            </a: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не вращающееся кольцо воспринимает равнодействующую 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r</a:t>
            </a:r>
            <a:r>
              <a:rPr b="0" lang="ru-RU" sz="26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+</a:t>
            </a:r>
            <a:r>
              <a:rPr b="0" lang="en-US" sz="26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C</a:t>
            </a: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двух радиальных нагрузок (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r</a:t>
            </a: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— постоянна по направлению, 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c </a:t>
            </a: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ращается, причем 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r</a:t>
            </a: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&gt; 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c</a:t>
            </a: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 ограниченным участком окружности дорожки качения и передает ее соответствующему ограниченному участку посадочной поверхности вала или корпуса. 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12408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rcRect l="61439" t="6473" r="8576" b="12493"/>
          <a:stretch/>
        </p:blipFill>
        <p:spPr>
          <a:xfrm>
            <a:off x="5624640" y="2286000"/>
            <a:ext cx="3519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AC14-D213-46EE-AFDE-DF600A763634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Система допусков и посадок для подшипников кач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12400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8458200" cy="47354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6"/>
          <p:cNvSpPr/>
          <p:nvPr/>
        </p:nvSpPr>
        <p:spPr>
          <a:xfrm>
            <a:off x="380880" y="1981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ОСТ 3325-85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4:56:58Z</dcterms:created>
  <dc:creator>USER</dc:creator>
  <dc:description/>
  <dc:language>en-US</dc:language>
  <cp:lastModifiedBy>XTreme</cp:lastModifiedBy>
  <dcterms:modified xsi:type="dcterms:W3CDTF">2009-04-10T05:23:57Z</dcterms:modified>
  <cp:revision>10</cp:revision>
  <dc:subject/>
  <dc:title>Система допусков и посадок для подшипников качения</dc:title>
</cp:coreProperties>
</file>